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714A-9765-414E-BF6B-8528E477D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F5B1-C97D-4A79-83E6-443C056AC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4296-56E6-4F37-A7FB-D60EE9262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7BAD-7764-41A4-A0EB-24E241B3A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A958-9E3D-4EC5-9FBA-B03C4044A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666C-6567-4B59-8435-FE58E48C5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75B0-B8B8-4005-8E3F-2A3979CF4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383B-1BE8-4E0A-8270-C56E31B61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63A3-89F7-46D8-8822-B4D89E6C1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8F7F-F625-4A71-95E4-42D3078D3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AC20-21F4-4C78-BF1B-FCAD278B6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377C-5F77-45BF-96E4-2ED0CF964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917B-8ABC-442C-BB04-9798A67FD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C71F-8740-476E-8F71-B5F644D42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C7C0-7449-47B3-ACE4-EC8537CA7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9344-5B96-4E13-A75F-656B0DD4E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D4A9-488E-436F-B887-F0AA43465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BF88-18CE-4478-A5BC-2C7EDD1A6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F92D-9A61-4FA7-BADA-25FDB5D7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EC3A-2FFB-4224-B61F-65C507BFF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F6FA-510E-45BA-A236-235BF957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C33D-ED0E-4263-B1F2-7FDCD480D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7092-2E2E-4CDB-8BEB-80AEEBC02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6248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WAS NAMED BY THE CMA AS "ENTERTAINER OF THE YEAR" IN 2004, 2006, 2007, AND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MANAGE A SUCCESSFUL U.S. PRESIDENTIAL CAMPA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EN  CARP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0400" y="762120"/>
            <a:ext cx="7963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IN A 70'S DUO WITH HER BROTHER RICH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IE  COU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HOSTED "TODAY", WAS ANCHOR OF THE "CBS EVENING NEWS", AND WAS A CORRESPONDENT FOR "60 MINUT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COB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NIRV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COU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WASHINGTON REDSKINS FOR 3 YEARS BEFORE JOINING THE MINNESOTA VIK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"AMERICAN IDOL" AND HAS HAD OVER 100 #1 H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CLIJ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BELGIAN TENNIS PLAYER USED TO BE THE TOP- RANKED PLAYER IN BOTH SINGLES AND DOU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CA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        IN THE NIGHT" AND "BETTE DAVIS EY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IN A 70'S DUO WITH HER BROTHER RICH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TY  CARLIS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ACTRESS WAS A REGULAR PANELIST ON "TO TELL THE TRUTH" 1956-19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NY  CHES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WAS NAMED BY THE CMA AS "ENTERTAINER OF THE YEAR" IN 2004, 2006, 2007, AND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651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ANNE  CON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MANAGE A SUCCESSFUL U.S. PRESIDENTIAL CAMPA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HOSTED "TODAY", WAS ANCHOR OF THE "CBS EVENING NEWS", AND WAS A CORRESPONDENT FOR "60 MINUT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NIRV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WASHINGTON REDSKINS FOR 3 YEARS BEFORE JOINING THE MINNESOTA VIK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"AMERICAN IDOL" AND HAS HAD OVER 100 #1 H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BELGIAN TENNIS PLAYER USED TO BE THE TOP- RANKED PLAYER IN BOTH SINGLES AND DOUB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       IN THE NIGHT" AND "BETTE DAVIS EY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ACTRESS WAS A REGULAR PANELIST ON "TO TELL THE TRUTH" 1956-19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3:30:21Z</dcterms:created>
  <dc:creator>Jennifer Budzinski</dc:creator>
  <dc:description/>
  <dc:language>en-US</dc:language>
  <cp:lastModifiedBy>Erich Friedman</cp:lastModifiedBy>
  <dcterms:modified xsi:type="dcterms:W3CDTF">2020-08-25T16:56:00Z</dcterms:modified>
  <cp:revision>347</cp:revision>
  <dc:subject/>
  <dc:title>Slide 1</dc:title>
</cp:coreProperties>
</file>