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8C72-D736-4A06-B696-7B80925E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B828-48ED-4882-B17F-87B636E26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E952-75E1-4824-BFF2-82DEA070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336-82AC-4894-BDB9-69CA079E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2ECA-983D-4D85-8769-A2AC4FB8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B83D-A346-448F-B232-B8E578A7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097E-75C5-49CB-8D36-D45CDC9F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1D48-25CF-4D7C-9620-D5DFD80E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DE6E-EBE7-4B1E-A50D-7979E557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183D-00D2-41BD-A102-E80C55FFF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8854-021A-4D75-BE06-2CBFB6DC0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CDF7-0A64-4C82-A951-1CFEF1318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2298-7970-4FC1-B9E7-D689613A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63C-60F3-4090-9E9B-61622C40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9E08-A886-43D9-BDA2-366BC97B5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4814-458C-4080-9405-6C03FFE4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F1D-4317-4A1A-8799-A4A7EC2B0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464E-87F1-4EAD-9359-2F1B74B80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CF1-AE4B-49A9-896D-F286BE82F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B983-4250-4E14-AE34-5F98B4A6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4B7E-F952-4DFF-A403-76F9FB0F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5E2D-740B-4A0E-B6FB-87522A9C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54F-ABBB-485D-90FA-144908D8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24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WAS NAMED BY THE CMA AS "ENTERTAINER OF THE YEAR" IN 2004, 2006, 2007, AND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MANAGE A SUCCESSFUL U.S. PRESIDENTIAL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EN  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70'S DUO WITH HER BROTHER RICH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IE  COU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HOSTED "TODAY", WAS ANCHOR OF THE "CBS EVENING NEWS", AND WAS A CORRESPONDENT FOR "60 MINU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NIRV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COU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WASHINGTON REDSKINS FOR 3 YEARS BEFORE JOINING THE MINNESOTA VIK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 AND HAS HAD OVER 100 #1 H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LIJ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ELGIAN TENNIS PLAYER USED TO BE THE TOP- RANKED PLAYER IN BOTH SINGLES AND DOU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A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        IN THE NIGHT" AND "BETTE DAVIS E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70'S DUO WITH HER BROTHER RICH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Y  CARLI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CTRESS WAS A REGULAR PANELIST ON "TO TELL THE TRUTH" 1956-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CHE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WAS NAMED BY THE CMA AS "ENTERTAINER OF THE YEAR" IN 2004, 2006, 2007, AND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ANNE  CO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MANAGE A SUCCESSFUL U.S. PRESIDENTIAL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HOSTED "TODAY", WAS ANCHOR OF THE "CBS EVENING NEWS", AND WAS A CORRESPONDENT FOR "60 MINU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NIRV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WASHINGTON REDSKINS FOR 3 YEARS BEFORE JOINING THE MINNESOTA VIK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 AND HAS HAD OVER 100 #1 H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ELGIAN TENNIS PLAYER USED TO BE THE TOP- RANKED PLAYER IN BOTH SINGLES AND DOU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       IN THE NIGHT" AND "BETTE DAVIS EY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CTRESS WAS A REGULAR PANELIST ON "TO TELL THE TRUTH" 1956-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3:30:21Z</dcterms:created>
  <dc:creator>Jennifer Budzinski</dc:creator>
  <dc:description/>
  <dc:language>en-US</dc:language>
  <cp:lastModifiedBy>Erich Friedman</cp:lastModifiedBy>
  <dcterms:modified xsi:type="dcterms:W3CDTF">2020-08-25T16:56:00Z</dcterms:modified>
  <cp:revision>347</cp:revision>
  <dc:subject/>
  <dc:title>Slide 1</dc:title>
</cp:coreProperties>
</file>