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7529-09D0-4B88-8295-41A3A6053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71B1-B272-4D9F-B28D-C0B3ED735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F203-4A3D-4DB8-BBED-4145A91F6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5D0-7C08-4B29-8725-F83162EF4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A3C7-221B-4C34-B5CF-8866CC5B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6D08-A759-4AF1-A89D-0A67F1C6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30DF-9801-4EE1-8E9D-346C2938B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D8C9-FBB2-4540-B95A-D523C5804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F2FB-3578-4AB3-9212-2996A4256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C2BB-C285-4C68-A314-CD37F666C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BF98-7D7D-4339-A9B7-2E65A5839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3850-4984-4172-94DB-4CD258172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0093-CF6C-418D-8D6A-017DA404B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0918-CF76-4557-89AD-5D8309B5D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B210-E2B5-4962-9F31-3D484EBE4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AFF9-C463-48F9-B075-5FB0FF0E5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AC6-80DA-417F-8B55-F0BB13D4F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C414-F3B2-4CEE-8B8A-669617CA9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4B0E-F580-42A3-8D3C-1D6EE495C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BBE5-5327-4296-8802-78F20AA4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395F-1243-4804-B617-3CDF6C85D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0F54-B3F9-4437-84FD-1F799CCD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9363-75EC-45B9-BA7D-7F4B36D78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6248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WAS NAMED BY THE CMA AS "ENTERTAINER OF THE YEAR" IN 2004, 2006, 2007, AND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MANAGE A SUCCESSFUL U.S. PRESIDENTIAL CAMPA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EN  CARP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70'S DUO WITH HER BROTHER RICH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IE  COUR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HOSTED "TODAY", WAS ANCHOR OF THE "CBS EVENING NEWS", AND WAS A CORRESPONDENT FOR "60 MINU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CO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NIRV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COUS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WASHINGTON REDSKINS FOR 3 YEARS BEFORE JOINING THE MINNESOTA VIK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  CLAR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 AND HAS HAD OVER 100 #1 H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CLIJ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ELGIAN TENNIS PLAYER USED TO BE THE TOP- RANKED PLAYER IN BOTH SINGLES AND DOUB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CA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        IN THE NIGHT" AND "BETTE DAVIS E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70'S DUO WITH HER BROTHER RICH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TY  CARLIS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CTRESS WAS A REGULAR PANELIST ON "TO TELL THE TRUTH" 1956-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Y  CHE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ARTIST WAS NAMED BY THE CMA AS "ENTERTAINER OF THE YEAR" IN 2004, 2006, 2007, AND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YANNE  CON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MANAGE A SUCCESSFUL U.S. PRESIDENTIAL CAMPAIG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HOSTED "TODAY", WAS ANCHOR OF THE "CBS EVENING NEWS", AND WAS A CORRESPONDENT FOR "60 MINU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NIRV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FOR THE WASHINGTON REDSKINS FOR 3 YEARS BEFORE JOINING THE MINNESOTA VIK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OF "AMERICAN IDOL" AND HAS HAD OVER 100 #1 H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BELGIAN TENNIS PLAYER USED TO BE THE TOP- RANKED PLAYER IN BOTH SINGLES AND DOUB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       IN THE NIGHT" AND "BETTE DAVIS EY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CTRESS WAS A REGULAR PANELIST ON "TO TELL THE TRUTH" 1956-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3:30:21Z</dcterms:created>
  <dc:creator>Jennifer Budzinski</dc:creator>
  <dc:description/>
  <dc:language>en-US</dc:language>
  <cp:lastModifiedBy>Erich Friedman</cp:lastModifiedBy>
  <dcterms:modified xsi:type="dcterms:W3CDTF">2020-08-25T16:56:00Z</dcterms:modified>
  <cp:revision>347</cp:revision>
  <dc:subject/>
  <dc:title>Slide 1</dc:title>
</cp:coreProperties>
</file>