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DBA5-EFF8-444E-ACDC-E3B5F0EA2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77F-3685-4782-A52E-4B7659FC5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6CFA-179C-4F33-AEF3-A9195A232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7665-CD4D-40ED-A379-88313BDB5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5D66-0CB1-4F03-9D40-CCC912ADE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49D-E165-40CE-A857-FAADF8FF3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20DE-6D87-4E8C-B46B-6189450AE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DD74-B732-424C-BEEE-E5CC1F618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2316-0149-4505-A28D-ADA5CE17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ED42-A285-4240-86E8-874BFCD1F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6A47-B651-49CB-8DD3-03C043361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D9D6-DB2F-486C-9806-7DA0DE776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B5A6-B9BF-41CB-8566-5497D88A6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2DF0-0D50-473A-8A81-BFA648E8B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7140-5416-4B0D-90A4-B5D0A73A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E9B2-127F-441B-A70A-D6DC5143F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7411-BD84-451E-8A46-CAD733021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1F04-E694-413F-B835-5424865CF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9143-B91F-4CB6-9636-ABEE3136C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B2AD-1E55-47DA-81E2-D18470D49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A020-4989-4AB8-9E98-8369FE141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F999-5B89-45B3-95D6-1888FDAB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98C3-C175-4048-89BC-B339D2ECA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6248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DUO FORMED BY CEELO GREEN AND DANGER MOUSE HAD THE HIT SINGLE "CRAZ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HANTOM IN "THE PHANTOM OF      THE OPERA" AND KING LEONIDAS IN "3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2007-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7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TH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ROCK STAR HAS SOLD MORE ALBUMS THAN ANY OTHER SOLO ARTIS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N  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POLITICAL COMMENTATOR FOUNDED "THE BLAZE" AFTER LEAVING FOX NEWS IN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BURGH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DAR  O'REILLY IN THE FILM AND TV SERIE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  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BU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PLAYING BUDDY HOLLY IN "THE BUDDY HOLLY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ERFORMED WITH HIS WIFE GRACIE ALL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NARLS  BAR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DUO FORMED BY CEELO GREEN AND DANGER MOUSE HAD THE HIT SINGLE "CRAZ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RD  BU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HANTOM IN "THE PHANTOM OF       THE OPERA" AND KING LEONIDAS IN "3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2007-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ROCK STAR HAS SOLD MORE ALBUMS THAN ANY OTHER SOLO ARTIS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POLITICAL COMMENTATOR FOUNDED "THE BLAZE" AFTER LEAVING FOX NEWS IN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DAR  O'REILLY IN THE FILM AND TV SERIE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PLAYING BUDDY HOLLY IN "THE BUDDY HOLLY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ERFORMED WITH HIS WIFE GRACIE ALL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2:21:11Z</dcterms:created>
  <dc:creator>Jennifer Budzinski</dc:creator>
  <dc:description/>
  <dc:language>en-US</dc:language>
  <cp:lastModifiedBy>Erich Friedman</cp:lastModifiedBy>
  <dcterms:modified xsi:type="dcterms:W3CDTF">2020-08-25T18:13:09Z</dcterms:modified>
  <cp:revision>348</cp:revision>
  <dc:subject/>
  <dc:title>Slide 1</dc:title>
</cp:coreProperties>
</file>