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7B8B-AE7C-4CFB-8EEF-26A49E54E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65C6-0EB3-4CBD-8FFB-B0ACCC23D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895F-B293-4872-8247-85658255B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68A2-7382-41E7-815C-C7E958F65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F1DA-5D93-4FC7-8845-A9A8E85F2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155B-7895-4E5F-AA67-E8E8A4A4C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7D90-2A26-4B3C-9F49-9FA9BDEDD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A260-14D7-4DF9-8D71-D45FE329A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C153-0893-4073-9749-CCA43858F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0122-AEAE-4C29-837A-6D089F8C7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B526-EF2C-4A11-BB30-2166FD8CE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6EAB-2739-4847-B197-2A2BAB38E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950C-D9FC-4665-B536-88819E7B5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ABD1-0C9B-4289-B571-E3142C4E9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8E88-75F2-4780-BC98-B6295A5E8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EA22-8209-43C6-8E08-A75A26761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8A5A-8E54-4C00-AC09-B14A86FDE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5038-FC98-4FE8-B722-050EC01A9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B92E-C94E-45E0-8BDA-51B445326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F781-3B62-4986-9D75-902CE9846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2382-4B27-4FDA-B085-8EA48D222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FD6B-CDC5-425A-A350-0E86A4BC5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E7D1-AC33-4FD1-8A7A-520AF5D03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520"/>
            <a:ext cx="62481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L DUO FORMED BY CEELO GREEN AND DANGER MOUSE HAD THE HIT SINGLE "CRAZ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HANTOM IN "THE PHANTOM OF      THE OPERA" AND KING LEONIDAS IN "300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4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RDON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.K. 2007-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74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TH  BR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ROCK STAR HAS SOLD MORE ALBUMS THAN ANY OTHER SOLO ARTIST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NN  B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ERVATIVE POLITICAL COMMENTATOR FOUNDED "THE BLAZE" AFTER LEAVING FOX NEWS IN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Y  BURGH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ADAR  O'REILLY IN THE FILM AND TV SERIES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NGER  B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19320" y="762120"/>
            <a:ext cx="6705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RUMMER FOR CR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Y  BU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PLAYING BUDDY HOLLY IN "THE BUDDY HOLLY ST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4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909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ERFORMED WITH HIS WIFE GRACIE ALL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NARLS  BARK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L DUO FORMED BY CEELO GREEN AND DANGER MOUSE HAD THE HIT SINGLE "CRAZ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ARD  BUT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HANTOM IN "THE PHANTOM OF       THE OPERA" AND KING LEONIDAS IN "300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.K. 2007-20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ROCK STAR HAS SOLD MORE ALBUMS THAN ANY OTHER SOLO ARTIST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ERVATIVE POLITICAL COMMENTATOR FOUNDED "THE BLAZE" AFTER LEAVING FOX NEWS IN 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ADAR  O'REILLY IN THE FILM AND TV SERIES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RUMMER FOR CR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PLAYING BUDDY HOLLY IN "THE BUDDY HOLLY ST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ERFORMED WITH HIS WIFE GRACIE ALL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12:21:11Z</dcterms:created>
  <dc:creator>Jennifer Budzinski</dc:creator>
  <dc:description/>
  <dc:language>en-US</dc:language>
  <cp:lastModifiedBy>Erich Friedman</cp:lastModifiedBy>
  <dcterms:modified xsi:type="dcterms:W3CDTF">2020-08-25T18:13:09Z</dcterms:modified>
  <cp:revision>348</cp:revision>
  <dc:subject/>
  <dc:title>Slide 1</dc:title>
</cp:coreProperties>
</file>