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A54D0-2E3B-4773-8BE0-5538347FDC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A664-99B7-47B7-8E7D-C39F9E4D1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3FB2-4CB4-4F9A-90A0-3156DF6C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C2803-C624-41CC-9BC8-86C7D689BB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9FC60-DF4A-4328-A5D4-D178AA886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ABCA-750E-49B6-BA3A-E42017F9C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9022F-1BE3-4786-A7DD-96EBC87E7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8038-79B6-41D0-87D3-1F595B0DEE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068E-C176-41A8-BA5C-25A989CE5A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BA99-557A-4BAD-9FA5-11AF86E32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08E3-216C-455D-A639-049DF9AC41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6106-4FEB-442D-BCCE-37C999004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F3BF5-D125-408D-868F-77B746028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3F77-4FE0-48AC-92FD-99BA4A4BA5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D0BF-2A98-4F75-9983-84EF28E62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28BA-C803-460E-8E1D-5F556CEDA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FCA46-DDCB-4A44-8601-AE429D56C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AE469-BF36-480C-AB56-B1DD956C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B070-5FDC-42AA-8F95-E7184A67E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ECAA-589E-4C1C-B243-A518F2D48B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6AF1-5ABF-49E8-98D9-66F5279C3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2BDB-2E18-4079-BEDD-CB62E686A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220E-F242-4E92-B42E-A710D40A3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47920" y="1523520"/>
            <a:ext cx="6248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38080" y="762120"/>
            <a:ext cx="7467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RDON  BROW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800280" y="762120"/>
            <a:ext cx="75438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9744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TH  BRO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762120" y="762120"/>
            <a:ext cx="761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8484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ENN  BE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41904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RGHO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800280" y="762120"/>
            <a:ext cx="75438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INGER  BA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BUS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876240" y="762120"/>
            <a:ext cx="73915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4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PRESIDENT OF THE U.S.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9096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BU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04840" y="762120"/>
            <a:ext cx="693432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NARLS  BARKL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OUL DUO FORMED BY CEELO GREEN AND DANGER MOUSE HAD THE HIT SINGLE "CRAZ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ARD  BUTL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23960" y="762120"/>
            <a:ext cx="7696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HANTOM IN "THE PHANTOM OF       THE OPERA" AND KING LEONIDAS IN "300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PRIME MINISTER OF THE U.K. 2007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876240" y="762120"/>
            <a:ext cx="7391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UNTRY ROCK STAR HAS SOLD MORE ALBUMS THAN ANY OTHER SOLO ARTIST IN THE U.S.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NSERVATIVE POLITICAL COMMENTATOR FOUNDED "THE BLAZE" AFTER LEAVING FOX NEWS IN 2011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RADAR  O'REILLY IN THE FILM AND TV SERIES "M*A*S*H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838080" y="761760"/>
            <a:ext cx="74678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DRUMMER FOR CREA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PLAYING BUDDY HOLLY IN "THE BUDDY HOLLY STOR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990720" y="761760"/>
            <a:ext cx="7162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ERFORMED WITH HIS WIFE GRACIE ALL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12:21:11Z</dcterms:created>
  <dc:creator>Jennifer Budzinski</dc:creator>
  <dc:description/>
  <dc:language>en-US</dc:language>
  <cp:lastModifiedBy>Erich Friedman</cp:lastModifiedBy>
  <dcterms:modified xsi:type="dcterms:W3CDTF">2020-08-25T18:13:09Z</dcterms:modified>
  <cp:revision>348</cp:revision>
  <dc:subject/>
  <dc:title>Slide 1</dc:title>
</cp:coreProperties>
</file>