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68E1-47FC-42C2-93BB-2894539DE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4998-8E8D-4E0E-B489-8C475E647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B4A2-227A-4F02-ABA7-67C05803E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1A86-2393-4133-8CEB-3F51DD432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A8CE-7259-45BD-BFC0-93EDC9E5D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DBC4-C849-42D8-8B7D-F9A844499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6389-9F35-4D1E-A59A-0A5BAAF40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DB0D-D844-4AFB-A910-1E8186FE1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831C-ACA3-49CF-8485-1ACC4B1E6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63C2-2EFD-41F0-B409-1AF7D39D5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A098-94F9-4048-8F7E-D6EA06F8E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9073-A906-4462-ABDD-A3124F9A3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1885-49DF-4309-AC4D-6015F41BB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29C6-F6D0-4275-ADA7-B06FE12C1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F86A-7251-4591-91E6-42940BDC0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4C16-DB04-43F5-881F-637EE2D13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4143-2A95-47AA-BCD3-C258BD0EF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74EA-D2B2-4BC8-AB88-69CC4EA1B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6325-B5CE-4B3E-8F82-2772C33C1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760F-13DC-4D4B-8009-A062782A2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105D8-0DC8-4AE2-819D-73E9BFD70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464F-DB07-4FD3-B84D-6F5EA72E8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E9FC-9C81-40AA-A214-FE07FB7DB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HUMPHREY BOGART IN "THE BIG SLEEP", "DARK PASSAGE", AND "KEY LARG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MICHAEL DUKAKIS'S VICE-PRESIDENTIAL RUNNING M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URA  B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LIBRARIAN LATER CHAMPIONED LITERACY WHILE SHE WAS FIRST LA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RRY  B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04840" y="762120"/>
            <a:ext cx="69343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STON CELTICS FORWARD WAS THE   NBA MVP 1984-198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484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ZZIE  BO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FAMOUSLY TRIED AND ACQUITTED OF THE 1892 AXE MURDERS OF HER FATHER AND STEP-M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CILLE  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AS THE STAR OF 5 SELF-TITLED AND SELF-PRODUCED TV SIT-COMS FROM 1951 TO 198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ONID  BREZHNE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ED THE SOVIET UNION FROM 1964 TO 198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DA  BL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POSSESSED CHILD IN "THE EXORCI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ONARD  BERNS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MPOSED THE MUSIC FOR "WEST SIDE STORY", "ON THE WATERFRONT", AND "PETER P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LIBRARIAN LATER CHAMPIONED LITERACY WHILE SHE WAS FIRST LA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053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VAR  BUR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GEORDI LA FORGE ON "STAR TREK: THE NEXT GENERA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UREN  BA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HUMPHREY BOGART IN "THE BIG SLEEP", "DARK PASSAGE", AND "KEY LARG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LOYD  BENT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71680" y="762120"/>
            <a:ext cx="800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MICHAEL DUKAKIS'S VICE-PRESIDENTIAL RUNNING M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38400" y="761760"/>
            <a:ext cx="6667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STON CELTICS FORWARD WAS THE NBA MVP 1984-198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FAMOUSLY TRIED AND ACQUITTED OF THE 1892 AXE MURDERS OF HER FATHER AND STEP-M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AS THE STAR OF 5 SELF-TITLED AND SELF-PRODUCED TV SIT-COMS FROM 1951 TO 198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ED THE SOVIET UNION FROM 1964 TO 198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POSSESSED CHILD IN "THE EXORCI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MPOSED THE MUSIC FOR "WEST SIDE STORY", "ON THE WATERFRONT", AND "PETER P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GEORDI LA FORGE ON "STAR TREK: THE NEXT GENERA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20:13:37Z</dcterms:created>
  <dc:creator>Jennifer Budzinski</dc:creator>
  <dc:description/>
  <dc:language>en-US</dc:language>
  <cp:lastModifiedBy>Erich Friedman</cp:lastModifiedBy>
  <dcterms:modified xsi:type="dcterms:W3CDTF">2020-08-26T15:01:17Z</dcterms:modified>
  <cp:revision>349</cp:revision>
  <dc:subject/>
  <dc:title>Slide 1</dc:title>
</cp:coreProperties>
</file>