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BC6B-45FC-4A49-93C9-EE0BF5338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44C-AF63-47F9-AFC3-701E5CBC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889-CDF7-4F57-A9D3-40A490BE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850-CF6D-4770-A47C-FA0B39C4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9EDD-2F11-474B-85E0-C2D8ECF57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D7D6-2B3A-4B68-8F13-A93FDB64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1841-60B5-4CDB-B91B-FA97620D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878-1731-494F-BA8B-978F5F08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980-6702-4949-9591-101C2F49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3063-4BFD-431E-A045-61E4E3FD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2616-ABA1-47EB-AFCF-07E24E99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3E7-D2B0-4501-A084-6911674E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AB1D-F213-40DE-8614-019DCEA4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2BC-54BA-4341-A1DC-11EEE121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66B6-480D-406C-9C53-263AD3CF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F939-5367-4F74-961D-009C6DBC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99B-1CA4-4D63-AB7F-BC81EA96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316-5980-4E27-8191-EC9B676D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534A-4EBF-4BA9-A182-4D8C8DF0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B50-C088-43DD-B422-84A9175B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6800-62CD-40CC-8A47-5AD005F4B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BEE-3502-4592-BF0E-2F4F074E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D41-DB4D-490A-BD97-BBDA1027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MPHREY BOGART IN "THE BIG SLEEP", "DARK PASSAGE", AND "KEY L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CHAEL DUKAKIS'S VICE-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LIBRARIAN LATER CHAMPIONED LITERACY WHILE SHE WAS FIRST LA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CELTICS FORWARD WAS THE   NBA MVP 1984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ZIE  B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LY TRIED AND ACQUITTED OF THE 1892 AXE MURDERS OF HER FATHER AND STEP-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TAR OF 5 SELF-TITLED AND SELF-PRODUCED TV SIT-COMS FROM 1951 TO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ID  BREZHN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64 TO 19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OSSESSED CHILD IN "THE EXORC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BER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MUSIC FOR "WEST SIDE STORY", "ON THE WATERFRONT", AND "PETER P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LIBRARIAN LATER CHAMPIONED LITERACY WHILE SHE WAS FIRST LA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AR  BU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DI LA FORGE ON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N  BA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MPHREY BOGART IN "THE BIG SLEEP", "DARK PASSAGE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LOYD  BEN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CHAEL DUKAKIS'S VICE-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CELTICS FORWARD WAS THE NBA MVP 1984-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LY TRIED AND ACQUITTED OF THE 1892 AXE MURDERS OF HER FATHER AND STEP-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TAR OF 5 SELF-TITLED AND SELF-PRODUCED TV SIT-COMS FROM 1951 TO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64 TO 19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OSSESSED CHILD IN "THE EXORC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MUSIC FOR "WEST SIDE STORY", "ON THE WATERFRONT", AND "PETER P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DI LA FORGE ON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0:13:37Z</dcterms:created>
  <dc:creator>Jennifer Budzinski</dc:creator>
  <dc:description/>
  <dc:language>en-US</dc:language>
  <cp:lastModifiedBy>Erich Friedman</cp:lastModifiedBy>
  <dcterms:modified xsi:type="dcterms:W3CDTF">2020-08-26T15:01:17Z</dcterms:modified>
  <cp:revision>349</cp:revision>
  <dc:subject/>
  <dc:title>Slide 1</dc:title>
</cp:coreProperties>
</file>