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A905-4D16-4F55-B6D5-8F2AC0E22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4601-8DAF-48A9-B188-987569BF5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485B9-9C17-49ED-B348-719877970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5BC3-6840-4A10-8D83-173324D6C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2ACFB-0710-4A17-B448-5962B3B44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3797-0675-4547-88CC-D71F0C36C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CEE0-0FE7-496A-BB82-1F649D227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F3C9-5EFA-4941-9356-2757B8D6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F873-069A-43D6-B78A-CA50B0218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8844-6B18-4D34-AED9-806C72AF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980C-0D8A-4067-AB71-A2F47CEB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529C-BF85-4510-BC51-A7F6A5E25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C747-E478-42F7-8FAD-22AFEBB12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754B-03C8-4F5C-A0DC-67489DF03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C8F8-4AF8-428C-929E-940635672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0DF0-FAC7-4B58-9DED-EED3E5F48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A0E2-553C-41D4-A255-1EC603FC5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B851-C4EA-48F2-A39B-DC47CB742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A0F11-F315-429E-8AD7-97C9179ED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401F-9CBA-4190-9A72-D9C5450D7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13F4-B42A-4959-BBB0-D542DD169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AF44-225E-41BB-B788-F636D9D0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0D4F-376B-414A-9419-416210DA6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S GUITARIST WAS KNOWN AS "THE FIFTH BEAT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04840" y="762120"/>
            <a:ext cx="6934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MORE TONY AWARDS THAN ANY  OTHER COMPO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6656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SPIEL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DIRECTOR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ST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066680" y="762120"/>
            <a:ext cx="70106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 KNOWN FOR BUFFALO SPRINGFIELD AND CS&amp;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2228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VERUS  SNA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OTIONS MASTER AT HOGW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N  SODERBER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90600" y="7621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"OCEANS 11" TRILOGY AND "ERIN BROCKOVICH", AND WON BEST DIRECTOR FOR "TRAFFIC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IA  SOTOMAY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SPANIC MEMBER OF THE SUPREME COU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M  SH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MINEM'S BEST-KNOWN ALTER E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968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RHAN  SIR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SSASSINATED ROBERT F. KENNE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RICHEST DIRECTOR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MMY  SO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LAYER TO HIT 60 HOME RUNS IN 3 DIFFERENT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UART  SUTCLIF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90680" y="762120"/>
            <a:ext cx="6362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SS GUITARIST WAS KNOWN AS "THE FIFTH BEA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  SONDHEI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MORE TONY AWARDS THAN ANY OTHER COMPOS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IAN IS  KNOWN FOR BUFFALO SPRINGFIELD AND CS&amp;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POTIONS MASTER AT HOGWART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THE "OCEANS 11" TRILOGY AND "ERIN BROCKOVICH", AND WON BEST DIRECTOR FOR "TRAFFIC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23960"/>
            <a:ext cx="7162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HISPANIC MEMBER OF THE SUPREME COU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MINEM'S BEST-KNOWN ALTER E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ASSASSINATED ROBERT F. KENNED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PLAYER TO HIT 60 HOME RUNS IN 3 DIFFERENT SEAS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3T11:26:30Z</dcterms:created>
  <dc:creator>Jennifer Budzinski</dc:creator>
  <dc:description/>
  <dc:language>en-US</dc:language>
  <cp:lastModifiedBy>Erich Friedman</cp:lastModifiedBy>
  <dcterms:modified xsi:type="dcterms:W3CDTF">2020-10-09T12:50:57Z</dcterms:modified>
  <cp:revision>288</cp:revision>
  <dc:subject/>
  <dc:title>Slide 1</dc:title>
</cp:coreProperties>
</file>