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EC59-9E4B-451A-9573-34308B2E9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2074-3F44-40BA-82B9-A064EDE7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5D25-65E0-4D45-8B6C-BCDC52BDA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5467-E8DE-4B19-B3C8-E9F8A4EA0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8D60-C2ED-4C6B-AA9E-D10F5550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FACD-63A1-4017-8CB7-2F47377A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B786-87DD-43C1-9CB3-6EC76F06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7EA4-9971-4F23-A5B1-F2C51DBE6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6C07-5A73-4E41-93A1-3BE71E143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DB6D-4C0F-47B1-A3D0-99A5F96F0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0E05-023A-451E-804A-6E4870912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A7BE-2CC0-4092-86EA-F137D2EF2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2997-012E-4FBB-BF2F-8943FBD31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43E0-3746-4BC9-999D-1CAC56F9A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2338-DB1A-4FB2-A011-FF2878B4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B30D-5AD0-4DE5-A9E9-F50B54B07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509D-8B72-45B4-A210-56AD0D35F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DD9F-90CA-4CA6-AF39-6D4ABEC50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8A12-E0DD-4982-8977-6C35CDBBF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0AFB-BFD7-449B-B0AD-21F84DD7F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F4C1-07E6-4BDE-BAA6-14BF1600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6E50-34A5-47EA-881A-EF39ED21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D10F-B352-4DD9-B0DD-46562F960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S GUITARIST WAS KNOWN AS "THE FIFTH BEAT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MORE TONY AWARDS THAN ANY  OTHER COMPO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6656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SPIE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DIRECTOR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ST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 KNOWN FOR BUFFALO SPRINGFIELD AND CS&amp;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2228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RUS  SN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OTIONS MASTER AT HOGW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SODERBER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90600" y="76212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"OCEANS 11" TRILOGY AND "ERIN BROCKOVICH", AND WON BEST DIRECTOR FOR "TRAFF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IA  SOTOMA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ISPANIC MEMBER OF THE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M  SH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MINEM'S BEST-KNOWN ALTER E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968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HAN  SIR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SSASSINATED ROBERT F. KENN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DIRECTOR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MY  S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LAYER TO HIT 60 HOME RUNS IN 3 DIFFERENT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SUTCLI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90680" y="762120"/>
            <a:ext cx="63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S GUITARIST WAS KNOWN AS "THE FIFTH BEA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SONDHE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MORE TONY AWARDS THAN ANY OTHER COMPO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 KNOWN FOR BUFFALO SPRINGFIELD AND CS&amp;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OTIONS MASTER AT HOGW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"OCEANS 11" TRILOGY AND "ERIN BROCKOVICH", AND WON BEST DIRECTOR FOR "TRAFF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23960"/>
            <a:ext cx="716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ISPANIC MEMBER OF THE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MINEM'S BEST-KNOWN ALTER E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SSASSINATED ROBERT F. KENN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LAYER TO HIT 60 HOME RUNS IN 3 DIFFERENT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1:26:30Z</dcterms:created>
  <dc:creator>Jennifer Budzinski</dc:creator>
  <dc:description/>
  <dc:language>en-US</dc:language>
  <cp:lastModifiedBy>Erich Friedman</cp:lastModifiedBy>
  <dcterms:modified xsi:type="dcterms:W3CDTF">2020-10-09T12:50:57Z</dcterms:modified>
  <cp:revision>288</cp:revision>
  <dc:subject/>
  <dc:title>Slide 1</dc:title>
</cp:coreProperties>
</file>