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AF0-9860-4EDE-A454-937C0762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4DBE-38C9-4E32-8D54-05D533FE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9F83-9467-44A6-B346-D339F953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D9FB-3331-47E6-8D00-47254479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1788-D968-44AB-B496-12A838FA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C6DA-3D04-4DC9-9CF4-8A918BD4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E407-D468-49BA-9F4D-82A387BD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E31-5EED-473B-91A4-7C99A77A3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FE66-8612-4C01-B118-19F260ABA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CE07-EA91-4756-B91A-AF947689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11F9-A899-4402-936B-2FAECCCAF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664E-E615-44B7-B68E-555397B5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964E-9A39-4DD3-AF4B-179B357F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890D-B807-48F9-8DAE-CEA46751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887-3667-4E5F-8A12-00D102868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E9CD-FDAB-4DB4-9464-6A0B314F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C55-687D-4F6D-A773-CA5FB90F1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3DC-0E1B-4186-A99B-5C487506E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0037-1262-4CB9-A41B-8BEBBBB6D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C7F1-5DF2-4042-9F5D-8420E2615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A5C7-0429-4B74-9481-1D5E0FFC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FA1E-1FEC-4220-8368-6EE46071E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97DA-6579-410D-AA2F-6060EBE61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S GUITARIST WAS KNOWN AS "THE FIFTH BEAT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MORE TONY AWARDS THAN ANY  OTHER COMPO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65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SPIE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DIRECTOR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ST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 KNOWN FOR BUFFALO SPRINGFIELD AND CS&amp;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2228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RUS  SN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OTIONS MASTER AT HOGW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SODERBE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90600" y="7621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"OCEANS 11" TRILOGY AND "ERIN BROCKOVICH", AND WON BEST DIRECTOR FOR "TRAF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IA  SOTOMA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SPANIC MEMBER OF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M  SH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MINEM'S BEST-KNOWN ALTER E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968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HAN  SIR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SSASSINATED ROBERT F.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DIRECTOR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MY  S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LAYER TO HIT 60 HOME RUNS IN 3 DIFFERENT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SUTCL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S GUITARIST WAS KNOWN AS "THE FIFTH BEA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SONDHE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MORE TONY AWARDS THAN ANY OTHER COMPO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 KNOWN FOR BUFFALO SPRINGFIELD AND CS&amp;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OTIONS MASTER AT HOGW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"OCEANS 11" TRILOGY AND "ERIN BROCKOVICH", AND WON BEST DIRECTOR FOR "TRAFF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23960"/>
            <a:ext cx="716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SPANIC MEMBER OF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MINEM'S BEST-KNOWN ALTER E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SSASSINATED ROBERT F.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LAYER TO HIT 60 HOME RUNS IN 3 DIFFERENT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1:26:30Z</dcterms:created>
  <dc:creator>Jennifer Budzinski</dc:creator>
  <dc:description/>
  <dc:language>en-US</dc:language>
  <cp:lastModifiedBy>Erich Friedman</cp:lastModifiedBy>
  <dcterms:modified xsi:type="dcterms:W3CDTF">2020-10-09T12:50:57Z</dcterms:modified>
  <cp:revision>288</cp:revision>
  <dc:subject/>
  <dc:title>Slide 1</dc:title>
</cp:coreProperties>
</file>