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F018-AFBE-401C-B175-DAB14494D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A7C4-F3B8-4BC4-ABE6-1FEC72438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FDE9-B43A-4747-A16B-C66166927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F109-6384-4D9B-8472-F2202BC6D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5463-EFEC-418E-BB62-4678E2BA3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98A9-C24C-4241-8FD4-7ACCD862A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5122-D3E4-4887-B2A6-63198323A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461A-2B30-496A-81BB-113A0A901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D894-D893-4455-8059-7A7524B0F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9F78-225B-4779-9CBE-3069DEDC3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9E95-2DA6-4899-8435-48CC8A632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2A01-446E-4DFB-A9B4-080672BE7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0AB2-E16E-40A5-A81B-FFB7F8F2B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B906-C21E-41CE-82A0-407C8EBF0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BAE8-8B94-4056-9BFB-81BE30D34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91D1-DA1E-4E6E-9C4D-CD2C9D8D4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1967-9086-43F6-9DEA-0A15BCCED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CE87-FE39-4334-A747-7B567A633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1C00-5DAC-4B5E-8B08-1E03B8725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DD63-CD43-4284-818A-73757D9B5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C281-D71C-41B2-A669-C745F1CD9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4966-A91E-4268-8795-288B865AB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79DA-B321-4E5F-8EB0-F67BA5CC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I KNOW WHY THE CAGED BIRD S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HUMPHREY BOGART IN "THE MALTESE FALC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ELEINE  ALB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U.S.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O  ANDRE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DRIVER TO WIN THE INDIANAPOLIS 500, THE DAYTONA 500, AND THE FORMULA ONE WORLD CHAMPION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HAMMAD  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   BOXER WAS STRIPPED TEMPORARILY OF HIS TITLES FOR DRAFT EVA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  ANTH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TROPICAL SALSA ARTIS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AT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ANDMAID'S T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ANTOIN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QUEEN OF FRANCE BEFORE THE FRENCH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HMOUD  ABB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PRESIDENT OF PALESTINE SINCE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U.S. SECRETARY OF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US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RUNNING BACK WAS THE FIRST PLAYER TO GAIN 10,000 RUSHING YARDS AND 5,000 RECEIVING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  ANGEL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I KNOW WHY THE CAGED BIRD S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A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HUMPHREY BOGART IN "THE MALTESE FALC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DRIVER TO WIN THE INDIANAPOLIS 500, THE DAYTONA 500, AND THE FORMULA ONE WORLD CHAMPION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   BOXER WAS STRIPPED TEMPORARILY OF HIS TITLES FOR DRAFT EVA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TROPICAL SALSA ARTIST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ANDMAID'S TA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QUEEN OF FRANCE BEFORE THE FRENCH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PRESIDENT OF PALESTINE SINCE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RUNNING BACK WAS THE FIRST PLAYER TO GAIN 10,000 RUSHING YARDS AND 5,000 RECEIVING Y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20:35:12Z</dcterms:created>
  <dc:creator>Jennifer Budzinski</dc:creator>
  <dc:description/>
  <dc:language>en-US</dc:language>
  <cp:lastModifiedBy>Erich Friedman</cp:lastModifiedBy>
  <dcterms:modified xsi:type="dcterms:W3CDTF">2020-08-26T19:09:52Z</dcterms:modified>
  <cp:revision>351</cp:revision>
  <dc:subject/>
  <dc:title>Slide 1</dc:title>
</cp:coreProperties>
</file>