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0AE9-D847-4DAA-8F0B-EDAE88AF4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F7FB-7B76-48C6-ACA5-3191B9D7C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1A9A-75B7-401A-AFCC-938FB5903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E034-1ED9-480E-8744-864837034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0980-41AE-4EBC-B5AA-F820D694D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8060-131B-4A0F-B30F-9F33AF60A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2CE6-037B-455F-B378-F283C457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E758-3DF2-45B5-8383-D000EEAC2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7C99-0715-4A7D-A50A-D47956A8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2BC1-9043-4989-A914-5D7FF96CB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14F7-376E-456F-BC2F-E9D3C6975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D177-9016-4B7E-92EA-46D2333FF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34F5-B3DB-4760-8858-E71B03509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3338-CCC7-40C5-9833-94C373155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7BE9-2149-4C99-AB78-9198CAAC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7CCF5-2333-4FFC-AD02-A0F203A58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6A7F-E3FB-4D09-B600-1AFF20A74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85D8-F200-4DF3-8CCA-15CB1D7D2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3EA4-5277-4C3C-B2E9-A5FEEE8D5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F967-05B2-4810-B0C4-6BEFF2F12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9D63-2750-41ED-92E5-0B2F92EA2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9E38-8D97-4339-A3C8-A4782ADC6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E4A1-EA3B-4706-AEA1-762E2FA56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I KNOW WHY THE CAGED BIRD S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HUMPHREY BOGART IN "THE MALTESE FALC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DELEINE  ALB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33520" y="762120"/>
            <a:ext cx="80769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U.S. SECRETARY OF 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  ANDRET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DRIVER TO WIN THE INDIANAPOLIS 500, THE DAYTONA 500, AND THE FORMULA ONE WORLD CHAMPIO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HAMMAD  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   BOXER WAS STRIPPED TEMPORARILY OF HIS TITLES FOR DRAFT EV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  ANTHO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TROPICAL SALSA ARTIST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AT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ANDMAID'S TA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ANTOIN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QUEEN OF FRANCE BEFORE THE FRENCH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HMOUD  ABB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28880" y="762120"/>
            <a:ext cx="7086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PRESIDENT OF PALESTINE SINCE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FEMALE U.S. SECRETARY OF 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CUS  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RUNNING BACK WAS THE FIRST PLAYER TO GAIN 10,000 RUSHING YARDS AND 5,000 RECEIVING Y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YA  ANGEL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I KNOW WHY THE CAGED BIRD S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A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OPPOSITE HUMPHREY BOGART IN "THE MALTESE FALC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DRIVER TO WIN THE INDIANAPOLIS 500, THE DAYTONA 500, AND THE FORMULA ONE WORLD CHAMPIO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FESSIONAL    BOXER WAS STRIPPED TEMPORARILY OF HIS TITLES FOR DRAFT EVAS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BEST-SELLING TROPICAL SALSA ARTIST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HANDMAID'S TA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QUEEN OF FRANCE BEFORE THE FRENCH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PRESIDENT OF PALESTINE SINCE 200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RUNNING BACK WAS THE FIRST PLAYER TO GAIN 10,000 RUSHING YARDS AND 5,000 RECEIVING Y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20:35:12Z</dcterms:created>
  <dc:creator>Jennifer Budzinski</dc:creator>
  <dc:description/>
  <dc:language>en-US</dc:language>
  <cp:lastModifiedBy>Erich Friedman</cp:lastModifiedBy>
  <dcterms:modified xsi:type="dcterms:W3CDTF">2020-08-26T19:09:52Z</dcterms:modified>
  <cp:revision>351</cp:revision>
  <dc:subject/>
  <dc:title>Slide 1</dc:title>
</cp:coreProperties>
</file>