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59FC-4A25-478C-B4F6-36540CC8A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DA46-4F70-4708-BDF0-E0F8823F9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B15E-3573-4591-824B-EE40ABE17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D748-EFCD-48E4-9C7B-38C3E4768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D3E3-C2EA-4039-9691-2DBEEA4D7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4A84-2AC6-41D1-957E-26EF3EAF6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E4D3-0254-473C-B8D8-8ED4FFABC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0560-497F-4903-A23A-8F12D841B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DAC9-09C0-4813-BEBD-5714C759F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C94E-9036-4733-BA77-310829AB7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5299-F71A-44E1-AE9D-E8D3084FA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CE28-E4E6-4B6B-92C7-E266D5C7B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5AB1-C051-4F1B-B715-D69987008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04E9-C153-4110-971D-8B3CC6254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BEAD-4E9A-414F-B158-E53D06715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DE56-A4B9-4B05-BEDF-010DF946C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047A-4F11-4113-A621-73795C903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7829-CA7E-4ED9-B0C8-FCE4E9DDB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906D-C2F5-4D83-9294-C1843F2CF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DFCE-D523-4172-852D-3668E0B98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3C26-A5C3-4F46-84CF-009B4451A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9B06-4857-49DF-870E-0BA7446B8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859B-7B21-4A2A-8EC1-AA3FDBD54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I KNOW WHY THE CAGED BIRD SING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PPOSITE HUMPHREY BOGART IN "THE MALTESE FALC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ELEINE  ALB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U.S. SECRETARY OF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O  ANDRET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DRIVER TO WIN THE INDIANAPOLIS 500, THE DAYTONA 500, AND THE FORMULA ONE WORLD CHAMPION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HAMMAD  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   BOXER WAS STRIPPED TEMPORARILY OF HIS TITLES FOR DRAFT EVA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C  ANTH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BEST-SELLING TROPICAL SALSA ARTIST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GARET  AT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HANDMAID'S TA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E  ANTOIN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QUEEN OF FRANCE BEFORE THE FRENCH R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HMOUD  ABB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PRESIDENT OF PALESTINE SINCE 20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U.S. SECRETARY OF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CUS  A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RUNNING BACK WAS THE FIRST PLAYER TO GAIN 10,000 RUSHING YARDS AND 5,000 RECEIVING Y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A  ANGEL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I KNOW WHY THE CAGED BIRD SING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  AS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PPOSITE HUMPHREY BOGART IN "THE MALTESE FALC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DRIVER TO WIN THE INDIANAPOLIS 500, THE DAYTONA 500, AND THE FORMULA ONE WORLD CHAMPIONSHI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   BOXER WAS STRIPPED TEMPORARILY OF HIS TITLES FOR DRAFT EVA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BEST-SELLING TROPICAL SALSA ARTIST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HANDMAID'S TA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QUEEN OF FRANCE BEFORE THE FRENCH REVOL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PRESIDENT OF PALESTINE SINCE 20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RUNNING BACK WAS THE FIRST PLAYER TO GAIN 10,000 RUSHING YARDS AND 5,000 RECEIVING Y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20:35:12Z</dcterms:created>
  <dc:creator>Jennifer Budzinski</dc:creator>
  <dc:description/>
  <dc:language>en-US</dc:language>
  <cp:lastModifiedBy>Erich Friedman</cp:lastModifiedBy>
  <dcterms:modified xsi:type="dcterms:W3CDTF">2020-08-26T19:09:52Z</dcterms:modified>
  <cp:revision>351</cp:revision>
  <dc:subject/>
  <dc:title>Slide 1</dc:title>
</cp:coreProperties>
</file>