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18D-FA15-42FB-A259-96A37D72C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EC39B-846A-49E4-876F-D88ED0E4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3C8C-920A-499F-82B4-0EE310F8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DE62-EBB9-4E0B-A0F7-17260A70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9C92-93FB-4210-A9BD-784249708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C64-B870-47F6-A47B-E946CDD1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A64-899E-42B9-886D-83A90442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A0E7-0ED3-4406-BE88-C8652F2B0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CE70-9D44-486B-8063-E08F3814F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E80E-18DB-4908-809C-C98E9AA4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1B8A-9927-48A6-8C9F-D2E7CB8B5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3F8D-9C98-49F0-9C06-15AC5BC1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9973-AC6D-493C-AA42-6CDE1646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7AB-BD24-4481-8C7D-44FEC762C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3BD2-F3BF-461C-9F7B-255C4B30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281D-F266-4B63-BBC1-13E2E4E6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B17A-AD25-45A2-8898-9B3891469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1E4-637B-4B07-8B67-2C6940C5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7CC2-867B-409D-84C9-434EF734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51D3-ED62-4114-91F9-524956E1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183D-71A8-4405-BC4F-730EBF30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7647-7151-4433-A6A0-BCA6E2533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47AC-DF8B-4D1E-877D-EA93038D3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MY STEWART'S WIFE IN "IT'S A WONDERFUL LIFE" AND HAD HER OWN 1958-1966 SIT-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HAD A VOLATILE MARRIAGE WITH FRIDA KAH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R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FOR WALTER CRONKITE AS THE ANCHOR FOR THE "CBS EVENING NE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OTED "FEMALE ENTERTAINER OF THE CENTURY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INSULT COMIC PROVIDED THE VOICE OF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RAD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POTTER IN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R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IS A FRIEND OF KIM JUNG-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RUMS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DEFENSE UNDER FORD AND BUSH JR., MAKING HIM BOTH THE YOUNGEST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TO HOLD THAT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ANGO  REINHAR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ND MOST SIGNIFICANT JAZZ TALENT TO TALENT TO EMERGE FROM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FOR WALTER CRONKITE AS THE ANCHOR FOR THE "CBS EVENING NE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BIE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CTRESS DIED THE DAY AFTER HER DAUGHTER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MY STEWART'S WIFE IN "IT'S A WONDERFUL LIFE"  AND HAD HER OWN 1958-1966 SIT-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G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HAD A VOLATILE MARRIAGE WITH FRIDA KAH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OTED "FEMALE ENTERTAINER OF THE CENTURY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INSULT COMIC PROVIDED THE VOICE OF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POTTER IN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STAR IS A FRIEND OF KIM JUNG-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DEFENSE UNDER FORD AND BUSH JR., MAKING HIM BOTH THE YOUNGEST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TO HOLD THAT JO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ND MOST SIGNIFICANT JAZZ TALENT TO TALENT TO EMERGE FROM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CTRESS DIED THE DAY AFTER HER DAUGHTER D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6:12:07Z</dcterms:created>
  <dc:creator>Jennifer Budzinski</dc:creator>
  <dc:description/>
  <dc:language>en-US</dc:language>
  <cp:lastModifiedBy>Erich Friedman</cp:lastModifiedBy>
  <dcterms:modified xsi:type="dcterms:W3CDTF">2020-08-26T19:11:18Z</dcterms:modified>
  <cp:revision>351</cp:revision>
  <dc:subject/>
  <dc:title>Slide 1</dc:title>
</cp:coreProperties>
</file>