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9069-3974-4BE4-8B2C-6513293E8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63EB-DBC7-4161-B201-1A5DB5164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C701-631D-457A-9673-08B5A634D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2687-0AC9-419B-9906-165364F99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4B76-A309-4EA8-B829-296284510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7892-F097-4CD4-BFFB-CA05E3CEE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47D4-EC4B-42C4-B193-F01CA2DE3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261A-F263-4038-8189-D0C5DA2C3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9230-59D5-4BE9-A3F6-F47E76243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73C7-D508-4C38-9A38-CBCF7AC86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3899-E52F-44AF-8C24-07F97A9CE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4EC2-45FA-4E0A-B627-F3D1CB2B4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D64C-F267-4637-908E-0538F2898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0DA9-D62F-4A3F-842D-4C5B55590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F1F1-D972-461E-978E-1567F2952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912B-1B91-466B-BF6B-8A76018B8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BDDC-79FD-4187-927F-9F59841D0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7C8C-22FD-4DE4-B73F-3B922B217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DBB5-E923-48A2-A1D5-B6482CFF4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48C5-C449-46CA-BABB-4FDD1BC18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E75F-0382-4519-B99C-754F7E74E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FFB2-D734-45CE-9309-4A7C654CD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CD68-4F6E-4DEE-B362-B155BF760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IMMY STEWART'S WIFE IN "IT'S A WONDERFUL LIFE" AND HAD HER OWN 1958-1966 SIT-C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066680" y="762120"/>
            <a:ext cx="70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INTER HAD A VOLATILE MARRIAGE WITH FRIDA KAHL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  RA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TOOK OVER FOR WALTER CRONKITE AS THE ANCHOR FOR THE "CBS EVENING NEW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NA  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04840" y="762120"/>
            <a:ext cx="6934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VOTED "FEMALE ENTERTAINER OF THE CENTURY" BY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BILLBOARD MAGAZI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  RICK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INSULT COMIC PROVIDED THE VOICE OF MR. POTATO HEAD IN THE "TOY STORY"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0068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IEL  RADCLIF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HARRY POTTER IN 8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NNIS  ROD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KETBALL STAR IS A FRIEND OF KIM JUNG-U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ALD  RUMSF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SECRETARY OF DEFENSE UNDER FORD AND BUSH JR., MAKING HIM BOTH THE YOUNGEST AND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LDEST TO HOLD THAT JO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JANGO  REINHARD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ND MOST SIGNIFICANT JAZZ TALENT TO TALENT TO EMERGE FROM EUR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TOOK OVER FOR WALTER CRONKITE AS THE ANCHOR FOR THE "CBS EVENING NEW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BBIE  REYNO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95280" y="762120"/>
            <a:ext cx="6553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ACTRESS DIED THE DAY AFTER HER DAUGHTER D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NA  R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43000" y="762120"/>
            <a:ext cx="6858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IMMY STEWART'S WIFE IN "IT'S A WONDERFUL LIFE"  AND HAD HER OWN 1958-1966 SIT-C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EGO  RIV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143000" y="762120"/>
            <a:ext cx="6858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INTER HAD A VOLATILE MARRIAGE WITH FRIDA KAHL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VOTED "FEMALE ENTERTAINER OF THE CENTURY" BY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BILLBOARD MAGAZI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INSULT COMIC PROVIDED THE VOICE OF MR. POTATO HEAD IN THE "TOY STORY"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HARRY POTTER IN 8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KETBALL STAR IS A FRIEND OF KIM JUNG-U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SECRETARY OF DEFENSE UNDER FORD AND BUSH JR., MAKING HIM BOTH THE YOUNGEST AND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LDEST TO HOLD THAT JO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ND MOST SIGNIFICANT JAZZ TALENT TO TALENT TO EMERGE FROM EURO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ACTRESS DIED THE DAY AFTER HER DAUGHTER DI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6:12:07Z</dcterms:created>
  <dc:creator>Jennifer Budzinski</dc:creator>
  <dc:description/>
  <dc:language>en-US</dc:language>
  <cp:lastModifiedBy>Erich Friedman</cp:lastModifiedBy>
  <dcterms:modified xsi:type="dcterms:W3CDTF">2020-08-26T19:11:18Z</dcterms:modified>
  <cp:revision>351</cp:revision>
  <dc:subject/>
  <dc:title>Slide 1</dc:title>
</cp:coreProperties>
</file>