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AF50-42F1-46CB-9F1D-1AA646C9B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A709-56FF-4AEC-B568-6B56213C6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3704-C66E-41B5-A3DE-D463D43C6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EC8E-F202-40E6-A5F6-6FCBA4897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F01D-33EB-483B-BC36-33B4A4228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5405-041F-48CC-9435-46162CB59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2C51-5C8A-4C2C-A51C-E3EF8DB1E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25A8-A700-42D1-A6D4-83A38D2EF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FE89-094D-4DA6-B75F-E6AC0C1A6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8863-9D7C-4A72-A352-62B3B9F9A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FAF0-048B-4046-BFB6-82AFB176E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9A65-34B3-4FE8-B5E6-73E245E21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FD4B-3B43-4BA2-8CAE-3C4E35F53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2763-8137-4C03-A208-244FBFB86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19D6-BA2E-45D2-95EA-0DF30B888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9C3D-E601-447E-9015-416364157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492D-1B32-4F0C-907B-BFA713188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7CDD-1FAE-4815-B3BB-92AA1FF30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3636-FBB1-4F14-923C-EFFDEE013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A784-7DD3-4F11-8FAC-70CA7C6BE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9861-72BA-4292-B7C0-E8C76A54B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0EE5-DD1A-4558-BC26-C528F4F65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01F9-6A5A-40A0-BA61-8373A7493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DIRECTOR FOR "THE HURT LOCK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JOHN CUSACK IN "SERENDIPITY", AND OPPOSITE HUGH JACKMAN IN "VAN HELS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AIN  CHARACTERS IN "VERONICA MARS", "FORGETTING SARAH MARSHALL", AND "HOUSE OF L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BE  BRY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OR THE LAKERS FOR 20 YEARS, AND WAS AN ALL-STAR 18 OF THOSE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BA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OWNS SIXDEGREES.O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  BAS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, THE GOLDEN GLOBE, AND THE SAG AWARD FOR BEST SUPPORTING ACTRESS FOR "L.A. CONFIDENTI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HY  B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RESS FOR "MISE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NETH  BRANA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6 FILM ADAPTATIONS OF SHAKESPEARE'S PLAYS, RESULTING IN 3 OSCAR NOMIN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UTHERING HEIGHTS", "BABOOSHKA", "RUNNING UP THAT HILL", AND "DON'T GIVE UP" AS A DUET WITH PETER GABRI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AIN  CHARACTERS IN "VERONICA MARS", "FORGETTING SARAH MARSHALL", AND "HOUSE OF L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 MADE THE DOCUMENTARIES "BASEBALL", "JAZZ", "PROHIBITION", AND "THE ROOSEVEL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HRYN  BIGE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DIRECTOR FOR "THE HURT LOC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BECKINS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JOHN CUSACK IN "SERENDIPITY", AND OPPOSITE HUGH JACKMAN IN "VAN HELS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OR THE LAKERS FOR 20 YEARS, AND WAS AN ALL-STAR 18 OF THOSE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OWNS SIXDEGREES.O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, THE GOLDEN GLOBE, AND THE SAG AWARD FOR BEST SUPPORTING ACTRESS FOR "L.A. CONFIDENTI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RESS FOR "MISE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6 FILM ADAPTATIONS OF SHAKESPEARE'S PLAYS, RESULTING IN 3 OSCAR NOMIN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UTHERING HEIGHTS", "BABOOSHKA", "RUNNING UP THAT HILL", AND "DON'T GIVE UP" AS A DUET WITH PETER GABRI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 MADE THE DOCUMENTARIES "BASEBALL", "JAZZ", "PROHIBITION", AND "THE ROOSEVEL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13:24:09Z</dcterms:created>
  <dc:creator>Jennifer Budzinski</dc:creator>
  <dc:description/>
  <dc:language>en-US</dc:language>
  <cp:lastModifiedBy>Erich Friedman</cp:lastModifiedBy>
  <dcterms:modified xsi:type="dcterms:W3CDTF">2020-08-26T19:16:03Z</dcterms:modified>
  <cp:revision>349</cp:revision>
  <dc:subject/>
  <dc:title>Slide 1</dc:title>
</cp:coreProperties>
</file>