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AC477-000E-4716-BEE9-493BAED191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DDDCE-10EC-4BEA-879A-65BB7E2C9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36F2B-9EEF-4C4E-B1C7-32821D2B14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4CB2D-86F5-42C6-BD4C-643082C0F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04296-3F9A-48E1-84FC-2BE42AAE7F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4A74E-EBE8-4192-BD72-41C5F7F62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5B1BE-8AB3-40F0-8E07-702F2302D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9EC23-0AC8-4C1B-BE06-5C3717D6F2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436AE-9DBC-4F69-9DA8-69BB09B72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681B6-C104-4308-9A9C-FAB6997DD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E6639-51B2-45E6-8DF4-B8D02E9718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D41BB-1107-4DC3-9AA7-0FB875E1A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E1BAA-3EFD-478A-9E9D-291AFF144E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6EA82-4017-4345-A0DE-7AA0F8886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9E19E-2904-4170-B5D3-7BC8B01D3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026F0-1318-4158-A6E3-D5038980A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769E7-6190-4538-8C4A-5853B75AAC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26655-138B-46D7-AFE6-3F076E092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1EA14-AA11-49C6-B8D4-1451C1AF37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0E2B8-0785-4B4E-9D3E-3AD301635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6621C-8DB2-4657-BCFD-2C4764CF67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B4702-0521-42A1-BE06-D23450F1FC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279C0-0ACC-4BD6-AEDE-87EC3B9578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OSCAR FOR BEST DIRECTOR FOR "THE HURT LOCK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19040" y="762120"/>
            <a:ext cx="8305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OPPOSITE JOHN CUSACK IN "SERENDIPITY", AND OPPOSITE HUGH JACKMAN IN "VAN HELS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952880"/>
            <a:ext cx="70106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RISTEN  B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66720" y="762120"/>
            <a:ext cx="78105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MAIN  CHARACTERS IN "VERONICA MARS", "FORGETTING SARAH MARSHALL", AND "HOUSE OF LI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OBE  BRY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143000" y="762120"/>
            <a:ext cx="6858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FOR THE LAKERS FOR 20 YEARS, AND WAS AN ALL-STAR 18 OF THOSE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53352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VIN  BAC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OWNS SIXDEGREES.OR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M  BASIN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00280" y="762120"/>
            <a:ext cx="7543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OSCAR, THE GOLDEN GLOBE, AND THE SAG AWARD FOR BEST SUPPORTING ACTRESS FOR "L.A. CONFIDENTIA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THY  B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1904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OSCAR FOR BEST ACTRESS FOR "MISER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NNETH  BRANAG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028880" y="762120"/>
            <a:ext cx="7086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6 FILM ADAPTATIONS OF SHAKESPEARE'S PLAYS, RESULTING IN 3 OSCAR NOMINA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95288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TE  BU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71680" y="762120"/>
            <a:ext cx="8001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WUTHERING HEIGHTS", "BABOOSHKA", "RUNNING UP THAT HILL", AND "DON'T GIVE UP" AS A DUET WITH PETER GABRI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MAIN  CHARACTERS IN "VERONICA MARS", "FORGETTING SARAH MARSHALL", AND "HOUSE OF LI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3352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N  BUR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MAKER MADE THE DOCUMENTARIES "BASEBALL", "JAZZ", "PROHIBITION", AND "THE ROOSEVELT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THRYN  BIGE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028880" y="762120"/>
            <a:ext cx="7086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OSCAR FOR BEST DIRECTOR FOR "THE HURT LOCK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TE  BECKINS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57200" y="76212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OPPOSITE JOHN CUSACK IN "SERENDIPITY", AND OPPOSITE HUGH JACKMAN IN "VAN HELS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181160" y="761760"/>
            <a:ext cx="6781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FOR THE LAKERS FOR 20 YEARS, AND WAS AN ALL-STAR 18 OF THOSE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OWNS SIXDEGREES.OR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OSCAR, THE GOLDEN GLOBE, AND THE SAG AWARD FOR BEST SUPPORTING ACTRESS FOR "L.A. CONFIDENTIA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OSCAR FOR BEST ACTRESS FOR "MISER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143000" y="761760"/>
            <a:ext cx="6858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6 FILM ADAPTATIONS OF SHAKESPEARE'S PLAYS, RESULTING IN 3 OSCAR NOMINATI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WUTHERING HEIGHTS", "BABOOSHKA", "RUNNING UP THAT HILL", AND "DON'T GIVE UP" AS A DUET WITH PETER GABRIE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38120" y="761760"/>
            <a:ext cx="8267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MAKER MADE THE DOCUMENTARIES "BASEBALL", "JAZZ", "PROHIBITION", AND "THE ROOSEVELT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22T13:24:09Z</dcterms:created>
  <dc:creator>Jennifer Budzinski</dc:creator>
  <dc:description/>
  <dc:language>en-US</dc:language>
  <cp:lastModifiedBy>Erich Friedman</cp:lastModifiedBy>
  <dcterms:modified xsi:type="dcterms:W3CDTF">2020-08-26T19:16:03Z</dcterms:modified>
  <cp:revision>349</cp:revision>
  <dc:subject/>
  <dc:title>Slide 1</dc:title>
</cp:coreProperties>
</file>