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D77-EA36-4991-9335-FB9404977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DA98-8F17-416A-9A9E-01C82E603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8280-BB35-4ADD-97D8-357371AD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076D-44EC-485D-A430-345120B9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97DFB-2489-4CDA-9B40-463DC6C7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756F-EF5A-4FB5-A51D-E30A8CAA5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733-5017-4B39-A6BA-B6BB5262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9EAD-C9D7-4956-B03C-B0DC4B19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F142-F692-4F18-9714-614A30FF4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88F0-BE8D-4A5C-8348-B1E2B1B8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1626-DE5D-48D5-B104-92EF7087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BA16-25FC-4588-8BBD-95FBB7376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0E0C-6C45-4888-AD51-71331176B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5205-DB7E-4BCC-8EBC-0DBF2FEC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565-3B05-4E7D-BAAD-D2DA9EC0D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C0D9-D486-4740-8212-F8F63F1A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4308-D3EF-4281-9688-8EF2D0FE1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38A1-CA4C-435F-AE1E-48CBC8C99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688E-F628-4008-B69C-E2E66061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2E38-D395-433A-8467-B14986A49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38D-FA27-4A88-8E68-0497FE8C1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B41B-5F0F-4B2A-8B68-712B9D5A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FA32-8F41-41F7-B8C4-438E2E2B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BAS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Y  B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NETH  BRANA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AIN  CHARACTERS IN "VERONICA MARS", "FORGETTING SARAH MARSHALL", AND "HOUSE OF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RYN  BIG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HE HURT LOC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BECKINS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JOHN CUSACK IN "SERENDIPITY", AND OPPOSITE HUGH JACKMAN IN "VAN HEL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OR THE LAKERS FOR 20 YEARS, AND WAS AN ALL-STAR 18 OF THOSE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OWNS SIXDEGREES.O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, THE GOLDEN GLOBE, AND THE SAG AWARD FOR BEST SUPPORTING ACTRESS FOR "L.A. CONFIDENTI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ISE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6 FILM ADAPTATIONS OF SHAKESPEARE'S PLAYS, RESULTING IN 3 OSCAR NOMI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UTHERING HEIGHTS", "BABOOSHKA", "RUNNING UP THAT HILL", AND "DON'T GIVE UP" AS A DUET WITH PETER GABRI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"PROHIBITION", AND "THE ROOSEVEL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3:24:09Z</dcterms:created>
  <dc:creator>Jennifer Budzinski</dc:creator>
  <dc:description/>
  <dc:language>en-US</dc:language>
  <cp:lastModifiedBy>Erich Friedman</cp:lastModifiedBy>
  <dcterms:modified xsi:type="dcterms:W3CDTF">2020-08-26T19:16:03Z</dcterms:modified>
  <cp:revision>349</cp:revision>
  <dc:subject/>
  <dc:title>Slide 1</dc:title>
</cp:coreProperties>
</file>