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887F-3069-48D0-91D0-FE5A46774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703A-C8A3-45D3-9E9E-1204F98A4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8BF8-B2D4-49A4-83E1-886BBC936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CE9F-CD7D-4D82-B6CC-48B76B083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9587-F401-42B6-AB7D-8140C9976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616F-FE30-4799-86C0-A076E9A90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67C2-F581-457A-A63C-D9E6BBE36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6DCA-F19A-4146-B5CF-F084277CF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1767-2911-4CA2-94A1-591819B41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7D6A-AB56-4D58-BAE7-A967650D2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9A1B-57D4-4661-B6A1-8DBF81D2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83D1-0DCC-494B-A3AB-EFF61D325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8DC6-28E4-4D67-B91C-5BFA58D3C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8529-AFAF-4EE9-9F3F-AF97D659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B404-83C3-4F4B-88B5-53BB80082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E20A-02E9-4AD0-BE72-282D53B2E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D085-C6F4-4956-AEFA-7F661340E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7A22-A0FD-4953-A2E2-2545C26FF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61AA-7B91-4B21-B274-82D74298E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0263-D155-4E48-A3D6-8E2C40A04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DDDA-913A-4974-AE9E-9433A013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126E-0D93-4FA5-9F83-2CE1B1B9F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D22A-A020-4A85-9F37-A37CEF47C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TWO AND A HALF MEN" WAS BRIEFLY THE HIGHEST PAID ACTOR O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ROKEN ARROW" AND "HARD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  S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OMER WAS THE HOST OF THE ORIGINAL "COSMOS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Y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NTICIPATION" AND "YOU'RE SO V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SCHUL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EW THE COMIC STRIP "PEANU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OS  SA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IST POPULARIZED THE SONG "EVIL WAYS" AND PLAYED GUITAR ON "SMOO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EL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SPOKESPERSON FOR KF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ACE TRAIN" AND "WILD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CK  SCHU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NATE MINORITY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OMER WAS THE HOST OF THE ORIGINAL "COSMOS"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BILL  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ON "MOONLIGHTING" OPPOSITE BRUCE WIL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SH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TWO AND A HALF MEN" WAS BRIEFLY THE HIGHEST PAID ACTOR O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SL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ROKEN ARROW" AND "HARD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NTICIPATION" AND "YOU'RE SO V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EW THE COMIC STRIP "PEANU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IST POPULARIZED THE SONG "EVIL WAYS" AND PLAYED GUITAR ON "SMOO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SPOKESPERSON FOR KF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ACE TRAIN" AND "WILD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NATE MINORITY LEA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ON "MOONLIGHTING" OPPOSITE BRUCE WIL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7T19:18:38Z</dcterms:created>
  <dc:creator>Jennifer Budzinski</dc:creator>
  <dc:description/>
  <dc:language>en-US</dc:language>
  <cp:lastModifiedBy>Erich Friedman</cp:lastModifiedBy>
  <dcterms:modified xsi:type="dcterms:W3CDTF">2020-08-26T19:17:08Z</dcterms:modified>
  <cp:revision>342</cp:revision>
  <dc:subject/>
  <dc:title>Slide 1</dc:title>
</cp:coreProperties>
</file>