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BC5B-0418-4161-ABE8-3280EF04B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FE22-DAC8-426B-8B54-5FAB2F829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D380-6A46-4203-B831-931300B43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8163-E5C2-4AAE-B809-771F4732C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B95F-847E-4D15-9816-2D9B899F4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3ABB-FE74-4A1B-82BE-838ECB519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D478-2E5F-4679-AC97-47561E62C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7AF3-76F6-49ED-BFBC-2526F1F3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9958-0714-4C2B-8C7C-EEB101855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077A-F286-4241-8847-75C12F2F5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A3A2-9C8B-482F-A9E6-8F6082412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9E138-64CD-4572-B58D-20A0F84FF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2F4D-EE79-481A-ABD7-374E4E35D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D55F-8818-4168-AAEA-712FD7AC4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450C-F084-4C29-A3FA-151A07F3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6CD42-7F24-44BA-A0BF-708688E61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3635-B3E2-49DF-903D-9E884BA98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91AB-CB69-41CF-8DA6-EC2A0EDF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44FA-F32D-47EE-AF4D-1024B683F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EF26B-9163-420F-9456-5CF4A456A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A6B-5F2A-46A8-AD85-81B1E8FE0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8C22-7288-4273-84C6-D5A1309DE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8042-A6CB-4426-B5B3-595FD6C01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TWO AND A HALF MEN" WAS BRIEFLY THE HIGHEST PAID ACTOR ON TV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ROKEN ARROW" AND "HARD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  SA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ER WAS THE HOST OF THE ORIGINAL "COSMOS" SE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Y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TICIPATION" AND "YOU'RE SO V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SCHUL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EW THE COMIC STRIP "PEANU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OS  SA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IST POPULARIZED THE SONG "EVIL WAYS" AND PLAYED GUITAR ON "SMO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NEL  SAN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PERSON FOR KF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STEV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04840" y="762120"/>
            <a:ext cx="6934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ACE TRAIN" AND "WILD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CK  SCHUM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INORITY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STRONOMER WAS THE HOST OF THE ORIGINAL "COSMOS" SE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BILL  SHEPHE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ON "MOONLIGHTING" OPPOSITE BRUCE WILL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  SH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"TWO AND A HALF MEN" WAS BRIEFLY THE HIGHEST PAID ACTOR ON TV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SL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BROKEN ARROW" AND "HARD 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ANTICIPATION" AND "YOU'RE SO V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REW THE COMIC STRIP "PEANU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IST POPULARIZED THE SONG "EVIL WAYS" AND PLAYED GUITAR ON "SMO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ARACTER IS THE SPOKESPERSON FOR KF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ACE TRAIN" AND "WILD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INORITY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ON "MOONLIGHTING" OPPOSITE BRUCE WILL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7T19:18:38Z</dcterms:created>
  <dc:creator>Jennifer Budzinski</dc:creator>
  <dc:description/>
  <dc:language>en-US</dc:language>
  <cp:lastModifiedBy>Erich Friedman</cp:lastModifiedBy>
  <dcterms:modified xsi:type="dcterms:W3CDTF">2020-08-26T19:17:08Z</dcterms:modified>
  <cp:revision>342</cp:revision>
  <dc:subject/>
  <dc:title>Slide 1</dc:title>
</cp:coreProperties>
</file>