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6133-4DFD-48C6-A5B4-2C381597D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A2F1-CF33-4FA0-AB06-3EC1E1C15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D4C6-DD32-4400-B7A1-51253D9F0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6CEF-8444-44A1-AB5C-76EFC2B30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19E2-8206-4706-A7BB-66C7ED18F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D820-E163-43DB-97CE-8A2A100F0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2586-C018-4FED-96BA-FA063A828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9504-C415-40A6-9AE4-2E0BDAD16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F89E-F8D4-4E05-8E66-409495D36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5B81-4B5B-4CC9-B904-A1C4AFDF7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07D8-3CBD-4A95-867F-6B7AC4DB3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269E-A5FD-4063-9DEF-55F6179A9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10BD-65DE-4ACD-B15E-5BF593EB5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8BA8-BFA9-4474-A1F9-BE6627D19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8EDB-0664-4B45-AB9C-C8A662DCB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F227-3586-47EF-BF33-4CF908B4F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3002-D404-4A24-B316-80F84EE06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5D42-D8DF-40D4-85CE-18185245E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5940-4C9A-4069-A084-0DA186FBE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8399-F712-4044-8842-B26ABED06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4E9E-64B4-48DA-8A8C-6DE9F19BF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9320-4BE3-444D-8C70-5941486C3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1E93-935F-4AA6-A403-66116BF10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JACKIE CHAN IN 3 "RUSH HOUR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ESIDENT OF LIBERIA 1997-2003 WAS SENTENCED TO 50 YEARS IN PRISON FOR CRIMES AGAINST HUMAN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IZE  THE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333440" y="762120"/>
            <a:ext cx="64771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FOR BEST ACTRESS FOR "MONST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RENCE  THO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38080" y="762120"/>
            <a:ext cx="7467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SUPREME COURT JUDGE HAS SERVED ON THE COURT THE LONG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ROT  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NDUP COMEDIAN IS KNOWN FOR HIS PROP COMEDY AND RED HA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  TH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CKEL CREEK AND PUNCH BROTHERS MANDOLIN PLAYER TOOK OVER "PRAIRIE HOME COMPAN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CELY  TY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FAMOUS FOR PLAYING STRONG BLACK WOMEN WAS A KENNEDY CENTER HONOREE IN 20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WAY  TWIT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876240" y="762120"/>
            <a:ext cx="7391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SINGER WON THE CMA AWARD FOR BEST VOCAL DUO 4 YEARS IN A ROW, WITH LORETTA LYNN EACH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NNING  TAT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MAGIC MIKE", "21 JUMP STREET", AND THEIR SEQUE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FOR BEST ACTRESS FOR "MONST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533520" y="4952880"/>
            <a:ext cx="3809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RYL  TIE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152280" y="838080"/>
            <a:ext cx="48006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CALLED "THE FIRST AMERICAN SUPERMODE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51XygtztApL.jpg"/>
          <p:cNvPicPr/>
          <p:nvPr/>
        </p:nvPicPr>
        <p:blipFill>
          <a:blip r:embed="rId1"/>
          <a:stretch/>
        </p:blipFill>
        <p:spPr>
          <a:xfrm>
            <a:off x="5257800" y="457200"/>
            <a:ext cx="3392640" cy="503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  TU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333440" y="762120"/>
            <a:ext cx="64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JACKIE CHAN IN 3 "RUSH HOUR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TAY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ESIDENT OF LIBERIA 1997-2003 WAS SENTENCED TO 50 YEARS IN PRISON FOR CRIMES AGAINST HUMAN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SUPREME COURT JUDGE HAS SERVED ON THE COURT THE LONG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NDUP COMEDIAN IS KNOWN FOR HIS PROP COMEDY AND RED HA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CKEL CREEK AND PUNCH BROTHERS MANDOLIN PLAYER TOOK OVER "PRAIRIE HOME COMPAN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FAMOUS FOR PLAYING STRONG BLACK WOMEN WAS A KENNEDY CENTER HONOREE IN 201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SINGER WON THE CMA AWARD FOR BEST VOCAL DUO 4 YEARS IN A ROW, WITH LORETTA LYNN EACH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MAGIC MIKE", "21 JUMP STREET", AND THEIR SEQUE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42640"/>
            <a:ext cx="48769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CALLED "THE FIRST AMERICAN SUPERMODE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51XygtztApL.jpg"/>
          <p:cNvPicPr/>
          <p:nvPr/>
        </p:nvPicPr>
        <p:blipFill>
          <a:blip r:embed="rId1"/>
          <a:stretch/>
        </p:blipFill>
        <p:spPr>
          <a:xfrm>
            <a:off x="5257800" y="457200"/>
            <a:ext cx="3392640" cy="5032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2T17:00:54Z</dcterms:created>
  <dc:creator>Jennifer Budzinski</dc:creator>
  <dc:description/>
  <dc:language>en-US</dc:language>
  <cp:lastModifiedBy>Erich Friedman</cp:lastModifiedBy>
  <dcterms:modified xsi:type="dcterms:W3CDTF">2020-08-26T19:14:54Z</dcterms:modified>
  <cp:revision>347</cp:revision>
  <dc:subject/>
  <dc:title>Slide 1</dc:title>
</cp:coreProperties>
</file>