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A4241-E7BC-4319-97FE-9449D1DA90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F76E-DCAE-49FB-8220-E6259011F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2C42-2206-432E-A940-56CA5AF31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59771-9D85-4544-8225-4DA85993B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D0C65-1876-4340-B82B-B9A4924FC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6000B-872D-4EB7-8902-EADE0C50A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692CA-DB41-42FA-B142-7C06A68BA6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6F230-3B19-48D0-A058-D9F8C2293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6E3E2-46B3-4D23-9A6C-B3E490502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3C68E-2551-426B-8543-D899C5D84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FD301-FEE3-4808-85EA-7F37C9534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0FCED-B558-4D9E-B8B9-8E5589B4E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8B536-813E-46E7-8BAC-64CD59504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560C2-46B0-4524-8E89-6221E2847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CE6C3-BB56-48DF-A955-297CD9979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6C6FF-6684-4DDA-A05C-2E613A3EB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0B59A-90E6-40DA-B7FB-AFE88ABFE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CC48D-1541-4090-86E0-88EA9E808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4457B-B2C5-4A48-A080-CDABB2585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AAF0A-BD46-4ECB-9ACB-42C2D4A6A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5A189-0569-4675-BA2A-0833D395C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702CB-79EB-4D7A-8FFB-8C2749BDE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A8B9-80EA-4C70-9BB2-0BF98D820A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47920" y="1523880"/>
            <a:ext cx="62481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/>
          </p:nvPr>
        </p:nvSpPr>
        <p:spPr>
          <a:xfrm>
            <a:off x="1257120" y="761760"/>
            <a:ext cx="6629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WITH JACKIE CHAN IN 3 "RUSH HOUR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533520" y="762120"/>
            <a:ext cx="80769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ESIDENT OF LIBERIA 1997-2003 WAS SENTENCED TO 50 YEARS IN PRISON FOR CRIMES AGAINST HUMAN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IZE  THER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3"/>
          <p:cNvSpPr/>
          <p:nvPr/>
        </p:nvSpPr>
        <p:spPr>
          <a:xfrm>
            <a:off x="1333440" y="762120"/>
            <a:ext cx="64771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OSCAR FOR BEST ACTRESS FOR "MONSTE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LARENCE  THO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"/>
          <p:cNvSpPr/>
          <p:nvPr/>
        </p:nvSpPr>
        <p:spPr>
          <a:xfrm>
            <a:off x="838080" y="762120"/>
            <a:ext cx="74678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URRENT SUPREME COURT JUDGE HAS SERVED ON THE COURT THE LONGE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3"/>
          <p:cNvSpPr/>
          <p:nvPr/>
        </p:nvSpPr>
        <p:spPr>
          <a:xfrm>
            <a:off x="53352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ARROT  T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2"/>
          <p:cNvSpPr/>
          <p:nvPr/>
        </p:nvSpPr>
        <p:spPr>
          <a:xfrm>
            <a:off x="80028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NDUP COMEDIAN IS KNOWN FOR HIS PROP COMEDY AND RED HAI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  TH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2"/>
          <p:cNvSpPr/>
          <p:nvPr/>
        </p:nvSpPr>
        <p:spPr>
          <a:xfrm>
            <a:off x="495360" y="762120"/>
            <a:ext cx="8153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ICKEL CREEK AND PUNCH BROTHERS MANDOLIN PLAYER TOOK OVER "PRAIRIE HOME COMPANION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ICELY  TY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2"/>
          <p:cNvSpPr/>
          <p:nvPr/>
        </p:nvSpPr>
        <p:spPr>
          <a:xfrm>
            <a:off x="647640" y="762120"/>
            <a:ext cx="7848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FAMOUS FOR PLAYING STRONG BLACK WOMEN WAS A KENNEDY CENTER HONOREE IN 2015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NWAY  TWIT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"/>
          <p:cNvSpPr/>
          <p:nvPr/>
        </p:nvSpPr>
        <p:spPr>
          <a:xfrm>
            <a:off x="876240" y="762120"/>
            <a:ext cx="73915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SINGER WON THE CMA AWARD FOR BEST VOCAL DUO 4 YEARS IN A ROW, WITH LORETTA LYNN EACH TI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3"/>
          <p:cNvSpPr/>
          <p:nvPr/>
        </p:nvSpPr>
        <p:spPr>
          <a:xfrm>
            <a:off x="1143000" y="495288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NNING  TAT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"/>
          <p:cNvSpPr/>
          <p:nvPr/>
        </p:nvSpPr>
        <p:spPr>
          <a:xfrm>
            <a:off x="838080" y="762120"/>
            <a:ext cx="74678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MAGIC MIKE", "21 JUMP STREET", AND THEIR SEQUE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257120" y="762120"/>
            <a:ext cx="6629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ON THE OSCAR FOR BEST ACTRESS FOR "MONSTE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3"/>
          <p:cNvSpPr/>
          <p:nvPr/>
        </p:nvSpPr>
        <p:spPr>
          <a:xfrm>
            <a:off x="533520" y="4952880"/>
            <a:ext cx="3809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RYL  TIE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"/>
          <p:cNvSpPr/>
          <p:nvPr/>
        </p:nvSpPr>
        <p:spPr>
          <a:xfrm>
            <a:off x="152280" y="838080"/>
            <a:ext cx="480060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BEEN CALLED "THE FIRST AMERICAN SUPERMODEL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3" descr="51XygtztApL.jpg"/>
          <p:cNvPicPr/>
          <p:nvPr/>
        </p:nvPicPr>
        <p:blipFill>
          <a:blip r:embed="rId1"/>
          <a:stretch/>
        </p:blipFill>
        <p:spPr>
          <a:xfrm>
            <a:off x="5257800" y="457200"/>
            <a:ext cx="3392640" cy="5032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  TU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333440" y="762120"/>
            <a:ext cx="6477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WITH JACKIE CHAN IN 3 "RUSH HOUR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ES  TAYL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2"/>
          <p:cNvSpPr/>
          <p:nvPr/>
        </p:nvSpPr>
        <p:spPr>
          <a:xfrm>
            <a:off x="609480" y="762120"/>
            <a:ext cx="79250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RESIDENT OF LIBERIA 1997-2003 WAS SENTENCED TO 50 YEARS IN PRISON FOR CRIMES AGAINST HUMANIT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URRENT SUPREME COURT JUDGE HAS SERVED ON THE COURT THE LONGE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00280" y="7621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TANDUP COMEDIAN IS KNOWN FOR HIS PROP COMEDY AND RED HAI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ICKEL CREEK AND PUNCH BROTHERS MANDOLIN PLAYER TOOK OVER "PRAIRIE HOME COMPANI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RESS FAMOUS FOR PLAYING STRONG BLACK WOMEN WAS A KENNEDY CENTER HONOREE IN 2015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SINGER WON THE CMA AWARD FOR BEST VOCAL DUO 4 YEARS IN A ROW, WITH LORETTA LYNN EACH TI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STARRED IN "MAGIC MIKE", "21 JUMP STREET", AND THEIR SEQUEL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42640"/>
            <a:ext cx="487692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AS BEEN CALLED "THE FIRST AMERICAN SUPERMODE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0" name="Picture 2" descr="51XygtztApL.jpg"/>
          <p:cNvPicPr/>
          <p:nvPr/>
        </p:nvPicPr>
        <p:blipFill>
          <a:blip r:embed="rId1"/>
          <a:stretch/>
        </p:blipFill>
        <p:spPr>
          <a:xfrm>
            <a:off x="5257800" y="457200"/>
            <a:ext cx="3392640" cy="5032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02T17:00:54Z</dcterms:created>
  <dc:creator>Jennifer Budzinski</dc:creator>
  <dc:description/>
  <dc:language>en-US</dc:language>
  <cp:lastModifiedBy>Erich Friedman</cp:lastModifiedBy>
  <dcterms:modified xsi:type="dcterms:W3CDTF">2020-08-26T19:14:54Z</dcterms:modified>
  <cp:revision>347</cp:revision>
  <dc:subject/>
  <dc:title>Slide 1</dc:title>
</cp:coreProperties>
</file>