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A720-8E92-4D74-9367-6434EE75B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B2C6-801E-417E-9B69-1CA61E88B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F42F-8647-42B5-9492-B2AAD3B27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C976-2FD4-482D-B015-0603F06BB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A50D-22D3-4D75-8748-B6670CCB8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B77A-B245-4EAA-8D44-C9DB3D420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0C5A-44FB-4ECF-A97E-33B7D2B51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83D1-C57A-47AA-A7C4-26080199E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26EC-1DA8-4CE4-A464-4A6578D9C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84F2-EF9D-42BB-BEE5-7922CD4D7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07EA-4B54-4A9E-A84C-1AA92E976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6FD0-5639-454A-8791-461C33902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8D2B-D71D-42AB-AF12-8BBCE3FF0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3A34-4E35-45BC-98E6-06A810A89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FBA8-D127-467B-B231-B6EF12178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65F0-8267-42C9-A87B-DC6D9C87D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B2B0-E608-4956-8702-87E99D0D2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A1BE-0DAA-4676-9C56-EF227EC73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4AAA-1AC7-4064-9239-AF24DB87D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9816-EC17-48DA-B0C6-D4869D4B9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ADB7-C5BA-49FB-9ABD-BB6666C53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0F1A-48C2-4B48-9783-E45824D5C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A7C2-880C-42E1-928F-79CF3D57B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JACKIE CHAN IN 3 "RUSH HOUR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IDENT OF LIBERIA 1997-2003 WAS SENTENCED TO 50 YEARS IN PRISON FOR CRIMES AGAINST HUMAN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ZE  TH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RESS FOR "MONS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ENCE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SUPREME COURT JUDGE HAS SERVED ON THE COURT THE LON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OT  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NDUP COMEDIAN IS KNOWN FOR HIS PROP COMEDY AND RED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T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EL CREEK AND PUNCH BROTHERS MANDOLIN PLAYER TOOK OVER "PRAIRIE HOME COMPAN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CELY  T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FAMOUS FOR PLAYING STRONG BLACK WOMEN WAS A KENNEDY CENTER HONOREE IN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WAY  TWI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87624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INGER WON THE CMA AWARD FOR BEST VOCAL DUO 4 YEARS IN A ROW, WITH LORETTA LYNN EACH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NNING  TA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MAGIC MIKE", "21 JUMP STREET", AND THEIR SEQU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RESS FOR "MONS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533520" y="4952880"/>
            <a:ext cx="3809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YL  TIE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52280" y="838080"/>
            <a:ext cx="4800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CALLED "THE FIRST AMERICAN SUPERMOD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51XygtztApL.jpg"/>
          <p:cNvPicPr/>
          <p:nvPr/>
        </p:nvPicPr>
        <p:blipFill>
          <a:blip r:embed="rId1"/>
          <a:stretch/>
        </p:blipFill>
        <p:spPr>
          <a:xfrm>
            <a:off x="5257800" y="457200"/>
            <a:ext cx="3392640" cy="503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TU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JACKIE CHAN IN 3 "RUSH HOU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IDENT OF LIBERIA 1997-2003 WAS SENTENCED TO 50 YEARS IN PRISON FOR CRIMES AGAINST HUMAN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SUPREME COURT JUDGE HAS SERVED ON THE COURT THE LON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NDUP COMEDIAN IS KNOWN FOR HIS PROP COMEDY AND RED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EL CREEK AND PUNCH BROTHERS MANDOLIN PLAYER TOOK OVER "PRAIRIE HOME COMPAN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FAMOUS FOR PLAYING STRONG BLACK WOMEN WAS A KENNEDY CENTER HONOREE IN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INGER WON THE CMA AWARD FOR BEST VOCAL DUO 4 YEARS IN A ROW, WITH LORETTA LYNN EACH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MAGIC MIKE", "21 JUMP STREET", AND THEIR SEQU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CALLED "THE FIRST AMERICAN SUPERMOD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51XygtztApL.jpg"/>
          <p:cNvPicPr/>
          <p:nvPr/>
        </p:nvPicPr>
        <p:blipFill>
          <a:blip r:embed="rId1"/>
          <a:stretch/>
        </p:blipFill>
        <p:spPr>
          <a:xfrm>
            <a:off x="5257800" y="457200"/>
            <a:ext cx="3392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17:00:54Z</dcterms:created>
  <dc:creator>Jennifer Budzinski</dc:creator>
  <dc:description/>
  <dc:language>en-US</dc:language>
  <cp:lastModifiedBy>Erich Friedman</cp:lastModifiedBy>
  <dcterms:modified xsi:type="dcterms:W3CDTF">2020-08-26T19:14:54Z</dcterms:modified>
  <cp:revision>347</cp:revision>
  <dc:subject/>
  <dc:title>Slide 1</dc:title>
</cp:coreProperties>
</file>