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F3785-59CB-44F6-93B0-0189B32D04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EF18F-9A63-44F9-A2F3-2BFCE0861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EAE7F-36DE-4A23-8E1C-981AF7533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9912E-7593-444E-B59D-47F471723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5ECC7-3337-4D50-82B6-6C2117C28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29C7A-E8A7-4689-A31F-A9C387E84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72C62-5697-4FA1-B94D-5D552067F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4BDC4-47ED-4A52-BECE-FB82F1959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C975C-A294-415C-9308-20C6DE3B2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862DE-2D90-4F39-9967-1ABCDEAC3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9819D-E8DF-4825-882D-ECB62A2AB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5C4CA-C85B-43EE-B4C9-BB68798AD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CD0B0-1ADF-47D6-96CA-F8D02C6F4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5C5E8-9BC2-45A6-B39C-A4110E6B6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39B4F-F313-4AE0-B9CA-E9EE61E88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5ECCC-2AEA-48FB-AFB2-2E7C021BB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7E0CD-A239-49D7-BEC7-F4A3356FA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5BE0D-28ED-41DF-8698-7D5AA22D0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532F9-D992-4F79-9117-D7D511417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54402-93F6-45F6-99E3-2071AA0EF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7411A-FB86-4707-98F5-6A817F767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9DCFD-CA87-4CBC-8D8B-A0849B95F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EA804-E524-41F1-AAFE-CCD767218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AWYER SERVED AS DEFENSE COUNSEL IN THE SCOPES "MONKEY" TRI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295280" y="762120"/>
            <a:ext cx="65534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#1 HIT "THE DEVIL WENT DOWN TO GEORGI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ES  DARW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371600" y="762120"/>
            <a:ext cx="6400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ON THE ORIGIN OF SPECI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MERON  DIA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 IN "THERE'S SOMETHING ABOUT MA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ES  DICK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GREAT EXPECTATION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AIRE  DA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 IN "TEMPLE GRANDI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AUDE  DEBUSS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ENCHMAN COMPOSED "NOCTURNES" AND "IMAG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ISTIAN  DI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066680" y="762120"/>
            <a:ext cx="70106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ENCH FASHION DESIGNER FOUNDED ONE OF THE WORLD'S TOP FASHION HOUSES BEFORE DYING IN 195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95288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SON  DA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S NBC'S LATE NIGHT TALK SHOW "LAST CAL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ON THE ORIGIN OF SPECI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ECIL  DEMIL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38080" y="762120"/>
            <a:ext cx="7467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UNDING FATHER OF AMERICAN CINEMA IS THE MOST COMMERCIALLY SUCCESSFUL PRODUCER &amp; DIRECTOR IN HISTO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ARENCE  DARR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76240" y="762120"/>
            <a:ext cx="73915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AWYER SERVED AS DEFENSE COUNSEL IN THE SCOPES "MONKEY" TRI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IE  DANI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295280" y="762120"/>
            <a:ext cx="65534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#1 HIT "THE DEVIL WENT DOWN TO GEORGI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 IN "THERE'S SOMETHING ABOUT MAR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GREAT EXPECTATION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 IN "TEMPLE GRANDI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ENCHMAN COMPOSED "NOCTURNES" AND "IMAG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ENCH FASHION DESIGNER FOUNDED ONE OF THE WORLD'S TOP FASHION HOUSES BEFORE DYING IN 195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S NBC'S LATE NIGHT TALK SHOW "LAST CAL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UNDING FATHER OF AMERICAN CINEMA IS THE MOST COMMERCIALLY SUCCESSFUL PRODUCER &amp; DIRECTOR IN HISTO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0-08-26T19:21:12Z</dcterms:modified>
  <cp:revision>347</cp:revision>
  <dc:subject/>
  <dc:title>Slide 1</dc:title>
</cp:coreProperties>
</file>