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8195-193E-4BF4-B500-465047338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1F5C-4EEB-4A1B-B2BB-4F3473C7C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1EE2-ADA5-413C-9614-968CD0805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36C1-2B95-4B6B-B519-D8E7AE1F9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2D2A-4B84-4EE3-B01D-B56CB063D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7876-DB2C-451C-BBF2-17DC383A2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8AA1-CE46-48B7-A859-2AA9F3A27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C325-32F7-47E6-9513-29908A450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458E-A3F9-4ADF-991A-6C2D17540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16B7-316E-4059-907E-5F1C85084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51F3-72E0-444C-A36A-EB62BC828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542E-31B9-4D41-9CE2-AC6EAB33B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C1E4-025A-4967-BA9A-EAA70D2DC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8CDD-198F-40D9-A403-11C6F8D89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F6DC-D096-43D2-9DAE-737AC05D2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46DE-A971-48EF-9388-3B9059EA2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981B-52DB-415C-BE22-004B63355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C357-218E-4F86-BF45-DBB3EF3D7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4736-1829-4D97-962B-1EEE0CCBC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AFC0-A77D-461A-9A60-F925C4E0E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3F89-D23D-4B22-AC85-4A3387118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3FB8-E367-4911-87F1-6DC37503F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E17C-17B6-4DCF-8B0D-2B58D59AB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WYER SERVED AS DEFENSE COUNSEL IN THE SCOPES "MONKEY" TRI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HIT "THE DEVIL WENT DOWN TO GEORG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DAR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71600" y="762120"/>
            <a:ext cx="6400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ON THE ORIGIN OF SPEC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ERON  DI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"THERE'S SOMETHING ABOUT M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DICK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GREAT EXPECTATI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IRE  D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"TEMPLE GRAND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UDE  DEBUS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MAN COMPOSED "NOCTURNES" AND "IMAG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AN  D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FASHION DESIGNER FOUNDED ONE OF THE WORLD'S TOP FASHION HOUSES BEFORE DYING IN 195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SON  D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S NBC'S LATE NIGHT TALK SHOW "LAST C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ON THE ORIGIN OF SPEC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CIL  DEMI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ING FATHER OF AMERICAN CINEMA IS THE MOST COMMERCIALLY SUCCESSFUL PRODUCER &amp; DIRECTOR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ENCE  DA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WYER SERVED AS DEFENSE COUNSEL IN THE SCOPES "MONKEY" TR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DANI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95280" y="762120"/>
            <a:ext cx="6553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HIT "THE DEVIL WENT DOWN TO GEORG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"THERE'S SOMETHING ABOUT M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GREAT EXPECTATI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"TEMPLE GRAND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MAN COMPOSED "NOCTURNES" AND "IMAG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FASHION DESIGNER FOUNDED ONE OF THE WORLD'S TOP FASHION HOUSES BEFORE DYING IN 195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S NBC'S LATE NIGHT TALK SHOW "LAST C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ING FATHER OF AMERICAN CINEMA IS THE MOST COMMERCIALLY SUCCESSFUL PRODUCER &amp; DIRECTOR IN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6T19:21:12Z</dcterms:modified>
  <cp:revision>347</cp:revision>
  <dc:subject/>
  <dc:title>Slide 1</dc:title>
</cp:coreProperties>
</file>