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7B28-F4F0-4BE9-9598-45A552500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346D-AD8D-4285-8C3A-8F86066DC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1F45-4522-4FEB-B726-4C9FDDD04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0E82-7E9F-4D09-8EFC-F78DB27CC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0595-3668-4635-B0E3-A136E8676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28A3-87F9-4943-B580-2A9C45C21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97B8-876D-431C-9B73-A5F762BBC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2067-4DED-48BB-B89C-92220F9B6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E787-D20D-49BD-A427-1332731BC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69EE-F7F8-402A-A411-E053A8582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E3E0-EAF4-4452-A131-D9D895FE9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AC93-2063-41A0-95BA-9A8A4045B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D94D-AB41-408A-8428-55F34756A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268E-0A4B-4F95-86F2-86E3CBB42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8831-0310-42D2-8319-934863D9A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0357-C327-4A96-AFF3-22DF491B5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A9EA-86BE-4749-8CBB-DE99C3BCC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2E2F-EECC-4F88-8B8B-5636DA46B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9166-3F78-4D82-8E10-2721565E3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E47A-2931-43B3-B744-7C7C850BA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8EC3-150E-44AB-9590-48D6A432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2726-B66B-401C-9178-2BE11234B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F9A3-70BB-48B5-A5D3-2B88F2118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SERVED AS DEFENSE COUNSEL IN THE SCOPES "MONKEY" T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 "THE DEVIL WENT DOWN TO GEORG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71600" y="762120"/>
            <a:ext cx="640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N THE ORIGIN OF SPEC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  DI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HERE'S SOMETHING ABOUT M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IC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REAT EXPECTATI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IRE  D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EMPLE GRAND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UDE  DEBUS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MAN COMPOSED "NOCTURNES" AND "IMAG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N  D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FASHION DESIGNER FOUNDED ONE OF THE WORLD'S TOP FASHION HOUSES BEFORE DYING IN 195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ON  D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NBC'S LATE NIGHT TALK SHOW "LAST C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N THE ORIGIN OF SPEC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CIL  DEM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OF AMERICAN CINEMA IS THE MOST COMMERCIALLY SUCCESSFUL PRODUCER &amp; DIRECTOR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ENCE  D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SERVED AS DEFENSE COUNSEL IN THE SCOPES "MONKEY" T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DANI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95280" y="762120"/>
            <a:ext cx="6553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 "THE DEVIL WENT DOWN TO GEORG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HERE'S SOMETHING ABOUT M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REAT EXPECTATI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EMPLE GRAND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MAN COMPOSED "NOCTURNES" AND "IMAG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FASHION DESIGNER FOUNDED ONE OF THE WORLD'S TOP FASHION HOUSES BEFORE DYING IN 195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NBC'S LATE NIGHT TALK SHOW "LAST C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OF AMERICAN CINEMA IS THE MOST COMMERCIALLY SUCCESSFUL PRODUCER &amp; DIRECTOR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19:21:12Z</dcterms:modified>
  <cp:revision>347</cp:revision>
  <dc:subject/>
  <dc:title>Slide 1</dc:title>
</cp:coreProperties>
</file>