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6305-4F1A-436F-9BD3-E943321CD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EE85-7144-446A-998C-25D516811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96C1-3887-4216-AA1A-F94835072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A053-40B3-4B06-9F67-8722DEF56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DBEF-EBB4-491B-AAA5-3513A0ED7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9F66-A7BC-48C9-9120-B1575CEF8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C41F7-9DAF-4A9C-8F26-17302B632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055B-6608-4762-AEB1-1A8A480EB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E27C-6397-49C3-9085-5D5957374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865C-7822-4797-A221-2D6A1F510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A3D3-637C-491F-8FA5-402B0F30D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198B-2F41-4443-A585-56B2925B1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5C8F-068E-47DA-9F6A-9274DFC15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47AB-5725-435E-B4D6-663C1D58C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A5E1-E322-4474-B415-FC5CE52C3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1221-0E22-484C-B8E3-5E2A43E3A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2871-31D2-4040-ACA5-EB47D8C9D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F024-6288-4A91-BAC1-5B05FAF78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5DB8-630E-4983-A32A-4D5A9D61A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5412-4B92-4E96-B30D-2DD1B4302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6A41-80D0-4961-B00E-42B5DFAED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6B21-6EE9-48B2-9E7B-81373B0CF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5009-8DD6-4201-87F0-BD091A94D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562040" y="761760"/>
            <a:ext cx="6019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CULPTED "THE AGE OF BRONZE" AND "THE THINK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THE WEATHERMAN ON NBC'S "TODAY" FOR 22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  RODRIGU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15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 YORK YANKEE HOLDS THE RECORD FOR CAREER GRAND SLAM HOME RU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08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Y  RO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THE LAST FEW MINUTES OF "60 MINUTES" FOR 33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E  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81160" y="76212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VAMPIRE CHRONIC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XL  R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SINGER OF "GUNS N' ROS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YN  R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ATLAS SHRUGG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Y  RODD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19320" y="762120"/>
            <a:ext cx="67053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ST AMERICAN MAN TO BE RANKED #1 IN THE WORLD IN TENN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ARON  RO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QUARTERBACK FOR THE GREEN BAY PACK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 YORK YANKEE HOLDS THE RECORD FOR CAREER GRAND SLAM HOME RU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  RICH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GOVERNOR OF TEXAS RIGHT BEFORE GEORGE W. BU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GUSTE  ROD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638360" y="762120"/>
            <a:ext cx="5867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CULPTED "THE AGE OF BRONZE" AND "THE THINK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  RO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THE WEATHERMAN ON NBC'S "TODAY" FOR 22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THE LAST FEW MINUTES OF "60 MINUTES" FOR 33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VAMPIRE CHRONIC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SINGER OF "GUNS N' ROS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ATLAS SHRUGG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ST AMERICAN MAN TO BE RANKED #1 IN THE WORLD IN TENN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QUARTERBACK FOR THE GREEN BAY PACK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GOVERNOR OF TEXAS RIGHT BEFORE GEORGE W. BU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5:54:42Z</dcterms:created>
  <dc:creator>Jennifer Budzinski</dc:creator>
  <dc:description/>
  <dc:language>en-US</dc:language>
  <cp:lastModifiedBy>Erich Friedman</cp:lastModifiedBy>
  <dcterms:modified xsi:type="dcterms:W3CDTF">2020-08-26T19:22:24Z</dcterms:modified>
  <cp:revision>346</cp:revision>
  <dc:subject/>
  <dc:title>Slide 1</dc:title>
</cp:coreProperties>
</file>