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070B-1815-41B3-B682-4554D6EAF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31E7-1EC0-4E91-9ECB-4F30B873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5257-26DB-4A67-AE2D-686DD8DD3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9BA4-2812-4825-87C4-6D26C367E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C96D-4D01-47AB-9E7B-A2D4B046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59EF-418F-4091-ABC2-6B6A1C81F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178A-10FE-431C-A02B-A79EE6E2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8E3D-9A09-4609-AF4F-A626F8631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7F44-A217-492E-99A6-DA0ED62CF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BE5C-4B63-4591-95D4-D8328C2D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3B21-A8A7-4A54-8EEB-6E6812DA9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AC7E-7E5E-4CE8-B48F-DF4D2D55D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C5A2-EE22-4807-A1E7-6F98E23C1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543D-E051-4FE8-BA15-AA6F7B97A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8AE8-976B-449A-B42C-140B32FE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4CE4-A012-4E9D-9FD6-38D2721A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BEA9-0184-4EAD-9723-4F1799D20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1ABE-F9BA-45A9-B8A7-158369CC2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1915-9287-46B8-A455-5DB08091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F46E-2580-4671-B404-2F2A9D7F7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4F94-536E-4A78-B1E0-8EA0DA255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2069-CFD4-4578-A7A0-66599F58D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9C49-DA92-4690-81EA-D6A96662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62040" y="76176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CULPTED "THE AGE OF BRONZE" AND "THE THIN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WEATHERMAN ON NBC'S "TODAY" FOR 2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YANKEE HOLDS THE RECORD FOR CAREER GRAND SLAM HOME RU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0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LAST FEW MINUTES OF "60 MINUTES" FOR 33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VAMPIRE CHRONI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L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"GUNS N' RO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YN  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TLAS SHRUGG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ROD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MAN TO BE RANKED #1 IN THE WORLD IN TENN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QUARTERBACK FOR THE GREEN BAY PA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YANKEE HOLDS THE RECORD FOR CAREER GRAND SLAM HOME RU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  RICH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TEXAS RIGHT BEFORE GEORGE W. BU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GUSTE  ROD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38360" y="762120"/>
            <a:ext cx="586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CULPTED "THE AGE OF BRONZE" AND "THE THIN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R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WEATHERMAN ON NBC'S "TODAY" FOR 2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LAST FEW MINUTES OF "60 MINUTES" FOR 33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VAMPIRE CHRONI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"GUNS N' RO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TLAS SHRUGG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MAN TO BE RANKED #1 IN THE WORLD IN TENN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QUARTERBACK FOR THE GREEN BAY PACK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TEXAS RIGHT BEFORE GEORGE W. BU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5:54:42Z</dcterms:created>
  <dc:creator>Jennifer Budzinski</dc:creator>
  <dc:description/>
  <dc:language>en-US</dc:language>
  <cp:lastModifiedBy>Erich Friedman</cp:lastModifiedBy>
  <dcterms:modified xsi:type="dcterms:W3CDTF">2020-08-26T19:22:24Z</dcterms:modified>
  <cp:revision>346</cp:revision>
  <dc:subject/>
  <dc:title>Slide 1</dc:title>
</cp:coreProperties>
</file>