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7D0F-BE1E-489E-9F04-C12AE6411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E53C-3F70-4C67-B715-E65D5C022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F320-813A-4AD2-8DA4-B3B419C4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BCE9-5267-4664-9B9D-F41B9A3E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5758-0434-473F-A002-0E9C908C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E3FB-553F-4B1E-964B-C6E4272A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E6E6-EDCC-4BDD-A03E-17A75B3E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7C7D-EEC1-4559-8592-AEAFAF5F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EDC0-00F5-4C1E-9EA9-2E0B46E46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221A-2356-4F2A-82C7-135E2587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7FD2-80D8-402D-9D36-516E17A2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104F-172E-4F22-A15A-B4019E988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F079-ADA0-4B24-9773-52BC39719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96B-3946-48DA-985D-07BF90AFC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FB77-DBCC-4CA4-8032-EC4BB356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339C-B334-4F64-849D-906716A1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E46B-EBDB-4D96-82CF-CE968E80C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2D8B-9A00-45B8-A432-C2D7435A2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0183-56EB-4013-BD9C-4A167FB1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A3C4-038F-435E-9DB9-3BFBF494F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709B-6903-432B-BB64-6B63BCC1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442D-F047-40EC-8741-7FBC2AC6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94FA-E117-4ADE-A98C-E47A33CB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CCESSFULLY LOBBIED CONGRESS TO CREATE THE FIRST GENERATION OF MENTAL ASYL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LLY MAY CLAMPETT ON "THE BEVERLEY HILLBIL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73160" y="487692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NY  DEV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WINS", "RUTHLESS PEOPLE",   "TIN MEN", AND "THROW MOMMA FROM A T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DUCHOV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 AWARDS FOR "THE X-FILES" AND "CALIFORNIC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"THE MAN WHO KNEW TOO MUCH" AND "CALAMITY J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DEF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ROBINSON CRUSO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Y  DAND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, SINGER, AND DANCER WAS THE FIRST BLACK WOMAN NOMINATED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A  DEL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CHARACTERS MEGAN HUNT ON "BODY OF PROOF" AND CRYSTAL HARRIS ON "HAND OF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GRAND WIZARD OF THE KU KLUX KLAN WAS A LOUISIANA STATE REPRESENT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WINS", "RUTHLESS PEOPLE", "TIN MEN", AND "THROW MOMMA FROM A T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  DEL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STARRED WITH BEST FRIEND BURT REYNOLDS IN "THE END",   "THE CANNONBALL RUN", AND "SMOKEY AND THE BANDIT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EA  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CCESSFULLY LOBBIED CONGRESS TO CREATE THE FIRST GENERATION OF MENTAL ASYL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LLY MAY CLAMPETT ON "THE BEVERLEY HILLBIL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 AWARDS FOR "THE X-FILES" AND "CALIFORNIC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"THE MAN WHO KNEW TOO MUCH" AND "CALAMITY J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ROBINSON CRUSO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, SINGER, AND DANCER WAS THE FIRST BLACK WOMAN NOMINATED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CHARACTERS MEGAN HUNT ON "BODY OF PROOF" AND CRYSTAL HARRIS ON "HAND OF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GRAND WIZARD OF THE KU KLUX KLAN WAS A LOUISIANA STATE REPRESENTA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STARRED WITH BEST FRIEND BURT REYNOLDS IN "THE END",   "THE CANNONBALL RUN", AND "SMOKEY AND THE BANDIT 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7:58:19Z</dcterms:created>
  <dc:creator>Jennifer Budzinski</dc:creator>
  <dc:description/>
  <dc:language>en-US</dc:language>
  <cp:lastModifiedBy>Erich Friedman</cp:lastModifiedBy>
  <dcterms:modified xsi:type="dcterms:W3CDTF">2020-08-26T19:22:56Z</dcterms:modified>
  <cp:revision>353</cp:revision>
  <dc:subject/>
  <dc:title>Slide 1</dc:title>
</cp:coreProperties>
</file>