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F556-9C70-4BFE-B3A1-84AD3BD178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FD21-CEFB-4C6A-9B3A-EB322899F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8C6E-3004-4386-B43E-7461FEC0F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4B12-0D2B-4F94-B747-D1DF55BB3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A0CD-B025-43CA-AC74-CC5152252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839C-4171-41CA-A3CC-B7E4CED21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6C13-20DB-460B-9EBE-4825EC750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FDEB-1D20-41A6-BEBA-CC6EBC9B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E4CB1-DC90-4F20-974E-ED8253F94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1E5B-2FB5-4FD0-9030-EB929FEBC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E08F-0BFC-442B-94B8-2AFCB1244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AF77-819F-4B72-8F14-63D35E862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66C4F-AFA4-4C67-ABA2-2C495CBF3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589-981D-4656-9074-F65F6EE5E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B80D-E0AA-4D7C-A9BE-FE9254A59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BB00-5815-4040-898A-EF548E5BA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89A7-17B0-4941-85FD-9477DBCA9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EC91-9CF5-4BED-A1B4-B78BC30C7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4D08E-8A73-4B73-B478-AF20D3B09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E3EF-F9C0-42B7-9C73-647D04AEA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FC36-33CA-4B7C-B09C-3F38D2152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8B5B-BBBE-4BD9-8829-E8313B6D1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BC14-E8F2-4C0D-96D1-BD8E26E04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CCESSFULLY LOBBIED CONGRESS TO CREATE THE FIRST GENERATION OF MENTAL ASYLU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LLY MAY CLAMPETT ON "THE BEVERLEY HILLBIL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73160" y="4876920"/>
            <a:ext cx="7010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NY  DEVI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4300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WINS", "RUTHLESS PEOPLE",   "TIN MEN", AND "THROW MOMMA FROM A TRAI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DUCHOV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23960" y="762120"/>
            <a:ext cx="7696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 AWARDS FOR "THE X-FILES" AND "CALIFORNICAT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IS  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"THE MAN WHO KNEW TOO MUCH" AND "CALAMITY J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IEL  DEF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ROBINSON CRUSO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Y  DANDRI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, SINGER, AND DANCER WAS THE FIRST BLACK WOMAN NOMINATED FOR BEST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A  DEL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723960" y="762120"/>
            <a:ext cx="769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CHARACTERS MEGAN HUNT ON "BODY OF PROOF" AND CRYSTAL HARRIS ON "HAND OF G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DU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GRAND WIZARD OF THE KU KLUX KLAN WAS A LOUISIANA STATE REPRESENT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WINS", "RUTHLESS PEOPLE", "TIN MEN", AND "THROW MOMMA FROM A TRAI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  DELU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STARRED WITH BEST FRIEND BURT REYNOLDS IN "THE END",   "THE CANNONBALL RUN", AND "SMOKEY AND THE BANDIT I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OTHEA  D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UCCESSFULLY LOBBIED CONGRESS TO CREATE THE FIRST GENERATION OF MENTAL ASYLU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NA  DOUG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ELLY MAY CLAMPETT ON "THE BEVERLEY HILLBILL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GOLDEN GLOBE AWARDS FOR "THE X-FILES" AND "CALIFORNIC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EMALE LEAD IN "THE MAN WHO KNEW TOO MUCH" AND "CALAMITY J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ROBINSON CRUSO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, SINGER, AND DANCER WAS THE FIRST BLACK WOMAN NOMINATED FOR BEST ACTRES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LEAD CHARACTERS MEGAN HUNT ON "BODY OF PROOF" AND CRYSTAL HARRIS ON "HAND OF G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GRAND WIZARD OF THE KU KLUX KLAN WAS A LOUISIANA STATE REPRESENTA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IC ACTOR STARRED WITH BEST FRIEND BURT REYNOLDS IN "THE END",   "THE CANNONBALL RUN", AND "SMOKEY AND THE BANDIT I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7:58:19Z</dcterms:created>
  <dc:creator>Jennifer Budzinski</dc:creator>
  <dc:description/>
  <dc:language>en-US</dc:language>
  <cp:lastModifiedBy>Erich Friedman</cp:lastModifiedBy>
  <dcterms:modified xsi:type="dcterms:W3CDTF">2020-08-26T19:22:56Z</dcterms:modified>
  <cp:revision>353</cp:revision>
  <dc:subject/>
  <dc:title>Slide 1</dc:title>
</cp:coreProperties>
</file>