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DAFD-1E5E-4ABC-ACDB-5A6EFB4DA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2728-CB1F-4F32-8170-363BCE40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5357-91BE-4541-BE7A-0E63411D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2543-1DDE-4BA1-8D39-2E331A90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C5D8-FAD0-4297-B7A8-95D8C27B0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C115-80A5-42C5-8DC5-569042DE5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A5F2-0790-402C-A309-B8306D3F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1DE5-0D58-4B73-B81C-A2028420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82CA-FB57-4574-88A5-8E1485453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4D49-548A-430C-BDC9-59181C97A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5C14-3D62-4C68-B93B-36FA248DD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A7B5-340E-49F3-A6F8-16BF52B98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72E8-4F3C-4434-8C75-28C13AE7E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F606-AC0E-4B20-8117-FD02CA335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A6DF-C747-4F17-B25F-4F7DCB23C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4F79-A18A-4E11-8031-70D8184F2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9B03-2FF8-4905-92BD-8F2A7E2D7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B1CE-C08C-480B-8FF5-AB52D6B41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099B-B786-4B1E-A264-954F4EED8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9E7-C3B6-4AC0-81D9-595BAFE74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5C0E-8F0F-4603-9CC2-0D59FE434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B012-3D64-434B-8216-321F4C16D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8889-141F-42D7-9D60-9A348BEA1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04760" y="761760"/>
            <a:ext cx="713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INA TURNER IN "WHAT'S LOVE GOT TO DO WITH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THE KIDS ARE ALL RIGHT", "AMERICAN BEAUTY", "THE GRIFTERS", AND "BEING JUL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BAL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7880" y="762120"/>
            <a:ext cx="724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DONALD TRUMP REGULARLY ON "SATURDAY NIGHT 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O  BANDE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1120" y="762120"/>
            <a:ext cx="77817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ON THE MOVIE POSTERS FOR "EVITA" BESIDES MADO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NDA  B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47600" y="762120"/>
            <a:ext cx="704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WHAT A GIRL WANTS", "SHE'S THE MAN", AND "SYDNEY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IGAIL  BRES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49280" y="762120"/>
            <a:ext cx="824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LITTLE MISS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RIEN  BR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11280" y="762120"/>
            <a:ext cx="7921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PIANIST" WHEN HE WAS ONLY 29, MAKING HIM THE YOUNGEST WINNER EVER IN THAT CATEG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SON  B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NIE EDISON ON "COMMUNITY" AND TRUDY CAMPBELL ON "MA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BANCR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DONALD TRUMP REGULARLY ON "SATURDAY NIGHT 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IS  BLE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RY GILMORE ON "THE GILMORE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BASS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28800" y="762120"/>
            <a:ext cx="728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INA TURNER IN "WHAT'S LOVE GOT TO DO WITH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TTE  B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THE KIDS ARE ALL RIGHT", "AMERICAN BEAUTY", "THE GRIFTERS", AND "BEING JUL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0360" y="761760"/>
            <a:ext cx="7881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ON THE MOVIE POSTERS FOR "EVITA" BESIDES MADO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WHAT A GIRL WANTS", "SHE'S THE MAN", AND "SYDNEY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RESS FOR "LITTLE MISS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PIANIST" WHEN HE WAS ONLY 29, MAKING HIM THE YOUNGEST WINNER EVER IN THAT CATEG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NNIE EDISON ON "COMMUNITY" AND TRUDY CAMPBELL ON "MAD 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66840" y="761760"/>
            <a:ext cx="6610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MIRACLE WOR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RY GILMORE ON "THE GILMORE 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22:12:27Z</dcterms:modified>
  <cp:revision>362</cp:revision>
  <dc:subject/>
  <dc:title>Slide 1</dc:title>
</cp:coreProperties>
</file>