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0DA5-0E1F-4578-A057-40A202076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279E-0CF4-4E2F-AD93-4B49D2366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3E17-E226-45D3-B1A5-44B5178D4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44E5-838E-41FE-821D-AB4370DE6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FD90-19FA-48B7-8579-40E876BF7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DD66-F889-4E06-A814-21480AE97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C21C-DEFE-4A4C-85D7-5E10A5B3A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BED6-5408-459A-B0F0-82786229B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9FB3-B108-4AFB-BE20-ABC65E08B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39F1-C26F-4726-9A19-66F62670C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CC4C-CFEE-4709-94CD-694C91990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96F6-3BB2-4DEF-82A3-C34D4D281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54B5-CB54-4BE8-BD52-70F35C50F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71E4-8323-4CCF-B14C-0B45D4F41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9BB9-71F2-4E52-B216-60657D03D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A90A-CF53-4039-BDB6-5EF16155C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1DF3-7225-4DF2-B53D-42C775433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C5FA-DB97-4265-9677-BD5650A70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EA21-E547-41BA-AF5E-3D6E641A6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F711-2A36-4650-A914-E8E56CDAE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8127-D23B-41DC-A92B-D15E36C26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6F91-23C6-4D7C-8B5D-0D4695786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F0E2-0F8E-44F7-8C06-CE7153DA5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04760" y="761760"/>
            <a:ext cx="713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INA TURNER IN "WHAT'S LOVE GOT TO DO WITH 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24000" y="762120"/>
            <a:ext cx="8496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OSCAR-NOMINATED FOR "THE KIDS ARE ALL RIGHT", "AMERICAN BEAUTY", "THE GRIFTERS", AND "BEING JUL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C  BALD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47880" y="762120"/>
            <a:ext cx="7248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DONALD TRUMP REGULARLY ON "SATURDAY NIGHT LI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ONIO  BANDE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1120" y="762120"/>
            <a:ext cx="77817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PPEARED ON THE MOVIE POSTERS FOR "EVITA" BESIDES MADON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ANDA  BY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47600" y="762120"/>
            <a:ext cx="704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WHAT A GIRL WANTS", "SHE'S THE MAN", AND "SYDNEY WHI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IGAIL  BRES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49280" y="762120"/>
            <a:ext cx="8245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SUPPORTING ACTRESS FOR "LITTLE MISS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RIEN  BR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11280" y="762120"/>
            <a:ext cx="7921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HE PIANIST" WHEN HE WAS ONLY 29, MAKING HIM THE YOUNGEST WINNER EVER IN THAT CATEG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SON  B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NNIE EDISON ON "COMMUNITY" AND TRUDY CAMPBELL ON "MAD M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  BANCRO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33440" y="762120"/>
            <a:ext cx="6477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HE MIRACLE WORK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DONALD TRUMP REGULARLY ON "SATURDAY NIGHT LI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IS  BLE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71520" y="762120"/>
            <a:ext cx="8400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ORY GILMORE ON "THE GILMORE GIR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A  BASS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28800" y="762120"/>
            <a:ext cx="7286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INA TURNER IN "WHAT'S LOVE GOT TO DO WITH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TTE  B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14280" y="762120"/>
            <a:ext cx="851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OSCAR-NOMINATED FOR "THE KIDS ARE ALL RIGHT", "AMERICAN BEAUTY", "THE GRIFTERS", AND "BEING JUL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30360" y="761760"/>
            <a:ext cx="7881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PPEARED ON THE MOVIE POSTERS FOR "EVITA" BESIDES MADON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WHAT A GIRL WANTS", "SHE'S THE MAN", AND "SYDNEY WHI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SUPPORTING ACTRESS FOR "LITTLE MISS SUNSH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HE PIANIST" WHEN HE WAS ONLY 29, MAKING HIM THE YOUNGEST WINNER EVER IN THAT CATEG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NNIE EDISON ON "COMMUNITY" AND TRUDY CAMPBELL ON "MAD M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66840" y="761760"/>
            <a:ext cx="6610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HE MIRACLE WORK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ORY GILMORE ON "THE GILMORE GIR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6T22:12:27Z</dcterms:modified>
  <cp:revision>362</cp:revision>
  <dc:subject/>
  <dc:title>Slide 1</dc:title>
</cp:coreProperties>
</file>