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E50B-8C0C-490C-AFCD-E1BA66E9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5F8-CBEE-4783-A9E2-2CB21E35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650-3543-4BC9-9AF8-10F5F8C0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C81-586B-4A83-ACC2-6E1E0F8F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655E-715B-4315-933F-172C0CCB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93B-CDF3-4763-AB09-3127B8FB3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E31E-2F7D-4D51-BA8E-CFB9E006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DEA-CA43-48D6-AC26-5D91D360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FE7-D341-4B69-8739-F127A676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B7B-45E1-4409-BA94-8C159135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53FB-21C6-4887-923A-41784E44F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0D14-23A4-48D0-834F-51DD16E30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7D4A-FC6E-4FF9-85A8-0EF64CA7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7D21-6EFC-4AB2-BB88-D8A61618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C8F-2532-467F-9714-1F7EEFF1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A78C-AA4F-4A77-B21F-6601D5FA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F6C8-9EFB-4897-B118-612A128E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4251-E96C-4D0F-9B0D-FB19294F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A61-DEF5-4F80-8B0E-49E347D67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E137-C7C4-4732-A1EA-A15CB6F0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A2E5-DD1E-4F21-B973-4B6F0A07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F85-85FE-4B84-844E-494D34B21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D1B7-0A6B-4ADE-A3FD-16F9E3DD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1120" y="762120"/>
            <a:ext cx="7781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B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IGAIL  BRES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49280" y="762120"/>
            <a:ext cx="824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EN  BR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1280" y="762120"/>
            <a:ext cx="7921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B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BANCR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IS  BLE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BASS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28800" y="762120"/>
            <a:ext cx="728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2:27Z</dcterms:modified>
  <cp:revision>362</cp:revision>
  <dc:subject/>
  <dc:title>Slide 1</dc:title>
</cp:coreProperties>
</file>