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A4AC-CA35-42E3-B95A-3A5A4435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D79-D8E3-44AF-BF13-E242E1016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C30-4AAF-43B1-9608-54BC2626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FAA-E9EB-4CF9-9D71-F8543233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3CA-9C70-4707-89D2-0BB3257A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2FB-A6FE-4942-A90F-C66E3A95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EA1-167B-466A-ADD3-B794892C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FBDD-6E66-48E3-A34D-69E01D04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53AD-2748-46F6-B6D2-AA977984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CCEC-35B8-43F1-9D14-D974AB8A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774-F976-4750-81C0-872ECFF8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64A-0A7B-4E44-B3F2-FFDF7FEF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427-8724-49A2-9A6A-D6349EB0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F4C-6148-455E-B1F6-731394BA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D0CA-6A0A-4B0D-9660-A3128DCF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6333-B6EC-48A1-97EC-4DD875F9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408-2A5D-4A47-AE62-77D35C62C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885-6450-4AF5-8404-5DD9F280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CA71-10FB-41AD-9E0B-769EFC4C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164-D488-439B-817F-279E670B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1FCB-9CFA-43D1-B5A9-6BDB0981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11C-002E-4884-B47B-D1E8E4C4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2C4-44AC-45A8-A6B8-E34110D1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Y  CUO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3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TT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824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636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IN  CHENOW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28760" y="76212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714680" y="762120"/>
            <a:ext cx="5715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E  CHAN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CAP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45:41Z</dcterms:created>
  <dc:creator>Jennifer Budzinski</dc:creator>
  <dc:description/>
  <dc:language>en-US</dc:language>
  <cp:lastModifiedBy>Erich Friedman</cp:lastModifiedBy>
  <dcterms:modified xsi:type="dcterms:W3CDTF">2020-08-26T22:13:19Z</dcterms:modified>
  <cp:revision>344</cp:revision>
  <dc:subject/>
  <dc:title>Slide 1</dc:title>
</cp:coreProperties>
</file>