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395C-F2EC-4F77-9226-1A43BB7A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3B2-C9CC-4C5B-8C9B-413177B9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9A27-4290-40DD-8393-B2EE4C291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2D48-1D6E-4207-8D48-B8C1E11E7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CC4D-F624-4211-BEFB-4EA208B4F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F01C-98E2-4523-B685-B0B14681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E251-CDEF-4256-8EAA-EB03D93A9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B55C-D081-4B07-A56B-DE8A52A45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23C0-701F-49CC-A764-3D305E63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299-F994-4192-9127-C5E999886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D876-9D60-48A7-AA84-C6A383AA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737F-6CE5-4E39-AC60-F6E26383F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3212-9269-4853-84AF-22C8DD27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BA8B-B07E-4574-B860-7C5C2C12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769A-3910-4887-966A-5CE6CD360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659E-7474-4335-9DAC-91AE0CB7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B46-2C4F-42DB-9FE8-F8A6694F7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7638-CD53-4BF4-A672-D30160B8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C459-5C04-4C85-93CF-9B6D9CB6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E12-372F-403D-9F01-9A3F882F5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0DB6-4D07-42A6-8EA4-DA599247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FE55-978F-401A-94DE-F3708FF19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B55-4EDA-4F2E-906B-9FC80DE3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LEY  CUO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ST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3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CATT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824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6368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IN  CHENOW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28760" y="76212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714680" y="762120"/>
            <a:ext cx="5715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CONN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ENNY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E  CHAN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PLAYING THE OLDEST SON ON "GROWING PAINS", WHO STARRED IN THE FILMS "LIKE FATHER LIKE SON" AND "LISTEN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CAP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INDIANA JONES' LOVE INTEREST IN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, AND IS MARRIED TO DIRECTOR STEVEN SPIELBER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ULL DURHAM", "WATERWORLD", AND "THE UNTOUCHAB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AMANTH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D BILL HICKOK ON "DEADWOOD" AND PLAYS PRESIDENT DALTON ON "MADAM  SECRE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EMMY FOR "PUSHING DAISIES" AND A TONY FOR "YOU'RE A GOOD MAN CHARLIE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RIC ON "ENTOUR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URNALIST JAMIE CAMPBELL ON "THE ZO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EMMY AWARDS FOR "FRIDAY NIGHT LIGHTS" AND "BLOOD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45:41Z</dcterms:created>
  <dc:creator>Jennifer Budzinski</dc:creator>
  <dc:description/>
  <dc:language>en-US</dc:language>
  <cp:lastModifiedBy>Erich Friedman</cp:lastModifiedBy>
  <dcterms:modified xsi:type="dcterms:W3CDTF">2020-08-26T22:13:19Z</dcterms:modified>
  <cp:revision>344</cp:revision>
  <dc:subject/>
  <dc:title>Slide 1</dc:title>
</cp:coreProperties>
</file>