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A117-4EA5-4630-8639-5B03DE814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9BB1-6B4D-4818-AE63-06A70295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C101-C494-4B87-8720-3C194907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6111-5BA9-44AA-9F49-F91A3F55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B06A-DE6A-43AA-9E43-9621A9E2F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CA3D-B50A-4B69-81DB-DA1430DD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F692-A515-4A17-B6B3-9C8448C4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26FC-BD6B-4563-A132-C9DF26E5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712D-FE91-4FD1-B94B-C44D47CB7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8D8A-5747-4B75-B3C7-98D879A96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E2DA-5E9C-4793-BA8E-AB2C33F6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72CF-C216-42E2-ABF9-9CDE61D4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D5CF-06C4-45A3-9A42-CC4CA3D7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5CE6-98CA-4EAA-879C-4CC7904BE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9861-00C0-45D5-AA73-ED8BE8FA3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111-6C5B-4770-A7FC-96E3AF240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CABE-7BD9-41F4-86B1-5051A30A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F4E6-C1E3-43A9-9F60-61F9AD2B9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4A14-9AEF-4194-A99F-E8EE2319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5CF2-E92E-4A20-B1F4-7DD90F1EC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A61F-614D-444E-AB3B-E6BBB626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EEDD-BC05-4879-A50B-9BF97CC4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E96A-6C01-4FB8-990D-4D009849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PLAYING THE OLDEST SON ON "GROWING PAINS", WHO STARRED IN THE FILMS "LIKE FATHER LIKE SON" AND "LISTEN TO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DIANA JONES' LOVE INTEREST IN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, AND IS MARRIED TO DIRECTOR STEVEN SPIEL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LEY  CUO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ENNY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COS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ULL DURHAM", "WATERWORLD", AND "THE UNTOUCHAB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03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CATTR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824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AMANTH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CARRA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D BILL HICKOK ON "DEADWOOD" AND PLAYS PRESIDENT DALTON ON "MADAM 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6368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IN  CHENOW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28760" y="762120"/>
            <a:ext cx="8305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EMMY FOR "PUSHING DAISIES" AND A TONY FOR "YOU'RE A GOOD MAN CHARLIE B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CONN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714680" y="762120"/>
            <a:ext cx="5715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RIC ON "ENTOUR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CONN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URNALIST JAMIE CAMPBELL ON "THE Z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ENNY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LE  CHAN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EMMY AWARDS FOR "FRIDAY NIGHT LIGHTS" AND "BLOOD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PLAYING THE OLDEST SON ON "GROWING PAINS", WHO STARRED IN THE FILMS "LIKE FATHER LIKE SON" AND "LISTEN TO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CAP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DIANA JONES' LOVE INTEREST IN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, AND IS MARRIED TO DIRECTOR STEVEN SPIEL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ULL DURHAM", "WATERWORLD", AND "THE UNTOUCHAB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AMANTH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D BILL HICKOK ON "DEADWOOD" AND PLAYS PRESIDENT DALTON ON "MADAM  SECRE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EMMY FOR "PUSHING DAISIES" AND A TONY FOR "YOU'RE A GOOD MAN CHARLIE B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RIC ON "ENTOUR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URNALIST JAMIE CAMPBELL ON "THE Z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EMMY AWARDS FOR "FRIDAY NIGHT LIGHTS" AND "BLOOD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2:45:41Z</dcterms:created>
  <dc:creator>Jennifer Budzinski</dc:creator>
  <dc:description/>
  <dc:language>en-US</dc:language>
  <cp:lastModifiedBy>Erich Friedman</cp:lastModifiedBy>
  <dcterms:modified xsi:type="dcterms:W3CDTF">2020-08-26T22:13:19Z</dcterms:modified>
  <cp:revision>344</cp:revision>
  <dc:subject/>
  <dc:title>Slide 1</dc:title>
</cp:coreProperties>
</file>