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D6BD-19BF-4952-B268-B8D49BB31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39F2-2C52-4CF1-B370-48E53CBE7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8039-42A8-4390-B90A-FAB61F58E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CEE3-7992-4633-B4ED-82BBBC2A6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FE56-C022-4926-8A26-27A0C1034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F9EA-3B9C-417F-B189-C865ED7D9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0DC9-54AE-4AF1-A219-FF6C326C8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B8CC-E6DC-46BD-BE8B-367553D1D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AF73-CAA4-4E1B-92A7-4DA5FD461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1ACA-4375-4E0D-B5A7-761705D58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0094-AB13-4E1C-9CE3-F28EFD808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324E-6F10-4051-A276-F04533285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D334-BA5A-4289-A80D-9F1B30A7C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0E51-6167-435C-94E8-788513E4E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6406-8EEE-4ACC-B714-C5FC13159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ECDD-E9D9-41A4-892B-1D03BDAF3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EB72-1F9F-4DC1-AE15-6083175F4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72FE-75E1-4115-8EDC-CE7395567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1A58-4738-4A1C-B6F9-754345CDB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292D-6A43-4F33-992E-38542BCDE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504D-EFCE-4146-94AE-3B63BB297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CD0B-14DF-47BC-91CA-AD3A9DE17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1676-16B6-4BC1-944A-418B36FDB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CHICAGO BEARS FROM 2009 TO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523880" y="762120"/>
            <a:ext cx="6096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HEART OF DARK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CAR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CE VENTU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NY  C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 WALK THE L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67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  CHI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"THE FRENCH CHE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QUES  COUSTE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CEANOGRAPHER DEVELOPED THE AQUA-LU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409760" y="762120"/>
            <a:ext cx="6324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U.S. PRESIDENT BORN IN A HOSPI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AN  CAR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KING OF SPAIN FROM 1975 TO 20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CRO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IME IN A BOTT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CE VENTUR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DY  COLL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OTH SIDES N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Y  CUT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CHICAGO BEARS FROM 2009 TO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PH  CONR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562040" y="762120"/>
            <a:ext cx="6019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HEART OF DARK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 WALK THE L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"THE FRENCH CHE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CEANOGRAPHER DEVELOPED THE AQUA-LU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371600" y="72396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U.S. PRESIDENT BORN IN A HOSPI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KING OF SPAIN FROM 1975 TO 201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IME IN A BOTT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2396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OTH SIDES N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3:14:54Z</dcterms:created>
  <dc:creator>Jennifer Budzinski</dc:creator>
  <dc:description/>
  <dc:language>en-US</dc:language>
  <cp:lastModifiedBy>Erich Friedman</cp:lastModifiedBy>
  <dcterms:modified xsi:type="dcterms:W3CDTF">2020-08-23T20:56:29Z</dcterms:modified>
  <cp:revision>279</cp:revision>
  <dc:subject/>
  <dc:title>Slide 1</dc:title>
</cp:coreProperties>
</file>