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1C26-51A1-42B2-A683-50235158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3728D-252F-47F6-8083-93E5D81AC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107E-4F61-4324-B82C-CE7CB8BE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A901-60B7-4599-A3DB-AE8749B28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B84-0320-459D-871D-76B341F40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3401-7A31-4B0D-A204-BD98F63FB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BCE1-1740-48C1-916D-A61E0D78A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E856-5F98-4764-ACAE-DAF2AEBE1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6ABB-6755-48EA-B3F6-FE29D8014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A956-B3A9-451A-B064-DD980004D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6DE9-DE42-4AB3-873F-CE717CCB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1BBE-869B-46B0-95C9-732A3AD96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C63D-A63C-4350-949B-ED23E7AA1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E78C-B09A-4C26-A170-8E2133102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9B5C-448F-4812-9351-88A5E417C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488B-75BA-4848-885B-694BEAF23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9AA9-91D0-437B-8C8D-1284665E8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B9595-9CC6-4E1C-A138-705855BC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E947-3AEB-4644-A3FE-F4C246ECB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9EF8-7E9B-4681-947D-22A825C95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0BBF6-3E38-47CB-9454-94C661DA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97E-B13D-4F45-822D-2811F2D35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2CE7-6517-4415-B757-31CE89D2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HICAGO BEARS FROM 2009 TO 2016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523880" y="762120"/>
            <a:ext cx="6096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AR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57200" y="76212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CE VENTU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NY  C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WALK THE L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672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LIA  CHI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FRENCH CH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QUES  COUST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OGRAPHER DEVELOPED THE AQUA-LU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53352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MY  CAR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409760" y="762120"/>
            <a:ext cx="6324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AN  CAR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KING OF SPAIN FROM 1975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CE VENTU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UDY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04920" y="762120"/>
            <a:ext cx="85341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TH SIDES NOW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C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QUARTERBACK FOR THE CHICAGO BEARS FROM 2009 TO 201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SEPH  CONR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562040" y="762120"/>
            <a:ext cx="6019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HEART OF DARKN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WALK THE L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"THE FRENCH CHEF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CEANOGRAPHER DEVELOPED THE AQUA-LU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371600" y="723960"/>
            <a:ext cx="6400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IRST U.S. PRESIDENT BORN IN A HOSPIT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KING OF SPAIN FROM 1975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380880" y="723960"/>
            <a:ext cx="83822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BOTH SIDES NOW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3:14:54Z</dcterms:created>
  <dc:creator>Jennifer Budzinski</dc:creator>
  <dc:description/>
  <dc:language>en-US</dc:language>
  <cp:lastModifiedBy>Erich Friedman</cp:lastModifiedBy>
  <dcterms:modified xsi:type="dcterms:W3CDTF">2020-08-23T20:56:29Z</dcterms:modified>
  <cp:revision>279</cp:revision>
  <dc:subject/>
  <dc:title>Slide 1</dc:title>
</cp:coreProperties>
</file>