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015-04FC-42CE-9776-F721A9E22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3281-D2CB-4BCD-AE7B-BC7BD4F0B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9155-E42D-4C8D-A6DF-5B5F19819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CBD1C-1D23-49C0-867E-34AD6DBE0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E1DF-2677-4A71-AED2-53D12B30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8B57-5215-4CFF-A524-73FC58F9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52F4-444F-4949-8B45-ACFF77AC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926C-9CFB-4BE1-8E22-8FB602CBE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2AB3-80F1-4060-B6F2-01CCD343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5AAC-8B92-40C4-9F9D-D8803990D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F28D-9969-4B77-9236-664D21429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FB21-434F-4F08-A7B8-7A0DD4DB6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C776-1ADA-4589-8A66-E3BE6C61F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63DB-E3F2-4142-A41E-9C9DEC5AC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89CA-D74C-4F2A-9217-00CEA3A8C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310C-4C04-4F57-80CA-C822107F0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F768-DE42-4C9B-A1EE-54DEB233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FEAA-DB27-46C8-98A4-74DA29CBA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5037-B8C6-435A-B33D-64C12DFA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9036-424B-4769-8823-02C905D14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CDC7-A7B1-46E3-902D-629A2A987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48AD-BD83-452A-9CE5-5B8DEBFCD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6062-1F66-4B9D-84ED-B518710BB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CADEMY AWARD FOR BEST ACTOR FOR "CRAZY HE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MBASSADOR TO THE U.N. IS NOW DONALD TRUMP'S NATIONAL SECURITY ADVI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ELU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             "THE BLUES BROTHERS" ALONGSIDE DAN ACKRO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BI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DELAWARE SENATOR BEFORE HE BECAME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B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FLORIDA GOVERNOR, AND RAN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BEA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FLASHDANCE", BUT HAS BEEN IN OVER 50 OTHE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SPY APPEARED IN 12 NOVELS BY IAN FLE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EH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SPEAKER OF THE HOUSE 2011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             "THE BLUES BROTHERS" ALONGSIDE DAN ACKROI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PERSO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RID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CADEMY AWARD FOR BEST ACTOR FOR "CRAZY 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O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AMBASSADOR TO THE U.N. IS NOW DONALD TRUMP'S NATIONAL SECURITY ADVIS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DELAWARE SENATOR BEFORE HE BECAME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FLORIDA GOVERNOR, AND RAN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FLASHDANCE", BUT HAS BEEN IN OVER 50 OTHE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SPY APPEARED IN 12 NOVELS BY IAN FLE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SPEAKER OF THE HOUSE 2011-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PERSO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7:36:34Z</dcterms:created>
  <dc:creator>Jennifer Budzinski</dc:creator>
  <dc:description/>
  <dc:language>en-US</dc:language>
  <cp:lastModifiedBy>Erich Friedman</cp:lastModifiedBy>
  <dcterms:modified xsi:type="dcterms:W3CDTF">2020-08-26T22:14:53Z</dcterms:modified>
  <cp:revision>342</cp:revision>
  <dc:subject/>
  <dc:title>Slide 1</dc:title>
</cp:coreProperties>
</file>