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35D9-C8C5-4193-8654-3DE759BA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1926-0D7B-4273-88E7-72F0404B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6A5-9392-468B-94BA-EA78ACFE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336B-72C2-4CAA-81B0-BFD84A4E9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0D86-9C8E-4D9A-9BE7-18BEA288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E291-13F1-4BAF-A635-B9F80C05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F31F-B35D-44C7-B728-6CB5D85A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F768-FA63-4202-9B04-518F6E3F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0872-AC41-485F-BF0A-61D7E062B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9B46-8668-43AF-AD61-73C2D9E1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CD65-B6A5-4DAB-B6C9-CE6E011B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371-A034-45C7-AEFB-F8B7C018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2EF-2611-4465-A9D9-32618DCD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E8AA-948A-4473-BEF9-343484155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99A-7BB9-42AA-96B3-1AA62C93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C42-9DD6-4E6A-8AFE-BCA7121A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5AA6-A21A-4915-B83E-5D85D84F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8DA-A693-428F-BEA2-E8E3EB58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4C6E-B677-4D49-B4A5-1E78565B5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23CE-8E6A-476C-A09E-D8C99B8D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BC3D-0B60-4FB5-9377-708148DEB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FB95-13BC-432A-B55C-0E1486CC1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4216-0233-417F-B9CA-B9E9389D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CADEMY AWARD FOR BEST ACTOR FOR "CRAZY HE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MBASSADOR TO THE U.N. IS NOW DONALD TRUMP'S NATIONAL SECURITY ADVI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             "THE BLUES BROTHERS" ALONGSIDE DAN ACKRO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B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DELAWARE SENATOR BEFORE HE BECAME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B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FLORIDA GOVERNOR, AND RAN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BEA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FLASHDANCE", BUT HAS BEEN IN OVER 50 OTH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SPY APPEARED IN 12 NOVELS BY IAN FLE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EH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SPEAKER OF THE HOUSE 2011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             "THE BLUES BROTHERS" ALONGSIDE DAN ACKRO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PERSO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CADEMY AWARD FOR BEST ACTOR FOR "CRAZY 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MBASSADOR TO THE U.N. IS NOW DONALD TRUMP'S NATIONAL SECURITY ADVI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DELAWARE SENATOR BEFORE HE BECAME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FLORIDA GOVERNOR, AND RAN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FLASHDANCE", BUT HAS BEEN IN OVER 50 OTH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SPY APPEARED IN 12 NOVELS BY IAN FLE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SPEAKER OF THE HOUSE 2011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PERS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7:36:34Z</dcterms:created>
  <dc:creator>Jennifer Budzinski</dc:creator>
  <dc:description/>
  <dc:language>en-US</dc:language>
  <cp:lastModifiedBy>Erich Friedman</cp:lastModifiedBy>
  <dcterms:modified xsi:type="dcterms:W3CDTF">2020-08-26T22:14:53Z</dcterms:modified>
  <cp:revision>342</cp:revision>
  <dc:subject/>
  <dc:title>Slide 1</dc:title>
</cp:coreProperties>
</file>