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B60A-A153-455E-81D7-C024AD489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18F2-B1EC-4DE6-A6E2-24087A914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8ADD-0843-4EE3-8210-76ACF7608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9EDC-FE21-43F0-944A-BA06934B3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24C5-A5A4-43B1-ADB2-D94001342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EEEB-0D3C-42B8-98AC-321B35820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F80D-FCF4-47D7-B4D7-A48D0C56A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B12A-3045-47E0-81A1-253804880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18E6-7A23-4C42-8C5A-4E42173D3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45AB-4586-47B2-8BA7-AEF24B8F7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92A2-F169-4692-9624-CA2F5C3CC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BE8E-CCEA-4F38-BA68-DA3C75CAC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8944-E5B6-4958-A9AD-6FF731BF3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E950-3778-452F-A144-CE8DF2AC1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AFDC-DF55-41DA-9783-A4A12EE6B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D650-DFBD-47BC-911E-3DDEBD077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7699-612A-4BB2-8C6A-ADF02C147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C64E-E8FA-4165-B9A8-2728D98EB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5EF1-5C5B-403E-A82B-FF4A7E207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2A5B-4114-4983-B106-4497F2068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186E-2BC4-44FB-8B38-39BC78873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8D14-3F64-4ECE-92AE-F0C1F83A8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7384-2D6F-4DF4-AF9B-25C54B30D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ACADEMY AWARD FOR BEST ACTOR FOR "CRAZY HEA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AMBASSADOR TO THE U.N. IS NOW DONALD TRUMP'S NATIONAL SECURITY ADVIS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ELUS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             "THE BLUES BROTHERS" ALONGSIDE DAN ACKRO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BI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DELAWARE SENATOR BEFORE HE BECAME VIC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B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FLORIDA GOVERNOR, AND RAN FOR PRESIDENT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BEAL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FLASHDANCE", BUT HAS BEEN IN OVER 50 OTHER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SPY APPEARED IN 12 NOVELS BY IAN FLE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UCHA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OEH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SPEAKER OF THE HOUSE 2011-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             "THE BLUES BROTHERS" ALONGSIDE DAN ACKROI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BE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RICHEST PERSON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BRID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ACADEMY AWARD FOR BEST ACTOR FOR "CRAZY HEA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O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AMBASSADOR TO THE U.N. IS NOW DONALD TRUMP'S NATIONAL SECURITY ADVIS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DELAWARE SENATOR BEFORE HE BECAME VIC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FLORIDA GOVERNOR, AND RAN FOR PRESIDENT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FLASHDANCE", BUT HAS BEEN IN OVER 50 OTHER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SPY APPEARED IN 12 NOVELS BY IAN FLE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SPEAKER OF THE HOUSE 2011-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RICHEST PERSON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7:36:34Z</dcterms:created>
  <dc:creator>Jennifer Budzinski</dc:creator>
  <dc:description/>
  <dc:language>en-US</dc:language>
  <cp:lastModifiedBy>Erich Friedman</cp:lastModifiedBy>
  <dcterms:modified xsi:type="dcterms:W3CDTF">2020-08-26T22:14:53Z</dcterms:modified>
  <cp:revision>342</cp:revision>
  <dc:subject/>
  <dc:title>Slide 1</dc:title>
</cp:coreProperties>
</file>