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62AA-827C-430A-8DB2-2657ACA83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5EAA-6576-4ACA-BFFA-7CE324663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6B6C-853A-4ECB-9CBC-CF3EBB077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640D-07B5-4734-9B39-A74AD3AE6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8BB2-BEDB-4C11-AD0A-F1D8F3160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D2F1-5A94-470C-A4C6-B23EAA970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AB4E-AE2F-4477-B3FF-D036B48D7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9B73-3034-4140-9284-916144E36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3B04-B33E-42CA-BB86-40DCD5D9F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CA56-20EB-4E76-90B8-ED2E64492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79BA-FB73-4EC2-BB07-34094DEA1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BD5CA-F542-4770-B9E4-ED8119A1E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453C-F49A-4FD8-A001-4A764A70C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7236-09BD-4D9C-8E42-88B1806C3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FAAE-0A28-4F2E-AE2B-5F9FF82D7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D00C-CF27-478C-8741-360BC1819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3DF2-3DEE-422F-92D7-4585589FB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E73C-7EB0-4AF4-AF2D-1A9FCBE06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FE09-70BB-447D-8BD9-DB53DB05C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97A6-DD37-4AF4-9568-10F31C2D6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30FF-E713-44E7-B8C8-339C4E285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4F75-1B44-4C5D-BB89-76D8C1132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BCD5-D92F-4A97-A938-E9CD2DDA8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66880" y="761760"/>
            <a:ext cx="7410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CENTLY WON THE MOST EXPENSIVE SENATE RACE IN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094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ILL HOLDS THE MLB RECORD FOR HIGHEST CAREER BATTING AVERAGE, 90 YEARS AFTER HE PLAY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MY  CH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52520" y="762120"/>
            <a:ext cx="6438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COMEDY PARTNER OF CHEECH MAR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Y  CRE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85760" y="762120"/>
            <a:ext cx="6972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-NFL PLAYER NOW STARS ON TV'S "BROOKLYN NINE-N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4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MAN  CAP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OTHER VOICES, OTHER ROOM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CL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6800" y="762120"/>
            <a:ext cx="761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9 ESPIONAGE NOVELS ABOUT CIA ANALYST JACK RY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CUR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4800" y="762120"/>
            <a:ext cx="7934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HOUDINI" WITH HIS WIFE JANET LEIG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CON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85840" y="762120"/>
            <a:ext cx="8553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 REGULAR GUEST ON "THE CAROL BURNETT SHOW" BESIDES HARVEY KORMAN  AND VICKI LAWR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I  COLL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ARA, T,   ALICE, BUCK, SHOSHANA, CHICKEN, AND BRYCE IN "UNITED STATES OF TAR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COMEDY PARTNER OF CHEECH MAR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0212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CY  CHAP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71640" y="762120"/>
            <a:ext cx="7200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AST CAR" AND "GIVE ME ONE REAS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CRU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19000" y="762120"/>
            <a:ext cx="7506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CENTLY WON THE MOST EXPENSIVE SENATE RACE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  CO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ILL HOLDS THE MLB RECORD FOR HIGHEST CAREER BATTING AVERAGE, 90 YEARS AFTER HE PLAY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00080" y="761760"/>
            <a:ext cx="7143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-NFL PLAYER NOW STARS ON TV'S "BROOKLYN NINE-N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OTHER VOICES, OTHER ROOM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9 ESPIONAGE NOVELS ABOUT CIA ANALYST JACK RY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04720" y="762120"/>
            <a:ext cx="8134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HOUDINI" WITH HIS WIFE JANET LEIG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 REGULAR GUEST ON "THE CAROL BURNETT SHOW" BESIDES HARVEY KORMAN  AND VICKI LAWR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ARA, T,   ALICE, BUCK, SHOSHANA, CHICKEN, AND BRYCE IN "UNITED STATES OF TAR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AST CAR" AND "GIVE ME ONE REAS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6T22:16:12Z</dcterms:modified>
  <cp:revision>355</cp:revision>
  <dc:subject/>
  <dc:title>Slide 1</dc:title>
</cp:coreProperties>
</file>