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8994-6A7E-4E4B-B7F3-7D69103F0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783-5CD1-4ADF-B4D6-6A473A67F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E95-A1B9-4AF0-A9EC-09FF5B6E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18F-1869-4822-A281-56F9D4E59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1157-B0C2-42AF-9BCF-9654653F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0631-A083-4943-A1B8-A11A3D26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A6BA-4D29-492C-8698-8E7DFE9F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DDB-3156-4999-9D14-EBED8F5F2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671F-20A7-4A06-B6CE-46F539539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DBF7-B6C7-43E3-B640-1D22F715D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06F0-2457-48B3-A68D-D429E15C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794-6A90-40F5-90D7-70B84C7AA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E2F7-A3ED-4725-898E-2A900F76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1E8-9646-4B9A-9F69-C93BD831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2FE-CE9D-42D9-82F8-7BD7CAC7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570-33BC-4591-B483-E9255C7C6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E7D7-3250-4D35-9525-6BC1654E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2FE-A2E1-406E-87F5-967C70C5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F3C6-B709-4359-BD0D-F7365BAE3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193F-B2A6-4EBE-9CA5-C5E72D3E8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3B1-47C2-4F36-A40C-D79E0581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D95E-5C63-4508-AFFD-1D07D5D7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B325-7346-40FB-868A-60F986067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66880" y="761760"/>
            <a:ext cx="741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ENTLY WON THE MOST EXPENSIVE SENATE RACE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094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ILL HOLDS THE MLB RECORD FOR HIGHEST CAREER BATTING AVERAGE, 90 YEARS AFTER HE PLA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CH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MEDY PARTNER OF CHEECH MAR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CR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85760" y="762120"/>
            <a:ext cx="6972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NFL PLAYER NOW STARS ON TV'S "BROOKLYN NINE-N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AN  CAP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THER VOICES, OTHER ROO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L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6800" y="762120"/>
            <a:ext cx="761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9 ESPIONAGE NOVELS ABOUT CIA ANALYST JACK RY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CUR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4800" y="762120"/>
            <a:ext cx="7934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HOUDINI" WITH HIS WIFE JANET L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CO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85840" y="762120"/>
            <a:ext cx="8553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REGULAR GUEST ON "THE CAROL BURNETT SHOW" BESIDES HARVEY KORMAN  AND VICKI LAW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  COL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ARA, T,   ALICE, BUCK, SHOSHANA, CHICKEN, AND BRYCE IN "UNITED STATES OF TA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MEDY PARTNER OF CHEECH MAR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2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CHAP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ST CAR" AND "GIVE ME ONE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C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ENTLY WON THE MOST EXPENSIVE SENATE RACE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  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ILL HOLDS THE MLB RECORD FOR HIGHEST CAREER BATTING AVERAGE, 90 YEARS AFTER HE PLA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NFL PLAYER NOW STARS ON TV'S "BROOKLYN NINE-N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THER VOICES, OTHER ROO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9 ESPIONAGE NOVELS ABOUT CIA ANALYST JACK RY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HOUDINI" WITH HIS WIFE JANET LE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REGULAR GUEST ON "THE CAROL BURNETT SHOW" BESIDES HARVEY KORMAN  AND VICKI LAW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ARA, T,   ALICE, BUCK, SHOSHANA, CHICKEN, AND BRYCE IN "UNITED STATES OF TAR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ST CAR" AND "GIVE ME ONE REA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6:12Z</dcterms:modified>
  <cp:revision>355</cp:revision>
  <dc:subject/>
  <dc:title>Slide 1</dc:title>
</cp:coreProperties>
</file>