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8D77-2A01-4BD5-BBDC-29430278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FB4-E6C3-4082-A8A2-1167CC00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D48-2E98-40A0-97CD-5B78C139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ACD0-22FC-436F-A182-3FB0B179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74A4-E80D-42B0-A0CF-F1333EF8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4A0B-4A49-4F64-836B-273DEE71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048-4C0E-491B-8DEE-17087BCC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69C5-3F14-4C6B-AE26-BB93B82F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FF16-AA3F-419C-80F5-9A5B33C7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BC3-A14C-49CF-AE16-59BB9ED64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E870-8CFF-4842-8426-42677D64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A3FF-1355-4557-8E50-32CAF625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11A-11A3-41A4-9E28-49673950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83DE-F5C9-4F64-973B-7BA6EC68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696B-C24A-4CE7-BEA0-02C8F9EE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C7A-E4E9-4B0C-9275-021864A5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9604-908E-4E53-9D50-9F4FD254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118-729F-4FEF-A731-EB61C1D44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3BB-EB8C-4D0C-8BB4-DBF37CB7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377-ECDB-4F1E-A33E-B19EB765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1A2-F99A-411F-9DB1-74CE8DA32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4A3-1059-4470-BF1E-5EC7B770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8569-A52B-4F2D-9F0F-26F7E3E7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EFTY" WON EVERY MAJOR GOLF TOURNAMENT EXCEPT THE U.S. OPEN, WHERE HE FINISHED RUNNER-UP 6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 STEED ON 6 SEASONS OF "THE AVE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71440" y="762120"/>
            <a:ext cx="680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WERE MARRIED TWICE.  WHICH ONE WAS MARRIED THREE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90400" y="762120"/>
            <a:ext cx="796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LARRY KING ON CNN FOR 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T  MOND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46000" y="73980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ARTIST PAINTED THESE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533520" y="2620800"/>
            <a:ext cx="2168280" cy="2197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"/>
          <p:cNvPicPr/>
          <p:nvPr/>
        </p:nvPicPr>
        <p:blipFill>
          <a:blip r:embed="rId2"/>
          <a:stretch/>
        </p:blipFill>
        <p:spPr>
          <a:xfrm>
            <a:off x="3054240" y="2624040"/>
            <a:ext cx="3011760" cy="2202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6418440" y="2620800"/>
            <a:ext cx="2151000" cy="21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INDIANAPOLIS COLTS 1998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05040" y="762120"/>
            <a:ext cx="7333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APPEARED WEEKLY ON "THE OPRAH WINFREY SHOW" BEFORE GETTING HIS OWN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M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EEKLY HOUR-LONG SERIES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DIRECT A FILM THAT MADE MORE THAN $1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WERE MARRIED TWICE.  WHICH ONE WAS MARRIED THREE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ANA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MPAIGN MANAGER OF DONALD TRUMP HAS BEEN SENTENCED TO 7 YEARS IN J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MICK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676440" y="762120"/>
            <a:ext cx="77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EFTY" WON EVERY MAJOR GOLF TOURNAMENT EXCEPT THE U.S. OPEN, WHERE HE FINISHED RUNNER-UP 6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MACN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1219320" y="7621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 STEED ON 6 SEASONS OF "THE AVE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LARRY KING ON CNN FOR 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80920" y="7398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ARTIST PAINTED THESE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8760" y="2666880"/>
            <a:ext cx="2253960" cy="228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3008160" y="2666880"/>
            <a:ext cx="3127680" cy="2286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3"/>
          <a:stretch/>
        </p:blipFill>
        <p:spPr>
          <a:xfrm>
            <a:off x="6480000" y="2666880"/>
            <a:ext cx="22179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INDIANAPOLIS COLTS 1998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APPEARED WEEKLY ON "THE OPRAH WINFREY SHOW" BEFORE GETTING HIS OWN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EEKLY HOUR-LONG SERIES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DIRECT A FILM THAT MADE MORE THAN $1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MPAIGN MANAGER OF DONALD TRUMP HAS BEEN SENTENCED TO 7 YEARS IN J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7:27Z</dcterms:modified>
  <cp:revision>359</cp:revision>
  <dc:subject/>
  <dc:title>Slide 1</dc:title>
</cp:coreProperties>
</file>