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7687-88C3-4191-A213-A18A6E4D9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4AED-2BF9-410A-8C9E-FDFE8971E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4F88-073A-42EA-8027-48E205DC2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39BD-1FB3-47CE-B126-0101656C7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EE94-E8FA-4CC3-8F29-C55A0F55C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8DC90-F039-4611-A359-4ED76962F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E1BC-F563-4DB0-8849-CD3FC84AB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05A8-F82D-4207-8D67-F025CF128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43DD-F128-4967-9781-2ACE65BD3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C9D9-4A35-4B21-A4EB-B7DF12947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8BF9-434F-46F7-AC74-4DC827DBF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040C-FECA-47A4-9E8C-46D93CDD4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7DF6-BD42-4E58-B1CA-B7792B3A5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5311-792B-4002-96BB-32832331E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F197-1E06-4361-AD8C-30D54DC22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F592-0C16-44AC-B0F4-FBF3E41C5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6F5E-0C60-4611-BF66-4A5C50BEF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1E54-24F4-42EE-B74B-D522718E3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FB59-E208-4913-96AB-39CF847DE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695B-31D9-4DF0-AA25-3BDC95302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02A1-25A2-4F27-A0BB-4778832FE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9E45-4067-4441-9E6C-91A32FDC9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2C60-E2DD-4092-BA96-F7841B1DC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714240" y="761760"/>
            <a:ext cx="771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LEFTY" WON EVERY MAJOR GOLF TOURNAMENT EXCEPT THE U.S. OPEN, WHERE HE FINISHED RUNNER-UP 6 TI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1143000" y="762120"/>
            <a:ext cx="6858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OHN STEED ON 6 SEASONS OF "THE AVENG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MCCART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1171440" y="762120"/>
            <a:ext cx="68011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EE OF THE BEATLES WERE MARRIED TWICE.  WHICH ONE WAS MARRIED THREE T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ERS  MOR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590400" y="762120"/>
            <a:ext cx="79632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EPLACED LARRY KING ON CNN FOR 3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ET  MONDR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846000" y="739800"/>
            <a:ext cx="7429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UTCH ARTIST PAINTED THESE WOR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2" descr=""/>
          <p:cNvPicPr/>
          <p:nvPr/>
        </p:nvPicPr>
        <p:blipFill>
          <a:blip r:embed="rId1"/>
          <a:stretch/>
        </p:blipFill>
        <p:spPr>
          <a:xfrm>
            <a:off x="533520" y="2620800"/>
            <a:ext cx="2168280" cy="21974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4" descr=""/>
          <p:cNvPicPr/>
          <p:nvPr/>
        </p:nvPicPr>
        <p:blipFill>
          <a:blip r:embed="rId2"/>
          <a:stretch/>
        </p:blipFill>
        <p:spPr>
          <a:xfrm>
            <a:off x="3054240" y="2624040"/>
            <a:ext cx="3011760" cy="22021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6" descr=""/>
          <p:cNvPicPr/>
          <p:nvPr/>
        </p:nvPicPr>
        <p:blipFill>
          <a:blip r:embed="rId3"/>
          <a:stretch/>
        </p:blipFill>
        <p:spPr>
          <a:xfrm>
            <a:off x="6418440" y="2620800"/>
            <a:ext cx="2151000" cy="219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343080" y="489276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YTON  M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90400" y="762120"/>
            <a:ext cx="796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QUARTERBACK FOR THE INDIANAPOLIS COLTS 1998-20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  MCGR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05040" y="762120"/>
            <a:ext cx="7333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SYCHOLOGIST APPEARED WEEKLY ON "THE OPRAH WINFREY SHOW" BEFORE GETTING HIS OWN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RRY  MA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WEEKLY HOUR-LONG SERIES ON TV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NY  MARSH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38120" y="762120"/>
            <a:ext cx="8267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WOMAN TO DIRECT A FILM THAT MADE MORE THAN $100 M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85760" y="762120"/>
            <a:ext cx="6972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EE OF THE BEATLES WERE MARRIED TWICE.  WHICH ONE WAS MARRIED THREE TI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457200" y="488484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MANA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971640" y="762120"/>
            <a:ext cx="7200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MPAIGN MANAGER OF DONALD TRUMP HAS BEEN SENTENCED TO 7 YEARS IN JAI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  MICKE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676440" y="762120"/>
            <a:ext cx="77911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LEFTY" WON EVERY MAJOR GOLF TOURNAMENT EXCEPT THE U.S. OPEN, WHERE HE FINISHED RUNNER-UP 6 T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RICK  MACN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"/>
          <p:cNvSpPr/>
          <p:nvPr/>
        </p:nvSpPr>
        <p:spPr>
          <a:xfrm>
            <a:off x="1219320" y="762120"/>
            <a:ext cx="6705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OHN STEED ON 6 SEASONS OF "THE AVENG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04720" y="761760"/>
            <a:ext cx="8134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EPLACED LARRY KING ON CNN FOR 3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80920" y="73980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UTCH ARTIST PAINTED THESE WOR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428760" y="2666880"/>
            <a:ext cx="2253960" cy="2286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3" descr=""/>
          <p:cNvPicPr/>
          <p:nvPr/>
        </p:nvPicPr>
        <p:blipFill>
          <a:blip r:embed="rId2"/>
          <a:stretch/>
        </p:blipFill>
        <p:spPr>
          <a:xfrm>
            <a:off x="3008160" y="2666880"/>
            <a:ext cx="3127680" cy="22860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4" descr=""/>
          <p:cNvPicPr/>
          <p:nvPr/>
        </p:nvPicPr>
        <p:blipFill>
          <a:blip r:embed="rId3"/>
          <a:stretch/>
        </p:blipFill>
        <p:spPr>
          <a:xfrm>
            <a:off x="6480000" y="2666880"/>
            <a:ext cx="221796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QUARTERBACK FOR THE INDIANAPOLIS COLTS 1998-201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04880" y="762120"/>
            <a:ext cx="7734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SYCHOLOGIST APPEARED WEEKLY ON "THE OPRAH WINFREY SHOW" BEFORE GETTING HIS OWN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WEEKLY HOUR-LONG SERIES ON TV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WOMAN TO DIRECT A FILM THAT MADE MORE THAN $100 MILL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33480" y="761760"/>
            <a:ext cx="7277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MPAIGN MANAGER OF DONALD TRUMP HAS BEEN SENTENCED TO 7 YEARS IN JAI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0-08-26T22:17:27Z</dcterms:modified>
  <cp:revision>359</cp:revision>
  <dc:subject/>
  <dc:title>Slide 1</dc:title>
</cp:coreProperties>
</file>