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7742-72F9-48A1-9435-D10B6C407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ECB3-4B6E-464F-A27B-B7018076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8B23-4CAF-45F7-B9EA-E98C4951B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1F42-3BC1-4187-8000-DD200085A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64D0-9CE9-4A0C-8580-26266A451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DC98-4903-490E-919F-F61A891B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6B4C-0CB3-4447-8E43-2D1658987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6E58-2173-4CD8-9C0A-286A5CE56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5EF8-EC7C-4AF5-A461-AD32B1416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E147-F2EE-4DEA-8E10-E8A6E4041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70C1-9AB8-4445-82A1-0565EB990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B724-9473-49D4-BBE8-952F1DFD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AA8F-85F1-4382-BB03-896FAC62A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9346-0DA9-45A4-A0B6-6BABBDFC5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F539-FE6C-49FF-BF7D-CE13C57A7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5FA4-AC6A-46D4-AC60-843817C96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1827-3DF8-4BA4-9E43-7C29CC40F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AB55-5F55-4B1E-93B4-674E59647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BFE7-8383-4A6C-8246-16D540FE4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FA13-0B33-43EB-8290-2841FDE8C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327B-4BC0-44DF-BDD1-A2EE9B30C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961D-6284-47FE-A5FF-2AA107452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ED8B-FF07-4881-858A-4385947C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714240" y="761760"/>
            <a:ext cx="771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LEFTY" WON EVERY MAJOR GOLF TOURNAMENT EXCEPT THE U.S. OPEN, WHERE HE FINISHED RUNNER-UP 6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 STEED ON 6 SEASONS OF "THE AVENG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71440" y="762120"/>
            <a:ext cx="6801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WERE MARRIED TWICE.  WHICH ONE WAS MARRIED THREE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S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90400" y="762120"/>
            <a:ext cx="7963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LARRY KING ON CNN FOR 3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T  MOND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46000" y="73980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ARTIST PAINTED THESE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533520" y="2620800"/>
            <a:ext cx="2168280" cy="21974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"/>
          <p:cNvPicPr/>
          <p:nvPr/>
        </p:nvPicPr>
        <p:blipFill>
          <a:blip r:embed="rId2"/>
          <a:stretch/>
        </p:blipFill>
        <p:spPr>
          <a:xfrm>
            <a:off x="3054240" y="2624040"/>
            <a:ext cx="3011760" cy="2202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6418440" y="2620800"/>
            <a:ext cx="2151000" cy="21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M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INDIANAPOLIS COLTS 1998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05040" y="762120"/>
            <a:ext cx="7333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APPEARED WEEKLY ON "THE OPRAH WINFREY SHOW" BEFORE GETTING HIS OWN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RY  M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EEKLY HOUR-LONG SERIES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DIRECT A FILM THAT MADE MORE THAN $1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WERE MARRIED TWICE.  WHICH ONE WAS MARRIED THREE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ANA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MPAIGN MANAGER OF DONALD TRUMP HAS BEEN SENTENCED TO 7 YEARS IN JA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MICK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676440" y="762120"/>
            <a:ext cx="7791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LEFTY" WON EVERY MAJOR GOLF TOURNAMENT EXCEPT THE U.S. OPEN, WHERE HE FINISHED RUNNER-UP 6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K  MACN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1219320" y="7621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 STEED ON 6 SEASONS OF "THE AVENG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LARRY KING ON CNN FOR 3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80920" y="7398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ARTIST PAINTED THESE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428760" y="2666880"/>
            <a:ext cx="2253960" cy="228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tretch/>
        </p:blipFill>
        <p:spPr>
          <a:xfrm>
            <a:off x="3008160" y="2666880"/>
            <a:ext cx="3127680" cy="2286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3"/>
          <a:stretch/>
        </p:blipFill>
        <p:spPr>
          <a:xfrm>
            <a:off x="6480000" y="2666880"/>
            <a:ext cx="22179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INDIANAPOLIS COLTS 1998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APPEARED WEEKLY ON "THE OPRAH WINFREY SHOW" BEFORE GETTING HIS OWN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EEKLY HOUR-LONG SERIES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DIRECT A FILM THAT MADE MORE THAN $10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MPAIGN MANAGER OF DONALD TRUMP HAS BEEN SENTENCED TO 7 YEARS IN JA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22:17:27Z</dcterms:modified>
  <cp:revision>359</cp:revision>
  <dc:subject/>
  <dc:title>Slide 1</dc:title>
</cp:coreProperties>
</file>