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80E5-87F4-4A6E-A5BD-66B1F59C3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6AA6-EA5C-4DAC-8C31-2B36A09C1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51A4-616C-4781-9E21-EF49B26F8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6AD9-F7EE-4EC8-8E02-CD78A932C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28E7-3030-4230-A1D1-B1402CF3C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36CC-BCA3-4621-AF9A-AE3130AD0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9874-2452-4D50-B840-CF80B7508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DF41-F457-4766-9B91-EB1EF0E20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EED8-6D3C-4B0F-9A27-9D120EC9F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D635-7AC4-40C1-8561-B7AF9C6C7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DA33-FAB2-4C78-A8FA-10DBA6FB4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F5D6-4866-44C4-A110-D24D69827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830D-6C24-404C-9A8C-72691B86F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542D-0978-44D2-B52A-F6445EFE7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8CF7-9FE4-4EE4-91C5-1D55199E6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B0C6-047A-4D49-9A74-8F9EDD39B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D8B3-E6D5-4B53-908B-89B105DE6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EB40-5B30-4196-97DC-0171B09FF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374A-4B00-4358-AC94-496E834F8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69B3-3236-4526-A33D-3AA08F1EE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D8FC-7ED9-4A73-9B95-209356E6B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041F-EDC5-4231-9F2E-D6CF24143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C5A2-44A5-49E8-8364-19FB83364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52520" y="761760"/>
            <a:ext cx="6438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ACK IN THE HIGH LIFE AG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66720" y="762120"/>
            <a:ext cx="7810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NOWBOARDER HAS WON 3 OLYMPIC GOLD MEDALS AND HOLDS        THE RECORD FOR MOST             X-GAMES GOLD MED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  WATER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CK MCCOY ON "LAW AND OR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05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ENA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TENNIS PLAYER HAS WON THE MOST PRIZE MON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T  WAL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GOVERNOR OF WISCONSIN 2011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83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GOURNEY  WEA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ALIEN" AND "AVAT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IE  WO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 JUST CALLED TO SAY I LOVE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WOZNI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-FOUNDED APPLE COMPUTERS WITH STEVE JOB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LLEY  WI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RESS OSCARS FOR "THE DIARY OF ANNE FRANK" AND "A PATCH OF BL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CK MCCOY ON "LAW AND OR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98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  WA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ONSIDERED THE RICHEST MAN IN AMERICA 1982-1988, UNTIL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FORB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TTRIBUTED SOME OF HIS WEALTH TO HIS 4 CHILD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WIN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52520" y="762120"/>
            <a:ext cx="6438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ACK IN THE HIGH LIFE AG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UN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74800" y="762120"/>
            <a:ext cx="7394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NOWBOARDER HAS WON 3 OLYMPIC GOLD MEDALS AND HOLDS      THE RECORD FOR MOST          X-GAMES GOLD MED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TENNIS PLAYER HAS WON THE MOST PRIZE MON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GOVERNOR OF WISCONSIN 2011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ALIEN" AND "AVATA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 JUST CALLED TO SAY I LOVE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-FOUNDED APPLE COMPUTERS WITH STEVE JOB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RESS OSCARS FOR "THE DIARY OF ANNE FRANK" AND     "A PATCH OF BLU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ONSIDERED THE RICHEST MAN IN AMERICA 1982-1988, UNTIL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FORB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TTRIBUTED SOME OF HIS WEALTH TO HIS 4 CHILDR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6T19:06:06Z</dcterms:created>
  <dc:creator>Jennifer Budzinski</dc:creator>
  <dc:description/>
  <dc:language>en-US</dc:language>
  <cp:lastModifiedBy>Erich Friedman</cp:lastModifiedBy>
  <dcterms:modified xsi:type="dcterms:W3CDTF">2020-08-26T22:18:56Z</dcterms:modified>
  <cp:revision>341</cp:revision>
  <dc:subject/>
  <dc:title>Slide 1</dc:title>
</cp:coreProperties>
</file>