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A514-4FCC-45B8-82C2-1648F6D83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DEC5-121F-4723-AA01-E686B69FB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0130-9572-43DE-9E10-19656A67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E720-B4E0-44FA-9913-841F0C390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55E9-3D33-4346-B732-6A620775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4F31-8B81-4FC6-8698-4003AF5B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7B02-3D08-441C-A99C-220C5C0E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33FB-DDE8-432D-82C7-0AB9DE1A8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D13-D42C-4348-A1F0-E2315CE9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C907-5854-44A5-80D1-75138A56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154-4477-41A2-A956-240CDAF8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8B4C-64F0-48B4-B7E2-896ECC9F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C383-7EA4-4CD5-92EF-20AF2460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7C79-63B1-4E49-A9CE-2934634E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7456-EF7A-4DD4-8279-7E537950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AFA0-BBD2-4A71-870D-B31FFA4E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127E-2028-4689-A5AE-B90C39E5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A2B1-4256-45A2-99DA-B1B009C1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62D9-8B55-4461-99CE-F4103957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1181-A84F-4751-AF7F-3E65F883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E8F-49AD-41DB-B7B5-9FEB9383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7947-5EB7-45F9-8463-C86E25C6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CA3-BF67-41EE-BD4B-7B70BA09F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CK IN THE HIGH LIFE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66720" y="762120"/>
            <a:ext cx="781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3 OLYMPIC GOLD MEDALS AND HOLDS        THE RECORD FOR MOST             X-GAMES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WATER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MCCOY ON "LAW AND OR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PLAYER HAS WON THE MOST PRIZE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WISCONSIN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OURNEY  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ALIEN"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JUST CALLED TO SAY I LOVE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WOZN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APPLE COMPUTERS WITH STEVE JO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EY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OSCARS FOR "THE DIARY OF ANNE FRANK" AND "A PATCH OF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MCCOY ON "LAW AND OR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W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NSIDERED THE RICHEST MAN IN AMERICA 1982-1988, UNTI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TTRIBUTED SOME OF HIS WEALTH TO HIS 4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WIN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CK IN THE HIGH LIF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UN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4800" y="762120"/>
            <a:ext cx="7394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3 OLYMPIC GOLD MEDALS AND HOLDS      THE RECORD FOR MOST          X-GAMES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PLAYER HAS WON THE MOST PRIZE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WISCONSIN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ALIEN"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JUST CALLED TO SAY I LOVE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APPLE COMPUTERS WITH STEVE JO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OSCARS FOR "THE DIARY OF ANNE FRANK" AND     "A PATCH OF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NSIDERED THE RICHEST MAN IN AMERICA 1982-1988, UNTI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TTRIBUTED SOME OF HIS WEALTH TO HIS 4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9:06:06Z</dcterms:created>
  <dc:creator>Jennifer Budzinski</dc:creator>
  <dc:description/>
  <dc:language>en-US</dc:language>
  <cp:lastModifiedBy>Erich Friedman</cp:lastModifiedBy>
  <dcterms:modified xsi:type="dcterms:W3CDTF">2020-08-26T22:18:56Z</dcterms:modified>
  <cp:revision>341</cp:revision>
  <dc:subject/>
  <dc:title>Slide 1</dc:title>
</cp:coreProperties>
</file>