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4945-E024-4533-8C8C-F05955882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80A5-C470-4590-8D39-759818658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192E-8C5C-44BA-8DDD-7E2F951EC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8E8D-AD97-4E79-9989-F473D84F6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B7B9-6B68-4617-8878-6F0373D5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2F4D-15AB-42FB-AE97-A37D1ECBB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9261-AF90-48A4-B49E-F6AAA9587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50B0-D0A6-470A-A674-52D96CB1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8A98-D1D3-4115-BDEF-CC63C0B92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9CCE-2DF7-451E-91AE-FA96AE8FC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DCB3-CB06-454F-B2E6-30FF1E62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0825-192D-42FE-9793-36BBF08C3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D6AD-6E5E-4273-AAED-BE946F9B8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069E-895C-490C-8350-9BEE05188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646A-2DDD-4C13-A8F5-6AD4DA2DE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CD2B-6593-42A3-ADD1-92EACA306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3EA9-5377-4E8B-A4C3-90613B05C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4AE8-E094-4636-9A01-FE68BD54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755-208E-48E3-A1BC-EF7BB1751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ADFB-54D8-4256-BFBA-E7F52EF29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1E15-5C98-4420-B4B8-25C56BFE9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E300-0605-493D-BE6F-598BCE2FB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6B83-BD94-4D0C-90E4-B0720CA3B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URNALIST AND LAWYER WAS THE MODERATOR OF "MEET THE PRESS" FOR 1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MUSICIAN'S #1 HITS WERE "YOU TWO-TIMED ME ONE TIME TOO OFTEN", "I'M WASTING MY TEARS ON YOU", AND "YOU WILL HAVE TO PA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E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656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ROBB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04720" y="762120"/>
            <a:ext cx="8153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IS BEST KNOWN FOR "THE SHAWSHANK REDEMPTION" BUT WON HIS OSCAR FOR "MYSTIC RI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RAN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ELIX UNGER ON TV'S "THE ODD COU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R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OF THE DALLAS COWBOYS 2006-2015 BUT NEVER PLAYED IN THE SUPER B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D  RUNDG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LLO IT'S ME", "I SAW THE LIGHT", AND "BANG THE DRUM ALL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280" y="762120"/>
            <a:ext cx="883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ACTOR AND PROFESSIONAL WRESTLER DWAYNE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R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LORD VOLDEMORT, HARRY POTTER'S MAIN VILL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6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THE DAVE MATTHEWS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RUS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URNALIST AND LAWYER WAS THE MODERATOR OF "MEET THE PRESS" FOR 1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  R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MUSICIAN'S #1 HITS WERE "YOU TWO-TIMED ME ONE TIME TOO OFTEN", "I'M WASTING MY TEARS ON YOU", AND "YOU WILL HAVE TO PA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IS BEST KNOWN FOR "THE SHAWSHANK REDEMPTION" BUT WON HIS OSCAR FOR "MYSTIC RI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ELIX UNGER ON TV'S "THE ODD COU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OF THE DALLAS COWBOYS 2006-2015 BUT NEVER PLAYED IN THE SUPER BOW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LLO IT'S ME", "I SAW THE LIGHT", AND "BANG THE DRUM ALL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ACTOR AND PROFESSIONAL WRESTLER DWAYNE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LORD VOLDEMORT, HARRY POTTER'S MAIN VILL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THE DAVE MATTHEWS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22:43:42Z</dcterms:created>
  <dc:creator>Jennifer Budzinski</dc:creator>
  <dc:description/>
  <dc:language>en-US</dc:language>
  <cp:lastModifiedBy>Erich Friedman</cp:lastModifiedBy>
  <dcterms:modified xsi:type="dcterms:W3CDTF">2020-08-27T10:39:54Z</dcterms:modified>
  <cp:revision>348</cp:revision>
  <dc:subject/>
  <dc:title>Slide 1</dc:title>
</cp:coreProperties>
</file>