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21E3-BCA0-483A-866C-7F92533E2C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2334-9D17-46CA-8EC0-628BD8EA2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93C4-AD2A-4AF2-917D-91AA1D196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1E36-0FD1-44BD-8848-D7286394D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E692-731B-4005-A74C-62D6AB720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747A-5547-419B-8749-6C587CA50D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96315-D974-47C7-ADB7-71B4E3713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C3AD-72E4-40C6-BF8B-B9641C15B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1A69-2CDB-479E-A683-FC60055E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837F-D851-4C48-B1C4-243FA59E8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D68-B63A-4488-8EB9-A8BD2F89C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69C7-3845-4F27-8A5D-211686E8B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B136-3369-4284-A7AA-8820B1263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3B15-1C58-4267-B7AE-456336A93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8F23-1625-435C-A628-93E02377E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5E75-FF65-4DE5-9690-73AA8A7507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AA5C9-6C46-43DE-9175-A72E0F23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D28F-7AA0-4EAE-9FE7-283851DAB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D85E-F4D8-43F6-B59F-234F57A8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6DE52-AD30-4A4C-A870-7F1A54F8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2EF1-BF7D-4F0B-BBD1-7054D8AA5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D0AF-DF12-465C-84E1-C15B837E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60DD-98D2-44E4-830D-C83EFAC4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ALIST AND LAWYER WAS THE MODERATOR OF "MEET THE PRESS" FOR 16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MUSICIAN'S #1 HITS WERE "YOU TWO-TIMED ME ONE TIME TOO OFTEN", "I'M WASTING MY TEARS ON YOU", AND "YOU WILL HAVE TO P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ODORE  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6656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OBB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04720" y="762120"/>
            <a:ext cx="8153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IS BEST KNOWN FOR "THE SHAWSHANK REDEMPTION" BUT WON HIS OSCAR FOR "MYSTIC RIV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RAND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ELIX UNGER ON TV'S "THE ODD COU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R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OF THE DALLAS COWBOYS 2006-2015 BUT NEVER PLAYED IN THE SUPER BOW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D  R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LLO IT'S ME", "I SAW THE LIGHT", AND "BANG THE DRUM ALL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2280" y="762120"/>
            <a:ext cx="883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ACTOR AND PROFESSIONAL WRESTLER DWAYNE JOHN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R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LORD VOLDEMORT, HARRY POTTER'S MAIN VILL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YOUNGEST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600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EYNO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81160" y="762120"/>
            <a:ext cx="6781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THE DAVE MATTHEWS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  RUSS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OURNALIST AND LAWYER WAS THE MODERATOR OF "MEET THE PRESS" FOR 16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  R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00280" y="762120"/>
            <a:ext cx="754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COUNTRY MUSICIAN'S #1 HITS WERE "YOU TWO-TIMED ME ONE TIME TOO OFTEN", "I'M WASTING MY TEARS ON YOU", AND "YOU WILL HAVE TO PAY"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IS BEST KNOWN FOR "THE SHAWSHANK REDEMPTION" BUT WON HIS OSCAR FOR "MYSTIC RIV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FELIX UNGER ON TV'S "THE ODD COUP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STARTING QUARTERBACK OF THE DALLAS COWBOYS 2006-2015 BUT NEVER PLAYED IN THE SUPER BOW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LLO IT'S ME", "I SAW THE LIGHT", AND "BANG THE DRUM ALL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ING NAME OF ACTOR AND PROFESSIONAL WRESTLER DWAYNE JOHN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AL NAME OF LORD VOLDEMORT, HARRY POTTER'S MAIN VILL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LEAD GUITARIST FOR THE DAVE MATTHEWS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2:43:42Z</dcterms:created>
  <dc:creator>Jennifer Budzinski</dc:creator>
  <dc:description/>
  <dc:language>en-US</dc:language>
  <cp:lastModifiedBy>Erich Friedman</cp:lastModifiedBy>
  <dcterms:modified xsi:type="dcterms:W3CDTF">2020-08-27T10:39:54Z</dcterms:modified>
  <cp:revision>348</cp:revision>
  <dc:subject/>
  <dc:title>Slide 1</dc:title>
</cp:coreProperties>
</file>