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2EC4-0015-44CD-A602-C72F0F677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647E-27CE-418B-ABAE-845F80D5D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A1E7-F162-4F99-BEDB-834A0086C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9727-0C63-4208-97AA-7AD6913B4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6794-BDBF-4298-A06F-1E4320FA2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574B-65CA-4B4E-9FC1-4C9E84EE2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F632-281A-4A4F-A838-003D1ED3D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65A3-7370-4A89-83B6-13F65B206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E210-C671-4D7E-B9A6-74DC5381B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E06A-B66B-49B8-ADAF-32E712782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21D2-A489-4CF8-88E9-0440FD0B5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6005-C113-47A4-9844-0B20770BD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68B1-5187-483E-B04B-2FDA378C5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3168-1E84-4A5F-B64D-6DCC0DE61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9212-2AD5-4B17-8DC9-BA1411813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288F-5126-4F6C-928C-68716D4BB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559E-C7F1-45DB-AE50-3240BE6EB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7F89-4662-417D-A29C-510F553DC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2BA0-F44F-457E-8849-D22C8F4BB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7ACE-C23C-48E9-8F4F-3513BA40D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693E-6952-4FFD-9B3A-61ACE9A8B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E713-3A36-4E05-9451-4FC92CF97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D173-35AF-4C40-9F49-C8FF8EF9E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URNALIST AND LAWYER WAS THE MODERATOR OF "MEET THE PRESS" FOR 16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OUNTRY MUSICIAN'S #1 HITS WERE "YOU TWO-TIMED ME ONE TIME TOO OFTEN", "I'M WASTING MY TEARS ON YOU", AND "YOU WILL HAVE TO PAY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ODORE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U.S.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6656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ROBB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04720" y="762120"/>
            <a:ext cx="8153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IS BEST KNOWN FOR "THE SHAWSHANK REDEMPTION" BUT WON HIS OSCAR FOR "MYSTIC RI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RAND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ELIX UNGER ON TV'S "THE ODD COUP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R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OF THE DALLAS COWBOYS 2006-2015 BUT NEVER PLAYED IN THE SUPER BOW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DD  RUNDG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ELLO IT'S ME", "I SAW THE LIGHT", AND "BANG THE DRUM ALL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2280" y="762120"/>
            <a:ext cx="8839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ING NAME OF ACTOR AND PROFESSIONAL WRESTLER DWAYNE JOHN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R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LORD VOLDEMORT, HARRY POTTER'S MAIN VILL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U.S.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9600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REYNO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81160" y="762120"/>
            <a:ext cx="678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GUITARIST FOR THE DAVE MATTHEWS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RUSS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URNALIST AND LAWYER WAS THE MODERATOR OF "MEET THE PRESS" FOR 16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X  R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OUNTRY MUSICIAN'S #1 HITS WERE "YOU TWO-TIMED ME ONE TIME TOO OFTEN", "I'M WASTING MY TEARS ON YOU", AND "YOU WILL HAVE TO PAY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IS BEST KNOWN FOR "THE SHAWSHANK REDEMPTION" BUT WON HIS OSCAR FOR "MYSTIC RIV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ELIX UNGER ON TV'S "THE ODD COUP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OF THE DALLAS COWBOYS 2006-2015 BUT NEVER PLAYED IN THE SUPER BOW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ELLO IT'S ME", "I SAW THE LIGHT", AND "BANG THE DRUM ALL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ING NAME OF ACTOR AND PROFESSIONAL WRESTLER DWAYNE JOHN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LORD VOLDEMORT, HARRY POTTER'S MAIN VILL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GUITARIST FOR THE DAVE MATTHEWS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22:43:42Z</dcterms:created>
  <dc:creator>Jennifer Budzinski</dc:creator>
  <dc:description/>
  <dc:language>en-US</dc:language>
  <cp:lastModifiedBy>Erich Friedman</cp:lastModifiedBy>
  <dcterms:modified xsi:type="dcterms:W3CDTF">2020-08-27T10:39:54Z</dcterms:modified>
  <cp:revision>348</cp:revision>
  <dc:subject/>
  <dc:title>Slide 1</dc:title>
</cp:coreProperties>
</file>