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8C9C-A945-47A9-A9E7-B270F9945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1A96-D05B-4A13-8AAC-BE9C138E0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3ECB-F493-4B86-8E2D-E980C0D08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EF71-2D64-4A63-BDFD-7C5590FB7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4086-B967-426C-A805-1968F1EA0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9B21-BD97-4AA6-A8B0-192F042B1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DD15-6EEA-48DB-A9CE-AE91AD9A8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5529-64EC-4419-B5F6-31696C81D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ED86-8D5F-4D3A-9BD3-C3848B1AC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CCF7-4573-4E4C-AD43-DFBBAE4A6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DAEF-48FF-4DFB-9EC1-16F94A8A2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7B6F-0ECF-48CC-9BE4-2BFF2F407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A20F-8BBA-487E-819E-18E58DE83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63E1-BE9A-4CEB-BD6A-644406527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9329-B185-43AF-8087-7E3E5653A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C5FE-7A41-4FD9-A1DC-C992B37C2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5438-6C24-489F-8428-F7FFDA86A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5B34-4EDE-417F-90D0-EE89734EB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F576-98E3-488F-B3BD-4885132DC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8139-31D6-4DD2-B9AD-AD7C4CA46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994C-0D51-478E-9D3C-761D53915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7E3A-B761-475C-A68C-8AE1D1132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E098-7B75-4496-AC03-BBAC48974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6360" y="761760"/>
            <a:ext cx="799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PLAYER HOLDS  THE RECORDS FOR MOST CAREER HOME RUNS, MOST HOME RUNS IN A SEASON, AND MOST CAREER WAL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37960" y="762120"/>
            <a:ext cx="8668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HEAD COACH HAS WON MORE PLAYOFF GAMES THAN ANYONE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5240" y="4876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BERNAN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26960" y="762120"/>
            <a:ext cx="8288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HAIRMAN OF THE FEDERAL RESERVE 2006-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U  BRID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LDEN GLOBE, EMMY, AND GRAMMY-WINNING ACTOR'S FATHER LLOYD AND BROTHER JEFF ARE ALSO FAMOUS AC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276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BRA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33440" y="762120"/>
            <a:ext cx="82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ETECTIVE REY CURTIS ON "LAW &amp; ORDER" FOR 4 SEASONS AND THE TITLE CHARACTER ON "THE CLEANER" FOR 2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12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IS  BE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47880" y="762120"/>
            <a:ext cx="724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WIMBLEDON'S MEN'S SINGLE TITLE IN 1985, 1986, AND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AZIR  BHU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OMAN TO HEAD A DEMOCRATIC MUSLIM-MAJORITY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BAR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62080" y="762120"/>
            <a:ext cx="6819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OST OF "THE PRICE IS RIGHT" FOR 35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KE  BOR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42880" y="762120"/>
            <a:ext cx="8058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FOR THE JACKSONVILLE JAGUARS 2014-2018 WAS RECENTLY TRADED TO THE R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53520" y="762120"/>
            <a:ext cx="8434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HAIRMAN OF THE FEDERAL RESERVE 2006-20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RA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3400" y="762120"/>
            <a:ext cx="6935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FIRST LADY DIED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Y  B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57280" y="762120"/>
            <a:ext cx="8029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PLAYER HOLDS  THE RECORDS FOR MOST CAREER HOME RUNS, MOST HOME RUNS IN A SEASON, AND MOST CAREER WAL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BELICH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14280" y="762120"/>
            <a:ext cx="851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HEAD COACH HAS WON MORE PLAYOFF GAMES THAN ANYONE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30360" y="761760"/>
            <a:ext cx="7881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LDEN GLOBE, EMMY, AND GRAMMY-WINNING ACTOR'S FATHER LLOYD AND BROTHER JEFF ARE ALSO FAMOUS ACTO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09680" y="762120"/>
            <a:ext cx="832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ETECTIVE REY CURTIS ON "LAW &amp; ORDER" FOR 4 SEASONS AND THE TITLE CHARACTER ON "THE CLEANER" FOR 2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09720" y="762120"/>
            <a:ext cx="7324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WIMBLEDON'S MEN'S SINGLE TITLE IN 1985, 1986, AND 198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04640" y="762120"/>
            <a:ext cx="8334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OMAN TO HEAD A DEMOCRATIC MUSLIM-MAJORITY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OST OF "THE PRICE IS RIGHT" FOR 35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06520" y="761760"/>
            <a:ext cx="8129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FOR THE JACKSONVILLE JAGUARS 2014-2018 WAS RECENTLY TRADED TO THE R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62240" y="761760"/>
            <a:ext cx="641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FIRST LADY DIED IN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7T10:41:01Z</dcterms:modified>
  <cp:revision>372</cp:revision>
  <dc:subject/>
  <dc:title>Slide 1</dc:title>
</cp:coreProperties>
</file>