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FD8FA-2077-4D94-9DF4-B72B6B741C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A0952-FE5A-4DA8-B584-AB74CBF6D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1BD47-705D-4D74-AFBB-02ED18EA1F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A5CB8-DC10-4754-B982-66A6C3F9A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1D595-DB2B-411E-8F01-57E70290C0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E175E-1DC2-4BC8-9CD1-5583588C8F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BB36B-D9C3-4094-A023-A476E81F70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66E91-B802-40C5-AAC6-7DFB316806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A6AA6-EACF-4A31-BB8E-2C7939B17A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3A86A-A6AC-4ACF-BFB0-978E5DDAB3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11193-1341-4605-A033-807515D8A7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D6161-2FC2-432E-91AA-C500DF62AB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A8A62-A047-4AD4-AF99-640FE47EE4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93C12-7315-482A-A601-0BAD5C2A66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B1CA6-AD67-44E5-96DD-F381771ED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D54A7-B71C-4487-B825-49FCC7E645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B51AC-BB42-4DEB-A979-587421CAF8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0F2CC-E2D6-4F95-B5BB-A2E7634AF1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E521A-EFCB-4D66-8AF0-B3AFF305B0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94DEA-2A48-4E75-8953-9FE03A1ECD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81A14-686A-4C56-8FA2-406292FA3C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24AA5-694D-4CE0-91C1-1A1B8AFE31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C3A52-D653-4AE9-98C4-C91A4AF11E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76360" y="761760"/>
            <a:ext cx="7991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LB PLAYER HOLDS  THE RECORDS FOR MOST CAREER HOME RUNS, MOST HOME RUNS IN A SEASON, AND MOST CAREER WALK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237960" y="762120"/>
            <a:ext cx="8668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FL HEAD COACH HAS WON MORE PLAYOFF GAMES THAN ANYONE EL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5240" y="4876920"/>
            <a:ext cx="701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N  BERNAN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26960" y="762120"/>
            <a:ext cx="8288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CHAIRMAN OF THE FEDERAL RESERVE 2006-201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AU  BRID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85800" y="762120"/>
            <a:ext cx="7772400" cy="30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OLDEN GLOBE, EMMY, AND GRAMMY-WINNING ACTOR'S FATHER LLOYD AND BROTHER JEFF ARE ALSO FAMOUS ACTO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9276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NJAMIN  BRAT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33440" y="762120"/>
            <a:ext cx="8277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DETECTIVE REY CURTIS ON "LAW &amp; ORDER" FOR 4 SEASONS AND THE TITLE CHARACTER ON "THE CLEANER" FOR 2 SEAS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1280" y="488484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RIS  BE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47880" y="762120"/>
            <a:ext cx="7246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WIMBLEDON'S MEN'S SINGLE TITLE IN 1985, 1986, AND 198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NAZIR  BHUT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38120" y="762120"/>
            <a:ext cx="8267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WOMAN TO HEAD A DEMOCRATIC MUSLIM-MAJORITY COUNT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B  BAR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162080" y="762120"/>
            <a:ext cx="68198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HOST OF "THE PRICE IS RIGHT" FOR 35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KE  BORT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42880" y="762120"/>
            <a:ext cx="8058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QUARTERBACK FOR THE JACKSONVILLE JAGUARS 2014-2018 WAS RECENTLY TRADED TO THE RA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53520" y="762120"/>
            <a:ext cx="84344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CHAIRMAN OF THE FEDERAL RESERVE 2006-2014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8484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RBARA  BU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103400" y="762120"/>
            <a:ext cx="69357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RMER FIRST LADY DIED IN 201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RRY  BO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57280" y="762120"/>
            <a:ext cx="80294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LB PLAYER HOLDS  THE RECORDS FOR MOST CAREER HOME RUNS, MOST HOME RUNS IN A SEASON, AND MOST CAREER WALK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LL  BELICHI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314280" y="762120"/>
            <a:ext cx="85154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FL HEAD COACH HAS WON MORE PLAYOFF GAMES THAN ANYONE EL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30360" y="761760"/>
            <a:ext cx="7881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OLDEN GLOBE, EMMY, AND GRAMMY-WINNING ACTOR'S FATHER LLOYD AND BROTHER JEFF ARE ALSO FAMOUS ACTO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09680" y="762120"/>
            <a:ext cx="8324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DETECTIVE REY CURTIS ON "LAW &amp; ORDER" FOR 4 SEASONS AND THE TITLE CHARACTER ON "THE CLEANER" FOR 2 SEAS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09720" y="762120"/>
            <a:ext cx="7324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WIMBLEDON'S MEN'S SINGLE TITLE IN 1985, 1986, AND 1989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04640" y="762120"/>
            <a:ext cx="8334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WOMAN TO HEAD A DEMOCRATIC MUSLIM-MAJORITY COUNT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143000" y="761760"/>
            <a:ext cx="6858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HOST OF "THE PRICE IS RIGHT" FOR 35 YE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06520" y="761760"/>
            <a:ext cx="81295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QUARTERBACK FOR THE JACKSONVILLE JAGUARS 2014-2018 WAS RECENTLY TRADED TO THE RA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362240" y="761760"/>
            <a:ext cx="6419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RMER FIRST LADY DIED IN 201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2T15:54:55Z</dcterms:created>
  <dc:creator>Jennifer Budzinski</dc:creator>
  <dc:description/>
  <dc:language>en-US</dc:language>
  <cp:lastModifiedBy>Erich Friedman</cp:lastModifiedBy>
  <dcterms:modified xsi:type="dcterms:W3CDTF">2020-08-27T10:41:01Z</dcterms:modified>
  <cp:revision>372</cp:revision>
  <dc:subject/>
  <dc:title>Slide 1</dc:title>
</cp:coreProperties>
</file>