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A031-1397-46BC-9B98-C2D77A7DE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13EC-8E03-42D5-AF44-B1020D5BD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DCF4-1BA2-45FD-9190-F9DEB2118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793F-06D4-4334-BC65-ED3E41F73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C215-B2B2-4F64-BFF8-AD5641B82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7300-6025-4202-AD55-1CF80719C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0F4D-AA81-4252-8D26-3E945B24F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2E1C-609F-4799-A2CB-9AA287DC3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B365-88BC-4232-9F70-91D5B217E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09D7-A5F0-42B4-8D6D-A7BD00E86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219F-A619-44BD-8CF8-91DC3CD95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A405-ED53-4CEE-833E-E5E8C0DE6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B290-0FC8-4546-8E92-3F0D8223A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278E-0AD6-41BB-8077-A0C59DDE4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9580-6EC3-48EA-80C5-3ED7BA084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B6C5-7733-4E26-B7F3-56E0F9068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7824-9FDD-4C84-85D3-F25C7FBE7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F190-77B3-49E2-8C81-D54C0CC2C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3BF9-08F7-438E-A7C6-32D821197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BAFC-6094-4683-96AB-37524A8B6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CCA7-E5D5-4516-AA57-01D083AF5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532B-E80E-4F83-8D6C-C7BF28558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7DEA-900A-4878-9B5A-E56845A86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6360" y="761760"/>
            <a:ext cx="7991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PLAYER HOLDS  THE RECORDS FOR MOST CAREER HOME RUNS, MOST HOME RUNS IN A SEASON, AND MOST CAREER WAL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37960" y="762120"/>
            <a:ext cx="8668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HEAD COACH HAS WON MORE PLAYOFF GAMES THAN ANYONE EL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5240" y="487692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  BERNAN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26960" y="762120"/>
            <a:ext cx="8288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HAIRMAN OF THE FEDERAL RESERVE 2006-201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U  BRID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0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OLDEN GLOBE, EMMY, AND GRAMMY-WINNING ACTOR'S FATHER LLOYD AND BROTHER JEFF ARE ALSO FAMOUS ACT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9276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JAMIN  BRA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33440" y="762120"/>
            <a:ext cx="82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ETECTIVE REY CURTIS ON "LAW &amp; ORDER" FOR 4 SEASONS AND THE TITLE CHARACTER ON "THE CLEANER" FOR 2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1280" y="488484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RIS  BE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47880" y="762120"/>
            <a:ext cx="724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WIMBLEDON'S MEN'S SINGLE TITLE IN 1985, 1986, AND 198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AZIR  BHU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38120" y="762120"/>
            <a:ext cx="8267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WOMAN TO HEAD A DEMOCRATIC MUSLIM-MAJORITY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BAR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62080" y="762120"/>
            <a:ext cx="6819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HOST OF "THE PRICE IS RIGHT" FOR 35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KE  BOR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42880" y="762120"/>
            <a:ext cx="8058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FOR THE JACKSONVILLE JAGUARS 2014-2018 WAS RECENTLY TRADED TO THE RA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53520" y="762120"/>
            <a:ext cx="8434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HAIRMAN OF THE FEDERAL RESERVE 2006-201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8484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BARA  B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03400" y="762120"/>
            <a:ext cx="6935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FIRST LADY DIED IN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RY  B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57280" y="762120"/>
            <a:ext cx="80294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PLAYER HOLDS  THE RECORDS FOR MOST CAREER HOME RUNS, MOST HOME RUNS IN A SEASON, AND MOST CAREER WAL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BELICH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14280" y="762120"/>
            <a:ext cx="8515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HEAD COACH HAS WON MORE PLAYOFF GAMES THAN ANYONE EL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30360" y="761760"/>
            <a:ext cx="7881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OLDEN GLOBE, EMMY, AND GRAMMY-WINNING ACTOR'S FATHER LLOYD AND BROTHER JEFF ARE ALSO FAMOUS ACTO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09680" y="762120"/>
            <a:ext cx="8324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ETECTIVE REY CURTIS ON "LAW &amp; ORDER" FOR 4 SEASONS AND THE TITLE CHARACTER ON "THE CLEANER" FOR 2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09720" y="762120"/>
            <a:ext cx="7324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WIMBLEDON'S MEN'S SINGLE TITLE IN 1985, 1986, AND 198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04640" y="762120"/>
            <a:ext cx="8334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WOMAN TO HEAD A DEMOCRATIC MUSLIM-MAJORITY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HOST OF "THE PRICE IS RIGHT" FOR 35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06520" y="761760"/>
            <a:ext cx="8129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FOR THE JACKSONVILLE JAGUARS 2014-2018 WAS RECENTLY TRADED TO THE RA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362240" y="761760"/>
            <a:ext cx="6419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FIRST LADY DIED IN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08-27T10:41:01Z</dcterms:modified>
  <cp:revision>372</cp:revision>
  <dc:subject/>
  <dc:title>Slide 1</dc:title>
</cp:coreProperties>
</file>