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578-5890-4AB0-9576-234BDB3B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DC8A-E526-4E23-B514-92F18539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CB6C-C82E-4368-B9C9-C30A3F2E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346-18B0-42EA-9257-5DBAD3D1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524B-B552-4BC1-803D-9408647B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F0D-1F79-43D9-BD51-C7969220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9350-50E3-4DDE-8F54-41822D22B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454-7CEF-44A2-99B2-45CBE0B7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EAA-C7EB-4ED4-B73C-F9916F90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7251-A2BC-4CE7-8A05-1ED0035D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ACA-ACC5-428C-A713-D10A27DB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363-C178-4982-9E52-4C91EE6A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1DA-5811-4CE3-911F-2F6BF127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382A-AF9E-4B0D-A6F9-6D043D3EA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2119-917C-4642-BE44-464043EB8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B0B6-8D6B-4E42-A6D8-4A1522DD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B71-06B8-4BBE-91B3-80C0AAB6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F0D2-4528-4719-8D01-6BF5A4A1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464-FDBF-489E-8D39-A6AB6FBF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BE2-7F31-47A0-ACCA-D84A63E9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01C-482C-4A1B-8372-29079CB6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0AA-1B3A-471F-A639-D21188BF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41A-FA34-41F3-A416-A73D7D85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 ROCKFORD ON "THE ROCKFORD F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PLAYING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79400" y="762120"/>
            <a:ext cx="758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INDEPENDENCE DAY", AND THEIR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GALEC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69840" y="770040"/>
            <a:ext cx="720252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ID HEALY ON "ROSANNE" AND LEONARD HOFSTADTER ON "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KE  GYLLENH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DONNIE DARKO" AND "PRINCE OF PERSIA: THE SANDS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FIRST BILLING FOR THE FILMS "ELEKTRA" AND "THE ODD LIFE OF TIMOTHY GR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NDOLF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SOPRANO ON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62080" y="762120"/>
            <a:ext cx="68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OROTH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GL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LPH KRAMDEN ON "THE HONEYMOON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INDEPENDENCE DAY", AND THEIR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O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88920" y="762120"/>
            <a:ext cx="716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THE COHEN BROTHERS' FILMS "RAISING ARIZONA", "BARTON FINK", AND   "THE BIG LEBOWSK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7280" y="762120"/>
            <a:ext cx="802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 ROCKFORD ON "THE ROCKFORD F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IELG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PLAYING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0560" y="761760"/>
            <a:ext cx="7380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ID HEALY ON "ROSANNE" AND LEONARD HOFSTADTER ON "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DONNIE DARKO" AND "PRINCE OF PERSIA: THE SANDS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FIRST BILLING FOR THE FILMS "ELEKTRA" AND "THE ODD LIFE OF TIMOTHY GR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9600" y="762120"/>
            <a:ext cx="798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SOPRANO ON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OROTH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LPH KRAMDEN ON "THE HONEYMOON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THE COHEN BROTHERS' FILMS "RAISING ARIZONA", "BARTON FINK", AND   "THE BIG LEBOWSK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7T10:41:40Z</dcterms:modified>
  <cp:revision>371</cp:revision>
  <dc:subject/>
  <dc:title>Slide 1</dc:title>
</cp:coreProperties>
</file>