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4F4D-0865-4D80-AC65-A82CED30E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F8E0-30BB-4603-9A16-A28B42762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74B5-B32B-4A6D-A71A-11E2E0088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EF2CC-C236-489C-8339-CAD5DE776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D652-2914-4CBB-8E53-CE656ED1C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A763-AD43-4F32-8E3D-25556DF5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6842-6D24-4832-8E3F-FF21D9AD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2FA6-09D2-46DD-9538-B3919B15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BFF3-26ED-403E-A673-70950E3F8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7259-C9ED-4DB6-B922-4EA081735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EA4C-642E-49E3-B3C7-653D0667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60498-770F-4D1C-B110-5E89FCE1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A3C9-CDAB-4968-8B52-0CB943403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DA9A-5B51-48AF-BB5A-B0DDDBE4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899B-CE36-4A2A-9A61-EB23767F2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FD23-AE8A-42B2-9A27-825B540E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BBEC-2ED0-4DDC-AF95-B44DBF069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ABE-B0DF-469C-A60C-1198307E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0DBE-D01A-4C0A-915E-1CC2B96EB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625C-7AB1-453A-AF43-2A597D81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30513-A48B-43D7-A9F5-5C5DAFF5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8369-9743-4DBC-953D-E8AA54718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DE4F-0E1C-4459-BA92-D063466D3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 ROCKFORD ON "THE ROCKFORD F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PLAYING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79400" y="762120"/>
            <a:ext cx="7585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INDEPENDENCE DAY", AND THEIR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GALEC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69840" y="770040"/>
            <a:ext cx="720252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ID HEALY ON "ROSANNE" AND LEONARD HOFSTADTER ON "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KE  GYLLENH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DONNIE DARKO" AND "PRINCE OF PERSIA: THE SANDS OF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FIRST BILLING FOR THE FILMS "ELEKTRA" AND "THE ODD LIFE OF TIMOTHY GR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NDOLF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SOPRANO ON "THE SOPRANO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62080" y="762120"/>
            <a:ext cx="68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OROTH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GLEA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95160" y="762120"/>
            <a:ext cx="7753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LPH KRAMDEN ON "THE HONEYMOON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INDEPENDENCE DAY", AND THEIR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OO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88920" y="762120"/>
            <a:ext cx="7166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THE COHEN BROTHERS' FILMS "RAISING ARIZONA", "BARTON FINK", AND   "THE BIG LEBOWSK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7280" y="762120"/>
            <a:ext cx="8029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IM ROCKFORD ON "THE ROCKFORD F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IELG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PLAYING THE BUTLER IN "ARTH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0560" y="761760"/>
            <a:ext cx="7380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ID HEALY ON "ROSANNE" AND LEONARD HOFSTADTER ON "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DONNIE DARKO" AND "PRINCE OF PERSIA: THE SANDS OF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FIRST BILLING FOR THE FILMS "ELEKTRA" AND "THE ODD LIFE OF TIMOTHY GR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9600" y="762120"/>
            <a:ext cx="798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ONY SOPRANO ON "THE SOPRANO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OROTH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LPH KRAMDEN ON "THE HONEYMOON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42840" y="761760"/>
            <a:ext cx="725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PPEARED IN THE COHEN BROTHERS' FILMS "RAISING ARIZONA", "BARTON FINK", AND   "THE BIG LEBOWSK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7T10:41:40Z</dcterms:modified>
  <cp:revision>371</cp:revision>
  <dc:subject/>
  <dc:title>Slide 1</dc:title>
</cp:coreProperties>
</file>