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22D1-C7BA-442E-A948-3C7938F8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9596-3257-4865-9AC3-A27642F5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969-9F7C-49D0-8FAF-9CCF3F93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897B-1C84-48A4-BE52-8A081491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24A-BE70-43FF-A95B-620F3856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0FA-F644-4463-965A-FB0641EF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DAD-CB35-45CF-9A6A-AC77440A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FC7-EB46-4BEC-A9A3-04490C401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5AAB-57F7-4510-BC6F-4E986A17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8347-DB88-431F-8C7D-40A0E08F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E407-EBFD-4E9F-941F-EA530449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36B-78F1-4237-8860-29EEC34B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839F-7322-4D27-AC45-90F2EFA4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44B9-1DF4-44B7-82E8-4D5C20F6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46B4-0053-4A5B-8B68-460805AE1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35A-0C8B-486C-B40F-CFDBC08B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9EED-5BD9-4FB5-BE21-21B29CA9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153-1AEB-4F75-AE37-E51CBEA6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A2A-2DB6-47EF-9ABE-013DE157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8DA6-F191-4C36-86CF-D2D9E97B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72B4-4BBC-47F3-A762-E88C24232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4058-CDE2-4F2F-AB10-B22831FA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3E23-AA9D-4D80-B917-D6E9D850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CHRISTIAN POP" HAD THE FIRST CHRISTIAN ALBUM TO GO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ACTRESS WAS MARRIED TO MICKEY ROONEY, ARTIE SHAW, AND 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ORMER VICE PRESIDENT HAS WON A NOBEL PRIZE AND A GRAM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GREENS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HAIRMAN OF THE FEDERAL RESERVE FROM 1987 TO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356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THE BRIDGE ON THE RIVER KWA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3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HIS OWN SHOW BEFORE STARRING ON "MAT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O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OFTEN MISTITLED SONG "ALICE'S RESTAURANT MASSAC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5 HIT SONG "MY LITTLE TOWN" WITH PAUL SI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IE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THE HEISMAN TROPHY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ORMER VICE PRESIDENT HAS WON A NOBEL PRIZE AND A GRAM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TO THE RIVER", "TIRED OF BEING ALONE", AND HIS SIGNATURE SONG, "LET'S STAY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0536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CHRISTIAN POP" HAD THE FIRST CHRISTIAN ALBUM TO GO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  GARD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ACTRESS WAS MARRIED TO MICKEY ROONEY, ARTIE SHAW, AND 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HAIRMAN OF THE FEDERAL RESERVE FROM 1987 TO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THE BRIDGE ON THE RIVER KWA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HIS OWN SHOW BEFORE STARRING ON "MAT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OFTEN MISTITLED SONG "ALICE'S RESTAURANT MASSAC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5 HIT SONG "MY LITTLE TOWN" WITH PAUL SI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THE HEISMAN TROPHY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TO THE RIVER", "TIRED OF BEING ALONE", AND HIS SIGNATURE SONG, "LET'S STAY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6:30:10Z</dcterms:created>
  <dc:creator>Jennifer Budzinski</dc:creator>
  <dc:description/>
  <dc:language>en-US</dc:language>
  <cp:lastModifiedBy>Erich Friedman</cp:lastModifiedBy>
  <dcterms:modified xsi:type="dcterms:W3CDTF">2020-08-27T10:42:20Z</dcterms:modified>
  <cp:revision>347</cp:revision>
  <dc:subject/>
  <dc:title>Slide 1</dc:title>
</cp:coreProperties>
</file>