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9895-6327-4070-862E-7AED8ADB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6FAE-C8F7-4C0C-AD45-E2AAE1A6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3A51-2929-472C-B186-5628EBDA9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C1A3-B3BA-4E10-A69A-0C0BB1B2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53E8-3269-4FC8-87FF-E5D2F613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A4F-A2CC-41D4-B63C-D07EA2C6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B32-B074-40A9-B2C6-90A9CB7B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D57-F0DA-4354-ACED-16CC794ED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3C6-F9E1-462E-936B-4DAC349F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2B3-9A16-4742-84C8-5588D82B5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C8F4-AC4E-46DB-95D1-17594B37F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CEF7-3556-4F12-8866-842F60E90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1869-8412-49C2-A5C8-5283F638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308A-D680-4C61-8AC9-D85B7F8B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BC87-FBDD-4B18-8252-AF5790C4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908C-527D-4FA5-93F7-234A05FD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3C27-185F-4BF1-A16A-7CBB8DD8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F3C1-D7F6-4537-875C-ACFDBAA5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ACD5-1C21-49FC-846E-B2D4E774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1472-7A06-4F45-8E7F-9CCABB24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3D4C-27D7-4984-9B86-4EC2BDA7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1044-4904-4FE2-B351-E59645AF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6E3-4015-40FB-90C2-FCC2F760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CHRISTIAN POP" HAD THE FIRST CHRISTIAN ALBUM TO GO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ACTRESS WAS MARRIED TO MICKEY ROONEY, ARTIE SHAW, AND 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ORMER VICE PRESIDENT HAS WON A NOBEL PRIZE AND A GRAM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GREENS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HAIRMAN OF THE FEDERAL RESERVE FROM 1987 TO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3560" y="7621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THE BRIDGE ON THE RIVER KWA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3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HIS OWN SHOW BEFORE STARRING ON "MAT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O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OFTEN MISTITLED SONG "ALICE'S RESTAURANT MASSAC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5 HIT SONG "MY LITTLE TOWN" WITH PAUL SI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IE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THE HEISMAN TROPHY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ORMER VICE PRESIDENT HAS WON A NOBEL PRIZE AND A GRAMMY A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TO THE RIVER", "TIRED OF BEING ALONE", AND HIS SIGNATURE SONG, "LET'S STAY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0536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CHRISTIAN POP" HAD THE FIRST CHRISTIAN ALBUM TO GO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  GARD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ACTRESS WAS MARRIED TO MICKEY ROONEY, ARTIE SHAW, AND 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HAIRMAN OF THE FEDERAL RESERVE FROM 1987 TO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THE BRIDGE ON THE RIVER KWA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HIS OWN SHOW BEFORE STARRING ON "MAT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OFTEN MISTITLED SONG "ALICE'S RESTAURANT MASSAC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5 HIT SONG "MY LITTLE TOWN" WITH PAUL SI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THE HEISMAN TROPHY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TO THE RIVER", "TIRED OF BEING ALONE", AND HIS SIGNATURE SONG, "LET'S STAY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6:30:10Z</dcterms:created>
  <dc:creator>Jennifer Budzinski</dc:creator>
  <dc:description/>
  <dc:language>en-US</dc:language>
  <cp:lastModifiedBy>Erich Friedman</cp:lastModifiedBy>
  <dcterms:modified xsi:type="dcterms:W3CDTF">2020-08-27T10:42:20Z</dcterms:modified>
  <cp:revision>347</cp:revision>
  <dc:subject/>
  <dc:title>Slide 1</dc:title>
</cp:coreProperties>
</file>