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A3EA7-2F13-46F0-9B12-B82DD4298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A0EE-18D1-4CB8-BB07-44F22976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C325-049D-4168-B8A3-D04837F04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BF7E-5CD3-42FB-A8BF-3D94E139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5F12-1AB7-40CA-93B4-81A2D77CF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63BF-664A-41C4-B2DF-0392810C4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E7A1-E330-42B0-9C4A-333BD947D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596B-9075-4453-90A5-F54DB6047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357A-2D9A-4691-8423-DA36E758F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89A9-9CFE-4842-8FEF-2192298B1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9F56-3045-428C-9F39-4472D04F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40B6-152B-4C10-B841-4052914C0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E60A-6807-482B-9325-E8041095B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739A-D39B-4773-8F68-55BC7E646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F275-0F32-4866-B288-AC5311394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DE8B-40EF-4BBA-92D5-978A6576E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A7CF-8EA5-4BD3-850B-8B45C9E2D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B87F-ABC1-408B-B683-DEC6756D4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B7EC-900C-4779-9475-C0FA525C8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14F4-2750-4626-B60F-9927A6BC2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4AC9-3A50-46E5-B948-AC9D0F32A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3E87-6BFB-42B6-A9EB-B8EDAAF28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166B-BFF7-4B69-88B3-DA3B639C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CHRISTIAN POP" HAD THE FIRST CHRISTIAN ALBUM TO GO 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NOMINATED ACTRESS WAS MARRIED TO MICKEY ROONEY, ARTIE SHAW, AND FRANK SINA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G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ORMER VICE PRESIDENT HAS WON A NOBEL PRIZE AND A GRAMMY A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GREENS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HAIRMAN OF THE FEDERAL RESERVE FROM 1987 TO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C  GUIN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3560" y="7621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THE BRIDGE ON THE RIVER KWA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GRIFF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356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HIS OWN SHOW BEFORE STARRING ON "MAT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LO  GUTH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OFTEN MISTITLED SONG "ALICE'S RESTAURANT MASSAC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  GARFUN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75 HIT SONG "MY LITTLE TOWN" WITH PAUL SI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IE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WIN THE HEISMAN TROPHY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ORMER VICE PRESIDENT HAS WON A NOBEL PRIZE AND A GRAMMY A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TO THE RIVER", "TIRED OF BEING ALONE", AND HIS SIGNATURE SONG, "LET'S STAY TOGE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0536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Y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CHRISTIAN POP" HAD THE FIRST CHRISTIAN ALBUM TO GO 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A  GARD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NOMINATED ACTRESS WAS MARRIED TO MICKEY ROONEY, ARTIE SHAW, AND FRANK SINA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HAIRMAN OF THE FEDERAL RESERVE FROM 1987 TO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THE BRIDGE ON THE RIVER KWA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HIS OWN SHOW BEFORE STARRING ON "MATL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OFTEN MISTITLED SONG "ALICE'S RESTAURANT MASSACR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75 HIT SONG "MY LITTLE TOWN" WITH PAUL SI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WIN THE HEISMAN TROPHY TW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120" y="7617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E TO THE RIVER", "TIRED OF BEING ALONE", AND HIS SIGNATURE SONG, "LET'S STAY TOGE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6:30:10Z</dcterms:created>
  <dc:creator>Jennifer Budzinski</dc:creator>
  <dc:description/>
  <dc:language>en-US</dc:language>
  <cp:lastModifiedBy>Erich Friedman</cp:lastModifiedBy>
  <dcterms:modified xsi:type="dcterms:W3CDTF">2020-08-27T10:42:20Z</dcterms:modified>
  <cp:revision>347</cp:revision>
  <dc:subject/>
  <dc:title>Slide 1</dc:title>
</cp:coreProperties>
</file>