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3A98-1F23-47E1-9A88-EAEFBEA3E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5A32-A3FF-4FF1-B31A-78469F133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56C0-B16C-4E73-94E7-B6C399624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76BF-88B4-4F87-B5EA-4A2CBC5A0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0516-3CC1-49E3-AED7-8B2A7BBC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5602-FC63-46A9-BCF7-0221DCBCE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F8B1-F87F-40C6-AC66-B19CFD40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3148-F7B8-4B96-AAC4-0EE6E886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925-1F2B-4AD2-9B65-00FBFC529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E49D-7220-4980-B0AD-0D6FDA97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F1C7-E86F-40DB-803B-3006CF202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9EE9-DC07-4E87-B913-C4396229F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B41A-88E0-422C-8717-5FF61C0D6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1F21-FBA8-4B0B-B466-95186AD74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72B1-D804-45A0-A565-027DCCE4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D5DC-65B7-4058-8B29-00F69762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C408-2768-4103-ADA3-673013F0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758E-49F3-4F92-9E86-45B3773FA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A22-B173-4A20-9600-F8D29B618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F21-6967-4DC7-8DBB-31DD56DD2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EDC1-F8FD-4284-A992-A11DE801E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4CD8-28E1-45F3-92FD-F0464F9F9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FB4-C71A-45D8-B46D-1AF346163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 "RUNNING OUT OF REASONS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ASS PLAYER FOR THE GOO GOO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TANNE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QUARTERBACK OF THE MIAMI DOLPH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  TILL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DY  TR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ON THE OTHER HAND", "NO PLACE LIKE HOME", "TOO GONE TOO LONG" AND "I TOLD YOU S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THIC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LURRED LINES" AND "LOST WITHOUT 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-BOY WALTON ON "THE WALTONS" AND SPECIAL AGENT FRANK GAAD ON "THE AMERIC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FAEL  TRUJI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THE DOMINICAN REPUBLIC FROM 1930 TO 1961, BOTH AS PRESIDENT AND MILITARY STRON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SHARED BY THE DRUMMERS FOR QUEEN AND DURAN DUR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TREV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SANG THE #1 HIT "RUNNING OUT OF REASONS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Y  TAK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ASS PLAYER FOR THE GOO GOO D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QUARTERBACK OF THE MIAMI DOLPH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ON THE OTHER HAND", "NO PLACE LIKE HOME", "TOO GONE TOO LONG" AND "I TOLD YOU S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LURRED LINES" AND "LOST WITHOUT 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HN-BOY WALTON ON "THE WALTONS" AND SPECIAL AGENT FRANK GAAD ON "THE AMERIC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THE DOMINICAN REPUBLIC FROM 1930 TO 1961, BOTH AS PRESIDENT AND MILITARY STRON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SHARED BY THE DRUMMERS OF QUEEN AND DURAN DUR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20:40:16Z</dcterms:created>
  <dc:creator>Jennifer Budzinski</dc:creator>
  <dc:description/>
  <dc:language>en-US</dc:language>
  <cp:lastModifiedBy>Erich Friedman</cp:lastModifiedBy>
  <dcterms:modified xsi:type="dcterms:W3CDTF">2020-08-27T10:43:37Z</dcterms:modified>
  <cp:revision>351</cp:revision>
  <dc:subject/>
  <dc:title>Slide 1</dc:title>
</cp:coreProperties>
</file>