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8898-8005-47E7-A13B-1C5CC0ED7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05CD-B592-435D-BB8A-D05CE38FC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798F-17FE-4855-95A0-C1001A4E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6DF7-51F8-4359-B86F-639191687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2532-5BB3-4044-8C0B-5262425DE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2FFF-8ECC-4378-90E1-0E0F03843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62D9-CED6-4B87-842A-EC747B0CB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8CEE-F1C8-4897-BCD0-AF68931C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3820-DC04-4B90-9633-3171A6F37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EE8B-C731-4C6A-A592-3A96AE69F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F926-4EE0-465D-B232-F4528BFF2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F3B4-9884-476F-845F-67664266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D144-7939-4C04-AB0A-53231439A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E4BE-E5A1-4FF3-9974-39A8E522E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A9A6-5239-43A5-B7BB-DA464F9EC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ED63-1E78-4C6C-988E-2F8076720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A84B-6FE3-466C-8944-00FFF3C96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9369-B430-42E8-835E-05DF24B6D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11D0-CBFC-4E29-BADC-1593F9D71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7E82-E523-4100-A82C-2DC967764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3823-1620-42DA-9BC6-AC1154D1B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D999-FDF0-4046-83D2-C00EC5B76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3F5A-BDDA-46C5-828B-2F894477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THE #1 HIT "RUNNING OUT OF REASONS TO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ASS PLAYER FOR THE GOO GOO D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MATCHBOX TWEN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TANNE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QUARTERBACK OF THE MIAMI DOLPH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X  TILL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TRUMP'S FIRST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95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DY  TR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"ON THE OTHER HAND", "NO PLACE LIKE HOME", "TOO GONE TOO LONG" AND "I TOLD YOU S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THIC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LURRED LINES" AND "LOST WITHOUT 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HN-BOY WALTON ON "THE WALTONS" AND SPECIAL AGENT FRANK GAAD ON "THE AMERICA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FAEL  TRUJI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THE DOMINICAN REPUBLIC FROM 1930 TO 1961, BOTH AS PRESIDENT AND MILITARY STRONG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MATCHBOX TWEN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SHARED BY THE DRUMMERS FOR QUEEN AND DURAN DUR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K  TREV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THE #1 HIT "RUNNING OUT OF REASONS TO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BY  TAK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ASS PLAYER FOR THE GOO GOO D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QUARTERBACK OF THE MIAMI DOLPH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TRUMP'S FIRST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"ON THE OTHER HAND", "NO PLACE LIKE HOME", "TOO GONE TOO LONG" AND "I TOLD YOU S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LURRED LINES" AND "LOST WITHOUT 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HN-BOY WALTON ON "THE WALTONS" AND SPECIAL AGENT FRANK GAAD ON "THE AMERICA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THE DOMINICAN REPUBLIC FROM 1930 TO 1961, BOTH AS PRESIDENT AND MILITARY STRONG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SHARED BY THE DRUMMERS OF QUEEN AND DURAN DUR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20:40:16Z</dcterms:created>
  <dc:creator>Jennifer Budzinski</dc:creator>
  <dc:description/>
  <dc:language>en-US</dc:language>
  <cp:lastModifiedBy>Erich Friedman</cp:lastModifiedBy>
  <dcterms:modified xsi:type="dcterms:W3CDTF">2020-08-27T10:43:37Z</dcterms:modified>
  <cp:revision>351</cp:revision>
  <dc:subject/>
  <dc:title>Slide 1</dc:title>
</cp:coreProperties>
</file>