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1FD8-8342-4F25-8FA2-2781A3EC4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A5B7-2C0A-471C-BC9C-B989D236D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E40E-8B5F-4526-ADC6-E1A2F5C2C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D8BD-AFEF-45A5-A851-FA392E1E2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D6D6-CA0D-4132-9237-BFF6A6C46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9C95-D588-4AFD-BF3F-94CAAE36B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2AA1-2D1F-47B2-AE95-E34904DB9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D711-B9C7-4793-8260-8E53582FD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6E90-03AD-4EE0-A360-977BFA675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F7E2-9E5B-4B57-A482-6D925DC74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445E-B70E-4E94-804E-E139BDA94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3572-CEBD-41F3-A334-9296A39D5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6602-ABF1-458A-84A8-ADCB5ABDA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05C6-1B1C-4160-9122-3577CB976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B6C3-C103-4F31-9D8D-9ABAA6E0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CCEE-D331-4DD1-A578-1C7B75A12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FCB2-C5BE-49D4-A966-07F68A534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C614-228B-4B35-AC49-69EFE634D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9AFC-D190-4AFE-9080-BA9928242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2B72-ABEB-46D0-86C3-468B8A4D3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B014-5CFC-4487-8AF0-00D7F2161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07C7-AE2A-4B3A-A817-E59A5DAC9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3FE5-6AF0-4C08-808E-C0F228C04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THE #1 HIT "RUNNING OUT OF REASONS TO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ASS PLAYER FOR THE GOO GOO DO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MATCHBOX TWEN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AN  TANNE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QUARTERBACK OF THE MIAMI DOLPH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X  TILL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TRUMP'S FIRST SECRETARY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95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NDY  TR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SANG "ON THE OTHER HAND", "NO PLACE LIKE HOME", "TOO GONE TOO LONG" AND "I TOLD YOU S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THIC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LURRED LINES" AND "LOST WITHOUT 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OHN-BOY WALTON ON "THE WALTONS" AND SPECIAL AGENT FRANK GAAD ON "THE AMERICA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FAEL  TRUJI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THE DOMINICAN REPUBLIC FROM 1930 TO 1961, BOTH AS PRESIDENT AND MILITARY STRONG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MATCHBOX TWEN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SHARED BY THE DRUMMERS FOR QUEEN AND DURAN DUR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K  TREV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THE #1 HIT "RUNNING OUT OF REASONS TO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BY  TAK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ASS PLAYER FOR THE GOO GOO DO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QUARTERBACK OF THE MIAMI DOLPH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TRUMP'S FIRST SECRETARY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SANG "ON THE OTHER HAND", "NO PLACE LIKE HOME", "TOO GONE TOO LONG" AND "I TOLD YOU S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LURRED LINES" AND "LOST WITHOUT 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OHN-BOY WALTON ON "THE WALTONS" AND SPECIAL AGENT FRANK GAAD ON "THE AMERICA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THE DOMINICAN REPUBLIC FROM 1930 TO 1961, BOTH AS PRESIDENT AND MILITARY STRONG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SHARED BY THE DRUMMERS OF QUEEN AND DURAN DUR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20:40:16Z</dcterms:created>
  <dc:creator>Jennifer Budzinski</dc:creator>
  <dc:description/>
  <dc:language>en-US</dc:language>
  <cp:lastModifiedBy>Erich Friedman</cp:lastModifiedBy>
  <dcterms:modified xsi:type="dcterms:W3CDTF">2020-08-27T10:43:37Z</dcterms:modified>
  <cp:revision>351</cp:revision>
  <dc:subject/>
  <dc:title>Slide 1</dc:title>
</cp:coreProperties>
</file>