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00C6-5A93-457D-AB7F-A80968DEE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1150-FFBE-4102-888F-63A862B88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32FE-CDA0-4FE5-B07A-901A07F5D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147C-D682-4233-94D2-D7D3FFE12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EE7D-C350-45DF-8CD4-37752C62C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8847-5487-43ED-BAA4-BB5292C5F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A2C8-F1F6-42B9-B44D-D1503FD2D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3B04-0D45-47C6-AA14-88E942149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1616-5BE5-4932-A1B6-FB7754426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7C2F-C6E5-49C2-AC41-56A556F94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AEFD-C10B-41A1-8D12-9AA93DFAD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6B17-F36A-4081-AB6B-67F1C82F3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ADE4-710A-4D77-9FBA-3E27034DA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BBAC-4579-438C-A360-29A67941E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419F6-F1F0-4846-9076-F1E36B98C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AE37-A7FE-41A3-BF6C-4C8A0BCD8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29F7-4D07-4CFC-A5FF-B0CEACCC4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7B69-F51D-4CEF-BF64-F564C30FE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2CD7-317C-4C91-96DF-92579BCA1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1FA4-8E85-4546-B6DD-C13DBE3BC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E298-B364-4330-A831-E1EBA0991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8152-A7E5-4E1C-81F7-E2BC2044E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AD71-1C03-4151-ADAC-7D06CBD80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EORETICAL PHYSICIST WHO WORKED ON QUANTUM DYNAMICS SHARED THE 1933 NOBEL PRIZE IN PHYS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PLAYING HELEN KELLER IN "THE MIRACLE WORK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TI  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DAUGHTER OF RONALD REAGAN BECAME AN ACTRESS AND AUTH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.  DIDDY  or  PUFF  DAD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EAN COMBS'S STAG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0004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YLLIS  D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ENNE WHO DIED IN 2012 WAS KNOWN FOR HER SELF-DEPRECATING HUMOR, WILD HAIR, AND CACKLING LAU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ÁCIDO  DOMI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JOINED LUCIANO PAVAROTTI AND JOSÉ CARRERAS TO BECOME "THE THREE TENO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DONAH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HIS OWN TALK SHOW FROM 1967 TO 1996, THE FIRST TO INCLUDE AUDIENCE PARTICIP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A  D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LEBRITY CHEF LOST MANY OF HER ENDORSEMENTS AFTER A RACIAL DISCRIMINATION CONTROVERSY IN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RICK  DEMP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DEREK "MCDREAMY" SHEPHERD ON "GREY'S ANATOM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DAUGHTER OF RONALD REAGAN BECAME AN ACTRESS AND AUTHO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M  DAW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600200" y="762120"/>
            <a:ext cx="5943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INDY ON "MORK &amp; MIN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DIR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EORETICAL PHYSICIST WHO WORKED ON QUANTUM DYNAMICS SHARED THE 1933 NOBEL PRIZE IN PHYS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TY  DU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PLAYING HELEN KELLER IN "THE MIRACLE WORK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EAN COMBS'S STAG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ENNE WHO DIED IN 2012 WAS KNOWN FOR HER SELF-DEPRECATING HUMOR, WILD HAIR, AND CACKLING LAU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JOINED LUCIANO PAVAROTTI AND JOSÉ CARRERAS TO BECOME "THE THREE TENO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2396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HIS OWN TALK SHOW FROM 1967 TO 1996, THE FIRST TO INCLUDE AUDIENCE PARTICIP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LEBRITY CHEF LOST MANY OF HER ENDORSEMENTS AFTER A RACIAL DISCRIMINATION CONTROVERSY IN 201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DEREK "MCDREAMY" SHEPHERD ON "GREY'S ANATOM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INDY ON "MORK &amp; MIN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2:47:03Z</dcterms:created>
  <dc:creator>Jennifer Budzinski</dc:creator>
  <dc:description/>
  <dc:language>en-US</dc:language>
  <cp:lastModifiedBy>Erich Friedman</cp:lastModifiedBy>
  <dcterms:modified xsi:type="dcterms:W3CDTF">2020-08-27T10:48:15Z</dcterms:modified>
  <cp:revision>350</cp:revision>
  <dc:subject/>
  <dc:title>Slide 1</dc:title>
</cp:coreProperties>
</file>