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CBA-0BAA-4C16-90A6-DE5E12E6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6D36-7A58-4021-B91A-548C5E8B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BCEB-4324-4330-9ECD-A3F002649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6F9F-0188-4447-9787-0D57B2DD4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3C5-9544-4B4B-90BB-6EFFC1AF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83CF-4446-442D-A85F-5384707A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9E20-7769-4AFD-B888-8E904C74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5412-1C9A-46ED-844A-80DABFA2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93E-4AEF-4983-B426-F0DD34A7E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084-D4F1-4129-A2C2-C707CBC0D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AD0E-418C-4440-9A87-F90DA9E55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D1FF-6278-42CD-81EA-62A42515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254-ABDE-4A78-B576-1354B923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0538-C759-4A3D-9A31-37BC1F80F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D5C4-9BC7-451C-9EE6-D8E028CA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73E-CEFA-4A9B-AEB5-43788F73C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B05B-1C6B-4CEB-9A6E-94669166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5CB9-79EE-484E-AEFE-A28E1AFD5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FB3-128B-4FB0-B2DD-126DDB78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52D7-AB6B-4A39-A6FB-FEDEE0F97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E74A-5EB2-4996-9D4F-E0251583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5D6E-9412-446D-8347-1E5673FA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C47A-F9CD-4F02-B68C-A4E4EED1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ETICAL PHYSICIST WHO WORKED ON QUANTUM DYNAMICS SHARED THE 1933 NOBEL PRIZE IN PHYS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PLAYING HELEN KELLER IN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I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AUGHTER OF RONALD REAGAN BECAME AN ACTRESS AND AUT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  DIDDY  or  PUFF  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AN COMBS'S STAG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0004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YLLIS  D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ENNE WHO DIED IN 2012 WAS KNOWN FOR HER SELF-DEPRECATING HUMOR, WILD HAIR, AND CACKLING LA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ÁCIDO  DOM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JOINED LUCIANO PAVAROTTI AND JOSÉ CARRERAS TO BECOME "THE THREE TEN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DONAH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7 TO 1996, THE FIRST TO INCLUDE AUDIENCE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A  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BRITY CHEF LOST MANY OF HER ENDORSEMENTS AFTER A RACIAL DISCRIMINATION CONTROVERSY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K  DEMP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REK "MCDREAMY" SHEPHERD ON "GREY'S ANATOM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AUGHTER OF RONALD REAGAN BECAME AN ACTRESS AND AUTH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DAW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NDY ON "MORK &amp; MI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DIR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ETICAL PHYSICIST WHO WORKED ON QUANTUM DYNAMICS SHARED THE 1933 NOBEL PRIZE IN PHYS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PLAYING HELEN KELLER IN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AN COMBS'S STAG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ENNE WHO DIED IN 2012 WAS KNOWN FOR HER SELF-DEPRECATING HUMOR, WILD HAIR, AND CACKLING LA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JOINED LUCIANO PAVAROTTI AND JOSÉ CARRERAS TO BECOME "THE THREE TEN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7 TO 1996, THE FIRST TO INCLUDE AUDIENCE PARTICIP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BRITY CHEF LOST MANY OF HER ENDORSEMENTS AFTER A RACIAL DISCRIMINATION CONTROVERSY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REK "MCDREAMY" SHEPHERD ON "GREY'S ANATOM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NDY ON "MORK &amp; MIN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2:47:03Z</dcterms:created>
  <dc:creator>Jennifer Budzinski</dc:creator>
  <dc:description/>
  <dc:language>en-US</dc:language>
  <cp:lastModifiedBy>Erich Friedman</cp:lastModifiedBy>
  <dcterms:modified xsi:type="dcterms:W3CDTF">2020-08-27T10:48:15Z</dcterms:modified>
  <cp:revision>350</cp:revision>
  <dc:subject/>
  <dc:title>Slide 1</dc:title>
</cp:coreProperties>
</file>