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A63A-F99B-49B8-8B27-BA28AF7A4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723F-3416-44D9-B036-B22C8A3C3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41C0-8643-44B7-8F7B-A9874C236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EF1A-D7FB-445C-AFD0-ACD42CA92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3D06-6D8B-45AC-A67D-6810B1AEB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9FBF-A0C1-4569-ACC9-26ACCF086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098F-16AF-4A38-BE25-708F1C567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FFDC-C83D-4CEA-AF7D-53FF7802B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6D84-F7AD-4EA7-99F7-05162953F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BAE0-9858-434A-AEF0-09F8EB585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8B95-BDAB-42A3-9261-6BBCD2DB2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4100-BFBE-461F-B0A9-C00C49EB7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0F00-BD9A-4768-834E-9DE0ED762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3625-9DDB-4C39-81D5-5C66C40E2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42A5-17F1-4C82-BFD9-92BCD812E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B8C9-8D2D-42B0-A945-DD6A9DD9B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4ACE-A26F-43CF-934A-62AC69299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2B6A-D51F-4CCE-B295-52379C047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6AE4-5901-4854-9B6D-B572D9AB4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5C1B-CF5A-4E4E-A412-9BA89FF01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BB33-B1AC-4C21-952A-ABBB75655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0633-2D9D-4AA8-AEFF-EF777B8EB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1992-C26F-4718-AC6E-35CE39528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VILLAIN IN "STAR WARS, EPISODE 1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RACE IN THE ORIGINAL "WILL &amp; GR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LAS  MACARTH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OF THE ARMED FORCES IN THE FAR EAST IN 194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DLEY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072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BO DEREK IN THE MOVIE "1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95360" y="48769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MAR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MIAMI DOLPHINS FROM 1983 TO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EY  MA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IRST LADY IS CREDITED WITH SAVING A PORTRAIT OF GEORGE WASHINGTON IN THE WHITE HOUSE FIRE OF 18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I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AID $12.5 MILLION FOR THE FILM "STRIPTEASE", AND WAS MARRIED TO BRUCE WILLIS AND ASHTON KUTC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E  MATTH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4628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SH INTO ME" AND "ANTS MARC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N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"THE RAT PACK" WAS KNOWN AS "THE KING OF CO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OF THE ARMED FORCES IN THE FAR EAST IN 194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M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P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TH  M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VILLAIN IN "STAR WARS, EPISODE 1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BRA  M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RACE IN THE ORIGINAL "WILL &amp; GR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BO DEREK IN THE MOVIE "10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MIAMI DOLPHINS FROM 1983 TO 199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IRST LADY IS CREDITED WITH SAVING         A PORTRAIT OF GEORGE WASHINGTON IN THE WHITE HOUSE FIRE OF 18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2396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AID $12.5 MILLION FOR THE FILM "STRIPTEASE", AND WAS MARRIED TO BRUCE WILLIS AND ASHTON KUTC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SH INTO ME" AND "ANTS MARC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BER OF "THE RAT PACK" WAS KNOWN AS "THE KING OF CO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P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8T13:25:43Z</dcterms:created>
  <dc:creator>Jennifer Budzinski</dc:creator>
  <dc:description/>
  <dc:language>en-US</dc:language>
  <cp:lastModifiedBy>Erich Friedman</cp:lastModifiedBy>
  <dcterms:modified xsi:type="dcterms:W3CDTF">2020-08-23T21:45:37Z</dcterms:modified>
  <cp:revision>304</cp:revision>
  <dc:subject/>
  <dc:title>Slide 1</dc:title>
</cp:coreProperties>
</file>