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D9A-613C-47DD-926D-A1346274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B50D-2334-4055-9CE0-7CE719D5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EF6-3006-4AD7-A780-4600DCC7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9045-A8A4-417A-98C0-46F3B8B2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F92F-D49B-406F-8630-20E1FEC30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7A1-F3DE-4466-88D3-25B351A7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367-1D23-4323-8171-9BB42AAA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16F0-B647-471F-B3C4-24FB994C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73D-4A0E-4185-B45B-70CBEB42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8A12-C298-4D88-8C2D-45430687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4171-A0CF-4C8E-A8C5-6ED7C63E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E63-F511-41BA-B7FA-F73E44741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3C10-A2EC-49EA-A78A-08272391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3D56-1EF6-4D01-A333-C3F9BA7D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650-25EE-4715-8F71-D9497031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FBDD-CED7-438E-AE84-6D1D0296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52C4-3F2F-47BB-A9C5-8B8E801D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54A-A704-4685-8D98-AB1D4741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4DC0-7822-47D1-A864-01F30D6E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7FF-FE07-4B06-86C7-1403E88F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CF8-9357-474A-A71E-AD2CC987F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0733-F1F5-48A9-85C3-F8FB4C93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B78-15B5-47DE-AA6A-6B7580E3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MAC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DLE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072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EY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A PORTRAIT OF GEORGE WASHINGTON IN THE WHITE HOUSE FIRE OF 18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I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MATTH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462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M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H  M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M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        A PORTRAIT OF GEORGE WASHINGTON IN THE WHITE HOUSE FIRE OF 18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2396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13:25:43Z</dcterms:created>
  <dc:creator>Jennifer Budzinski</dc:creator>
  <dc:description/>
  <dc:language>en-US</dc:language>
  <cp:lastModifiedBy>Erich Friedman</cp:lastModifiedBy>
  <dcterms:modified xsi:type="dcterms:W3CDTF">2020-08-23T21:45:37Z</dcterms:modified>
  <cp:revision>304</cp:revision>
  <dc:subject/>
  <dc:title>Slide 1</dc:title>
</cp:coreProperties>
</file>