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CDEC-FA51-4B2B-8CD6-C7A943CD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DA11-76BE-44DF-8594-BC870A422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530C-C7F0-4EF0-9B73-0BD206EC7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4571-802A-4487-AC10-29EC1726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C508-9B20-4A88-9D07-9052D9815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7625-F0D5-44EA-8AC8-80879B16B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500E-069B-4614-8D03-A8B866B1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7F88-D100-46A5-AB6A-7FAB1FF6A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208D-2B3B-4B20-8939-DCA551FB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6CE6-FBE9-4547-8EBF-2ECE67785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825-4A2D-4AA0-85C0-7945FD48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E715-BC6D-4C95-B87E-7B9D95E9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C6F0-5C92-494D-A59C-D8A83B00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2A86-50BF-492B-AE1E-24E959351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8592-E749-4DE9-A858-CFB56F49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3654-FAC2-441B-B9C7-61D44506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06AD-A0B4-44E6-96E9-FD1845B99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5FAB-67CE-4CF6-95B7-F56961986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256-4738-4167-A87A-CF7B4E38B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036B-3846-481A-B1FC-52F379875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5727-2AF3-47C4-87B2-D52CECEC5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043-E6EF-46DE-86C0-0775AAC26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3D4A-758C-41B7-A116-3080B2CC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VILLAIN IN "STAR WARS, EPISODE 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RACE IN THE ORIGINAL "WILL &amp; GR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MACARTH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ARMED FORCES IN THE FAR EAST IN 19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DLEY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072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BO DEREK IN THE MOVIE "1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95360" y="48769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MA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MIAMI DOLPHINS FROM 1983 TO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EY  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IS CREDITED WITH SAVING A PORTRAIT OF GEORGE WASHINGTON IN THE WHITE HOUSE FIRE OF 18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I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AID $12.5 MILLION FOR THE FILM "STRIPTEASE", AND WAS MARRIED TO BRUCE WILLIS AND ASHTON KUTC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  MATTH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462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SH INTO ME" AND "ANTS MARC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N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"THE RAT PACK" WAS KNOWN AS "THE KING OF CO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ARMED FORCES IN THE FAR EAST IN 19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M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TH  M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VILLAIN IN "STAR WARS, EPISODE 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RA  M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RACE IN THE ORIGINAL "WILL &amp; GR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BO DEREK IN THE MOVIE "10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MIAMI DOLPHINS FROM 1983 TO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IS CREDITED WITH SAVING         A PORTRAIT OF GEORGE WASHINGTON IN THE WHITE HOUSE FIRE OF 18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2396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AID $12.5 MILLION FOR THE FILM "STRIPTEASE", AND WAS MARRIED TO BRUCE WILLIS AND ASHTON KUTC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SH INTO ME" AND "ANTS MARC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"THE RAT PACK" WAS KNOWN AS "THE KING OF CO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8T13:25:43Z</dcterms:created>
  <dc:creator>Jennifer Budzinski</dc:creator>
  <dc:description/>
  <dc:language>en-US</dc:language>
  <cp:lastModifiedBy>Erich Friedman</cp:lastModifiedBy>
  <dcterms:modified xsi:type="dcterms:W3CDTF">2020-08-23T21:45:37Z</dcterms:modified>
  <cp:revision>304</cp:revision>
  <dc:subject/>
  <dc:title>Slide 1</dc:title>
</cp:coreProperties>
</file>