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DE6A-CC0F-4ABC-999D-F62C077BF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1091-20AE-4AE3-9B85-F5487349D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F8EE-CC28-48A2-BBF5-33481767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8404-2831-44AB-B26B-CD6BB721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61CA-D720-4D4C-BB58-B425C19D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5D7B-7743-41BF-A592-01EBAAEC2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05A8-0ED3-4E22-8D49-7E9595CE7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457B-0C9F-41BB-BDAB-BB0C43ED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56E8-B9B3-4939-B884-769E56731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9524-E507-4185-A13F-925FF1A5D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1462-971E-41CD-A9B9-293C32C0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387B-8167-4081-BC1B-895534BBC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B8FD-0B93-4F72-BE18-A71667F7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F45C-7658-444D-8F9C-4D8263CC6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9C5A-EDA9-471A-846B-ADE52AA5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AEB1-92E8-4FEB-A42C-3808D701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B11-8EC7-45CD-9DDA-79076F5A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A093-EE3C-4D7C-9790-170CB8699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F163-33C3-4AC5-B2BC-3BFAFBCC8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8FB7-D19A-4930-AF33-F01837B1D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4D7C-0FD5-4F5F-94D9-1D7E3091C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FC8A-A550-41B9-B0CD-3C6DF860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6A96-5D26-41AD-9728-7302DBBC9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N ON ME" AND "AIN'T NO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BIN ON THE TV SERIES "BAT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WHOLE NINE YARDS", "12 MONKEYS", AND "16 BLO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8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HAS HAD THE LONGEST CAREER I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79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WATT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EW THE COMIC STRIP "CALVIN AND HOBB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NCHORED THE NBC EVENING NEWS FOR 10 YEARS, BUT NOW WORKS AT MSN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01760" y="762120"/>
            <a:ext cx="8305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REATIVE GENIUS OF THE BEACH B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 AND DIRECTED "THE APARTMENT", "THE SEVEN YEAR ITCH", AND "SOME LIKE IT H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WA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CO-ANCHOR OF THE NIGHTLY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WHOLE NINE YARDS", "12 MONKEYS", AND "16 BLOC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WY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41240"/>
            <a:ext cx="7848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SS GUITAR FOR THE ROLLING STONES 1962-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WI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03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N ON ME" AND "AIN'T NO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T  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6240" y="762120"/>
            <a:ext cx="739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BIN ON THE TV SERIES "BAT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HAS HAD THE LONGEST CAREER I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EW THE COMIC STRIP "CALVIN AND HOBB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NCHORED THE NBC EVENING NEWS FOR 10 YEARS, BUT NOW WORKS AT MSN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REATIVE GENIUS OF THE BEACH B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 AND DIRECTED "THE APARTMENT", "THE SEVEN YEAR ITCH",  AND "SOME LIKE IT H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CO-ANCHOR OF THE NIGHTLY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SS GUITAR FOR THE ROLLING STONES 1962-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3:50:03Z</dcterms:created>
  <dc:creator>Jennifer Budzinski</dc:creator>
  <dc:description/>
  <dc:language>en-US</dc:language>
  <cp:lastModifiedBy>Erich Friedman</cp:lastModifiedBy>
  <dcterms:modified xsi:type="dcterms:W3CDTF">2020-08-27T10:48:54Z</dcterms:modified>
  <cp:revision>348</cp:revision>
  <dc:subject/>
  <dc:title>Slide 1</dc:title>
</cp:coreProperties>
</file>