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2625-4E19-49AE-A1A1-86E94325AD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DD02-5966-477D-84AD-93634183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FD89-3952-414A-9507-ADC1CB755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B469-925C-46BC-A192-27B660936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B132-CBFC-4BB5-835C-98E6B54E9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897E-FB3A-41BE-A122-9ADB886F0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F34C-4B10-44DF-A67E-24F00DA3E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AD62-7832-41AA-B382-198386FE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3EB6-DFD0-488A-9343-F9EA8ED4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6AD0-5F26-454F-8D70-16590D904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B335-B4D2-44F2-820E-10EA8115F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9581-D3F4-4775-AD96-C323DF5D1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100B-DD1E-40DF-9AB6-6620AF768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9B23-A419-4DBD-AF6B-6D3892EE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57F3-3450-4F01-928A-819F28096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9B25-493D-4C35-94A6-0CBC52361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D893-DCEF-4007-A6A8-8ED545AF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0B58-428B-424F-82EC-49176AA79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2118-D3B3-4AB0-A842-E318A9C33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8838-0049-4687-BD85-0EA08F009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77B7-9395-4054-AB92-D76AB31DE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3ADF-B8B3-4729-82BF-9A914F484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CAA7-3986-4199-AD36-0303CEDF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N ON ME" AND "AIN'T NO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BIN ON THE TV SERIES "BAT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WHOLE NINE YARDS", "12 MONKEYS", AND "16 BLO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8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HAS HAD THE LONGEST CAREER I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79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WATT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EW THE COMIC STRIP "CALVIN AND HOBB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NCHORED THE NBC EVENING NEWS FOR 10 YEARS, BUT NOW WORKS AT MSN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AN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01760" y="762120"/>
            <a:ext cx="8305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REATIVE GENIUS OF THE BEACH B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 AND DIRECTED "THE APARTMENT", "THE SEVEN YEAR ITCH", AND "SOME LIKE IT H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WAL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CO-ANCHOR OF THE NIGHTLY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WHOLE NINE YARDS", "12 MONKEYS", AND "16 BLOCK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WY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41240"/>
            <a:ext cx="78487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SS GUITAR FOR THE ROLLING STONES 1962-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WI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03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N ON ME" AND "AIN'T NO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T  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76240" y="762120"/>
            <a:ext cx="739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OBIN ON THE TV SERIES "BAT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HAS HAD THE LONGEST CAREER I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EW THE COMIC STRIP "CALVIN AND HOBB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NCHORED THE NBC EVENING NEWS FOR 10 YEARS, BUT NOW WORKS AT MSN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REATIVE GENIUS OF THE BEACH B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 AND DIRECTED "THE APARTMENT", "THE SEVEN YEAR ITCH",  AND "SOME LIKE IT H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CO-ANCHOR OF THE NIGHTLY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SS GUITAR FOR THE ROLLING STONES 1962-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3:50:03Z</dcterms:created>
  <dc:creator>Jennifer Budzinski</dc:creator>
  <dc:description/>
  <dc:language>en-US</dc:language>
  <cp:lastModifiedBy>Erich Friedman</cp:lastModifiedBy>
  <dcterms:modified xsi:type="dcterms:W3CDTF">2020-08-27T10:48:54Z</dcterms:modified>
  <cp:revision>348</cp:revision>
  <dc:subject/>
  <dc:title>Slide 1</dc:title>
</cp:coreProperties>
</file>