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8A1-12A0-43FD-9453-CDA0093DB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734B-AE1B-4AAD-878B-4618428A1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AA8-F780-4D68-A822-1F440CF8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9DB-AE1C-4894-87F0-62742A0E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C9B-700D-4702-9628-4CC3ABEE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A36-B441-48A2-AB45-794B33BE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FF53-CFD1-4658-BD8F-5160CDD3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953B-E02B-4057-A1EA-227D765A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A873-082B-4D23-892D-1979A26E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CD72-858E-460F-BD98-B799E049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832-26C2-41E7-8174-32714AC5C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52D-1A1E-4ED7-AB57-B1C20160E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283-B07F-4170-B56B-F5D44C45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9EA-5118-4919-833A-CAE427A8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6AA2-9B25-4110-9E28-309D7139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4328-ECFA-4483-9BC5-16F79A9B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4B30-B8C0-4735-B8FF-11AE695F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7A1-EF48-4A9D-835D-64FBFFC1D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5961-E7B6-45D8-A08B-EC6DFB43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D36-23E8-4E87-8C31-E41BE58C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557-5D96-4B5B-BC8E-5C555A17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9B7-2405-4906-B47D-DC35A8B4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40E-3B32-4FFC-A989-E0AB308F9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O  AG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420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A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8564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Y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23:01:22Z</dcterms:created>
  <dc:creator>Jennifer Budzinski</dc:creator>
  <dc:description/>
  <dc:language>en-US</dc:language>
  <cp:lastModifiedBy>Erich Friedman</cp:lastModifiedBy>
  <dcterms:modified xsi:type="dcterms:W3CDTF">2020-08-27T10:50:06Z</dcterms:modified>
  <cp:revision>344</cp:revision>
  <dc:subject/>
  <dc:title>Slide 1</dc:title>
</cp:coreProperties>
</file>