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33D0-F996-4262-8D47-A5D0565A0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2E6C-F432-4572-9275-CCCF610AB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4697-02A1-4145-8853-585921A9E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F980-217A-4337-B298-8E23B40CB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1300-56C5-470B-9456-9B000B29C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C2BA-3AFA-46A4-8035-941BC8CB8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3284-6B15-4585-8B9A-BD723E2D4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852B-6916-4587-8605-85F6607FB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DA88-F9BA-441F-99CC-68AEF3031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2727-774D-46C5-9D04-2D36F0413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8A0D-B345-44C6-9725-8D84E4383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4BBD-89D6-4E46-8C8A-1B8CCBD19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9A57-C755-4F20-9DB3-4E867BB5B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862E-6634-4A7E-860A-616A0E830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9448-2ED4-4BF3-919C-216BB8C75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2BB9-F69A-4AA7-AFA4-25F169EF6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F7B2-7FD7-43DE-AD66-E8FADB6ED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DD81-D1C9-46FF-A8A9-1B54C14E6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69CF-FB11-4B10-AE24-C100E2042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E4BD-3A0F-4D81-84BD-86B555C9A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2840-0A57-4F2A-A94E-85CCC6F4D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57A1-7C1A-452C-B959-3A6FAAA14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20BD-5908-4182-BFAD-3EF5E0BBE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WRESTLER HAS THE NICKNAME "STONE CO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RGEST DONOR TO THE 2012 AND 2016 PRESIDENTIAL ELE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RO  AG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VICE PRESIDENT BEFORE GERALD F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T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RAWS THE COMIC STRIP "DILBE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98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UEL  AL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54200"/>
            <a:ext cx="76197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SUPREME COURT JUSTICE IS THE SECOND ITALIAN-AMERICAN TO SERVE IN THAT POST, AFTER ANTONIN SC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27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N  AD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UMMER FOR GUNS 'N ROSES WAS FIRED FOR HIS HEROIN ADDI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SAN  B.  ANTH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MEN'S RIGHTS ACTIVIST HAS APPEARED ON AMERICAN COIN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A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HOST OF "THE TONIGHT SH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UEL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ING FATHER, RELATED TO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S, HAS A BEER NAMED AFTER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VICE PRESIDENT BEFORE GERALD F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8564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RKY  AND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MLB MANAGER TO WIN WORLD SERIES IN BOTH THE AMERICAN AND NATIONAL LEAGU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AUS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WRESTLER HAS THE NICKNAME "STONE CO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LDON  ADE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RGEST DONOR TO THE 2012 AND 2016 PRESIDENTIAL ELE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RAWS THE COMIC STRIP "DILBER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SUPREME COURT JUSTICE IS THE SECOND ITALIAN-AMERICAN TO SERVE IN THAT POST, AFTER ANTONIN SC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UMMER FOR GUNS 'N ROSES WAS FIRED FOR HIS HEROIN ADDI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MEN'S RIGHTS ACTIVIST HAS APPEARED ON AMERICAN COIN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HOST OF "THE TONIGHT SH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ING FATHER, RELATED TO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S, HAS A BEER NAMED AFTER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MLB MANAGER TO WIN WORLD SERIES IN BOTH THE AMERICAN AND NATIONAL LEAGU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8T23:01:22Z</dcterms:created>
  <dc:creator>Jennifer Budzinski</dc:creator>
  <dc:description/>
  <dc:language>en-US</dc:language>
  <cp:lastModifiedBy>Erich Friedman</cp:lastModifiedBy>
  <dcterms:modified xsi:type="dcterms:W3CDTF">2020-08-27T10:50:06Z</dcterms:modified>
  <cp:revision>344</cp:revision>
  <dc:subject/>
  <dc:title>Slide 1</dc:title>
</cp:coreProperties>
</file>