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78BE-0B04-4609-A00D-453429A56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09EF-1E12-49E8-B051-D13366A6A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6954-B4F1-4A91-BB3B-AE6FA9F5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29FB-F25A-4E96-AE12-FB7A9250D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C80D-9852-4E1C-8E1E-72AFF5851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98F8-5FE4-4D9F-AA98-A658162A6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B132-D030-43A5-B54C-4AD2BB36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8B2A-2EE8-4464-AABB-993C8EE7A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B61A-383B-475F-AE8A-3CA073912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9EBA-6BC2-4778-8D83-E64D78356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A24B-7A1D-4446-BE39-EC931B94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D11C-56F8-492F-B85C-ECBC24434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11D7-8179-4D50-AE1F-D978D7EB2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AE357-83F8-481D-9D4F-941409A4B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72ED-ECD2-4DA7-ABDB-67CE8D038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917C-38FC-4DF1-83A2-96CA4C5B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C257-6464-45BE-B3AE-131E4E7F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46488-E02D-45D1-8123-63C1642BF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D90E8-9BED-450C-AB82-7F15A55AA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24F8-C23E-4923-973D-907D00EFB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4008-5113-4CB2-BB60-EBDD409E9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1218A-C273-4F98-AD05-6EC4AAC95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7E52-0D1D-4258-883E-CC606E620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HAS THE NICKNAME "STONE CO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RGEST DONOR TO THE 2012 AND 2016 PRESIDENTIAL 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RO  AG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ICE PRESIDENT BEFORE GERALD 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DILBER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8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L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54200"/>
            <a:ext cx="76197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STICE IS THE SECOND ITALIAN-AMERICAN TO SERVE IN THAT POST, AFTER ANTONIN SC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276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AD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MMER FOR GUNS 'N ROSES WAS FIRED FOR HIS HEROIN ADDI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.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EN'S RIGHTS ACTIVIST HAS APPEARED ON AMERICAN COINA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2120"/>
            <a:ext cx="7315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U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, RELATED TO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, HAS A BEER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VICE PRESIDENT BEFORE GERALD F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8564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RKY 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LB MANAGER TO WIN WORLD SERIES IN BOTH THE AMERICAN AND NATIONAL LEA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AUS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WRESTLER HAS THE NICKNAME "STONE CO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LDON  AD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RGEST DONOR TO THE 2012 AND 2016 PRESIDENTIAL ELE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AWS THE COMIC STRIP "DILBER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STICE IS THE SECOND ITALIAN-AMERICAN TO SERVE IN THAT POST, AFTER ANTONIN SC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UMMER FOR GUNS 'N ROSES WAS FIRED FOR HIS HEROIN ADDIC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MEN'S RIGHTS ACTIVIST HAS APPEARED ON AMERICAN COINA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UNDING FATHER, RELATED TO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S, HAS A BEER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MLB MANAGER TO WIN WORLD SERIES IN BOTH THE AMERICAN AND NATIONAL LEAGU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23:01:22Z</dcterms:created>
  <dc:creator>Jennifer Budzinski</dc:creator>
  <dc:description/>
  <dc:language>en-US</dc:language>
  <cp:lastModifiedBy>Erich Friedman</cp:lastModifiedBy>
  <dcterms:modified xsi:type="dcterms:W3CDTF">2020-08-27T10:50:06Z</dcterms:modified>
  <cp:revision>344</cp:revision>
  <dc:subject/>
  <dc:title>Slide 1</dc:title>
</cp:coreProperties>
</file>