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126-E435-40CC-A57B-FEDE1F67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945B-02F6-4123-BFAB-61D184C3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33D2-71FE-466E-8B31-513F0789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FD4-9F60-4C62-8740-85A6BD61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B06-C6DF-4E31-B332-BADCA093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DF7F-5062-4A42-8F42-B3CB3A8F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1C6F-3E57-4EE1-B3C2-50B39A3A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0A8-DE69-4BB7-BF17-B9E5D0C5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367-6140-49B7-B55E-3A3130EE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0D5-DBD4-4799-94D6-BE60DC89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2CA-C6E8-4153-A028-7E63A9D1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EC1-474A-4226-9B5A-68B7B5E6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C4B-7FB9-4EF9-B594-88C303AB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CFF-4B5B-4FEF-9D5A-C2112566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6A8F-7989-4DD9-BFAA-99EBFE73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C80C-CCF8-40DF-89C6-B205C7FC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E7F-F7FE-4CB8-B032-12BF4A9B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3E24-12AB-4322-8182-EC11FA43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206-5929-4A1D-BCC8-819648070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66DD-C7BD-4827-A1A8-FAE9CD84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72D7-CA0A-45EA-88E1-5991FF26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9D93-5D70-4540-8883-B016A570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418-57BD-45D4-9922-250D8EEEB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000160" y="1066680"/>
            <a:ext cx="5143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OTATION SAME INITIAL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52480" y="7621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ASK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R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A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TURN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T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 ASK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9T16:55:43Z</dcterms:created>
  <dc:creator>Jennifer Budzinski</dc:creator>
  <dc:description/>
  <dc:language>en-US</dc:language>
  <cp:lastModifiedBy>Erich Friedman</cp:lastModifiedBy>
  <dcterms:modified xsi:type="dcterms:W3CDTF">2020-08-27T10:51:16Z</dcterms:modified>
  <cp:revision>346</cp:revision>
  <dc:subject/>
  <dc:title>Slide 1</dc:title>
</cp:coreProperties>
</file>