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FE94-1144-4363-974E-A3DB67CE2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3B0F-115F-4AEC-A8C0-9C6C05310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07ED-3382-45B9-BE5D-C55AC7194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7D3C-37E3-4F67-BDFF-6535B9E78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5BAC-4B5F-40A5-BDBA-34DB68D8A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2DEB-41AE-4739-8930-EF2AD468D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1714F-E253-4864-BFF3-5A3AA23DB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5D51-2923-40AE-9EA7-C7AC874A4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23FF-5681-4296-BF52-B6221117D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C183A-8C82-4114-8B1A-1270DAB6B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CB94-70D4-487E-9107-51D1C3802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4C9B-AA14-43B7-9822-40C8C0397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8C43-A6F3-4428-A884-60A7D2EF9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E928-8B1B-43F9-9437-E7D542671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3DDD-1C48-4059-AA05-40D5D2530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1784-B0E2-4A81-B766-2D65F0617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D297-E266-45CA-B94F-0BC8BE9DD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C94C-2408-4020-AD7E-BC13A530E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C27F-82B1-48EB-8138-30C4FEB74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7E2C-6541-4DD9-AAFE-25DB44880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AE51-B5DE-4099-BFEC-205A7E5DC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CD73-6A9A-4524-8CB3-B40350526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8F8F-A491-411D-A133-5EBB1F465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000160" y="1066680"/>
            <a:ext cx="5143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OTATION SAME INITIAL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E MINISTER SAID "ANYONE WHO THINKS IT'S SMART TO CUT IMMIGRATION IS SENTENCING AUSTRALIA TO POVER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MUSIC STAR SAID "IF YOU PUT A SCRIPT UP IN FRONT OF ME TO READ, OR A CUE CARD, I COULDN'T DO IT WITHOUT STUTTER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SAID "IT'S NOT THE SIZE OF THE DOG IN THE FIGHT, IT'S THE SIZE OF THE FIGHT IN THE DO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752480" y="762120"/>
            <a:ext cx="5639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AND MOVIE CHARACTER SAID   "I PITY THE FO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8640" y="4894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  TER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INT SAID "IF WE HAVE NO PEACE, IT IS BECAUSE WE HAVE FORGOTTEN THAT WE BELONG TO EACH O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T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SAID "EVERYONE HAS A PLAN 'TILL THEY GET PUNCHED IN THE MO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ET  THAT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POLITICIAN SAID "IF YOU WANT SOMETHING SAID, ASK A MAN; IF YOU WANT SOMETHING DONE, ASK A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TRA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A FAMOUS TRIO SAID "WHEN THE FAD CHANGED FROM FOLK TO ROCK, THEY DIDN'T TAKE ALONG ANY GOOD WRIT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ANIA  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SAID "I THINK THE MISTAKE SOME PEOPLE MAKE IS THEY TRY TO CHANGE THE MAN THEY LOVE AFTER THEY GET MARRI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SAID "IT'S NOT THE SIZE OF THE DOG IN THE FIGHT, IT'S THE SIZE OF THE FIGHT IN THE DO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O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AID "I REMEMBER LAUGHING UNCONTROLLABLY ON THE SET OF 'THAT GIRL' BACK IN 1967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COLM  TURN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IME MINISTER SAID "ANYONE WHO THINKS IT'S SMART TO CUT IMMIGRATION IS SENTENCING AUSTRALIA TO POVER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T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MUSIC STAR SAID "IF YOU PUT A SCRIPT UP IN FRONT OF ME TO READ, OR A CUE CARD, I COULDN'T DO IT WITHOUT STUTTER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714320" y="76176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AND MOVIE CHARACTER SAID   "I PITY THE FOO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INT SAID "IF WE HAVE NO PEACE, IT IS BECAUSE WE HAVE FORGOTTEN THAT WE BELONG TO EACH O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SAID "EVERYONE HAS A PLAN 'TILL THEY GET PUNCHED IN THE MOU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POLITICIAN SAID "IF YOU WANT SOMETHING SAID, ASK A MAN; IF YOU WANT SOMETHING DONE,  ASK A WO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A FAMOUS TRIO SAID "WHEN THE FAD CHANGED FROM FOLK TO ROCK, THEY DIDN'T TAKE ALONG ANY GOOD WRIT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SAID "I THINK THE MISTAKE SOME PEOPLE MAKE IS THEY TRY TO CHANGE THE MAN THEY LOVE AFTER THEY GET MARRI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AID "I REMEMBER LAUGHING UNCONTROLLABLY ON THE SET OF 'THAT GIRL' BACK IN 1967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9T16:55:43Z</dcterms:created>
  <dc:creator>Jennifer Budzinski</dc:creator>
  <dc:description/>
  <dc:language>en-US</dc:language>
  <cp:lastModifiedBy>Erich Friedman</cp:lastModifiedBy>
  <dcterms:modified xsi:type="dcterms:W3CDTF">2020-08-27T10:51:16Z</dcterms:modified>
  <cp:revision>346</cp:revision>
  <dc:subject/>
  <dc:title>Slide 1</dc:title>
</cp:coreProperties>
</file>