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3FE8-AB00-43BE-87C4-8AF343DE1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D675-A0EC-44F0-9788-BA02FA91C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2EED-2B22-4A76-AA4F-26A926C4B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28D8-6A7C-4040-AD7B-296126C67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7C5D-F50B-41F3-B1F2-1B2E486BE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8BC9-C83A-4CE1-ABE0-8B1335376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5B81-611C-4FDB-8B31-A4F112888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F95D-3EEC-4CC1-AD66-3B5C64683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0039-F0BA-472A-83CF-668EBD60D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D170-720F-4237-80F0-96D99331E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C68F-A940-4E36-BD36-7E40D38A5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B0E5-7DBB-402C-8842-F83710263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171B-D950-448E-AE96-5B6FFFE0E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52B2-87D9-48B8-B65C-86C287BE7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AC67-FF49-47EC-BBF5-D506E4AC2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8B9E-FB07-4E03-BADC-20C715733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0227-A5BE-4622-A831-5034343D7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2A1C-791E-40F6-BE66-53C1B5FE8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2CB0-406E-43CD-8FED-889F070CE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4EB5-DDBB-4809-89A8-C00FF4738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24D3-EB64-4DCD-A032-BEC7D8421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92A4-0804-4218-B3C6-F0255C726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B795-CCFD-43BC-BD15-441299B42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000160" y="1066680"/>
            <a:ext cx="5143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OTATION SAME INITIAL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ME MINISTER SAID "ANYONE WHO THINKS IT'S SMART TO CUT IMMIGRATION IS SENTENCING AUSTRALIA TO POVER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MUSIC STAR SAID "IF YOU PUT A SCRIPT UP IN FRONT OF ME TO READ, OR A CUE CARD, I COULDN'T DO IT WITHOUT STUTTER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TW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SAID "IT'S NOT THE SIZE OF THE DOG IN THE FIGHT, IT'S THE SIZE OF THE FIGHT IN THE DO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752480" y="762120"/>
            <a:ext cx="5639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AND MOVIE CHARACTER SAID   "I PITY THE FO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8640" y="4894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HER  TER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INT SAID "IF WE HAVE NO PEACE, IT IS BECAUSE WE HAVE FORGOTTEN THAT WE BELONG TO EACH O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E  TY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ER SAID "EVERYONE HAS A PLAN 'TILL THEY GET PUNCHED IN THE MOU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GARET  THAT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POLITICIAN SAID "IF YOU WANT SOMETHING SAID, ASK A MAN; IF YOU WANT SOMETHING DONE, ASK A WO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TRA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A FAMOUS TRIO SAID "WHEN THE FAD CHANGED FROM FOLK TO ROCK, THEY DIDN'T TAKE ALONG ANY GOOD WRIT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ANIA  TR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LADY SAID "I THINK THE MISTAKE SOME PEOPLE MAKE IS THEY TRY TO CHANGE THE MAN THEY LOVE AFTER THEY GET MARRI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SAID "IT'S NOT THE SIZE OF THE DOG IN THE FIGHT, IT'S THE SIZE OF THE FIGHT IN THE DO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O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AID "I REMEMBER LAUGHING UNCONTROLLABLY ON THE SET OF 'THAT GIRL' BACK IN 1967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COLM  TURNB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ME MINISTER SAID "ANYONE WHO THINKS IT'S SMART TO CUT IMMIGRATION IS SENTENCING AUSTRALIA TO POVER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TI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MUSIC STAR SAID "IF YOU PUT A SCRIPT UP IN FRONT OF ME TO READ, OR A CUE CARD, I COULDN'T DO IT WITHOUT STUTTER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714320" y="76176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AND MOVIE CHARACTER SAID   "I PITY THE FOO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INT SAID "IF WE HAVE NO PEACE, IT IS BECAUSE WE HAVE FORGOTTEN THAT WE BELONG TO EACH O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ER SAID "EVERYONE HAS A PLAN 'TILL THEY GET PUNCHED IN THE MOU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POLITICIAN SAID "IF YOU WANT SOMETHING SAID, ASK A MAN; IF YOU WANT SOMETHING DONE,  ASK A WO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A FAMOUS TRIO SAID "WHEN THE FAD CHANGED FROM FOLK TO ROCK, THEY DIDN'T TAKE ALONG ANY GOOD WRIT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LADY SAID "I THINK THE MISTAKE SOME PEOPLE MAKE IS THEY TRY TO CHANGE THE MAN THEY LOVE AFTER THEY GET MARRI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AID "I REMEMBER LAUGHING UNCONTROLLABLY ON THE SET OF 'THAT GIRL' BACK IN 1967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9T16:55:43Z</dcterms:created>
  <dc:creator>Jennifer Budzinski</dc:creator>
  <dc:description/>
  <dc:language>en-US</dc:language>
  <cp:lastModifiedBy>Erich Friedman</cp:lastModifiedBy>
  <dcterms:modified xsi:type="dcterms:W3CDTF">2020-08-27T10:51:16Z</dcterms:modified>
  <cp:revision>346</cp:revision>
  <dc:subject/>
  <dc:title>Slide 1</dc:title>
</cp:coreProperties>
</file>