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F13-370C-405E-8876-88C35A75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06A-3D0A-4503-BBEF-C1713330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2BA-7C1B-4A5D-8022-96513443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908-E60B-48D5-AC67-7B5A8AB2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18A-76A9-4F75-B04B-83563695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2EC-D9E3-4A31-A6C2-93AD90F3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F2A8-223E-4CE1-84E3-BCC8D7BB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B7E-5D29-417C-A720-DACD7054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5BE3-FCE4-4825-9891-82017195C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0C5-A340-409E-85DA-15D85911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646A-3159-4789-B27C-A6579977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FDE-4BE9-48B0-B7E3-1DE22071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809-6DBD-42C3-B8CD-F4ECD1B2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65D3-BFF3-43F9-A54D-A329F07E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C10-4447-48AC-80BF-9CACCB59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0D0-9F2F-4779-8DC0-31FFD385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3F3B-3DC3-43A6-B341-2654289A4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272-2337-4490-A9F3-0C808109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0E5-CA84-4A00-A89B-8E9758D6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118-FC6D-44BF-91B6-8CFEAAF5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9AD3-F9D2-466A-92F1-753A8EA9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B9D-EB58-4986-87DE-B3A70E70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DC3-F6B0-4DB3-9A45-B54DCC29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ARDO  MONTALB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C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UG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  WAS OUSTED BY A C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06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MIL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ARC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MORA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WAS OUSTED BY A C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42:31Z</dcterms:created>
  <dc:creator>Jennifer Budzinski</dc:creator>
  <dc:description/>
  <dc:language>en-US</dc:language>
  <cp:lastModifiedBy>Erich Friedman</cp:lastModifiedBy>
  <dcterms:modified xsi:type="dcterms:W3CDTF">2020-08-27T10:52:24Z</dcterms:modified>
  <cp:revision>345</cp:revision>
  <dc:subject/>
  <dc:title>Slide 1</dc:title>
</cp:coreProperties>
</file>