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5F24-7712-4E36-B597-AEBF3F89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403C-5377-4F63-ABD3-0AEE2ACD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0AB-C93C-4C61-AB21-D875A4FB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E2F-BBF3-4E51-AF44-E3A1A2E0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D531-0F15-43E6-8DE4-5088663E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26F-9551-48D0-8D2D-EDBD7BB0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C7E-BA46-44D4-842F-734B03E58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4B1-933C-475B-BFF7-86C72746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DC24-0267-4880-B6D1-A925F9BF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70C8-906C-4A03-ABB2-40DFF927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3CF-B607-4E87-B76F-3CB6D668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A8CA-A999-45AA-B88C-8C3A252B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DD1-CC30-42F1-9C56-517264BE5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86F4-DBC6-4AC0-B732-1356DA33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A4E-C05A-476B-B21E-608751D5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E073-7284-4661-9B26-5159A429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29E-A11C-47BF-A661-BA2AE6D8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10F-49CC-4038-9A24-26286181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9D7-230E-48A1-886F-B79FF430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0887-8A6D-4E99-8D15-876CBDB5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2A69-2FFD-43C2-982F-E935DD18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94F-FD33-4756-81D1-D1DB0F20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5C9-E125-4F93-8B37-F673A0B1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ARDO  MONTALB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C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UG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  WAS OUSTED BY A C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06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MIL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ARC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MORA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WAS OUSTED BY A C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42:31Z</dcterms:created>
  <dc:creator>Jennifer Budzinski</dc:creator>
  <dc:description/>
  <dc:language>en-US</dc:language>
  <cp:lastModifiedBy>Erich Friedman</cp:lastModifiedBy>
  <dcterms:modified xsi:type="dcterms:W3CDTF">2020-08-27T10:52:24Z</dcterms:modified>
  <cp:revision>345</cp:revision>
  <dc:subject/>
  <dc:title>Slide 1</dc:title>
</cp:coreProperties>
</file>