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722F8-6F65-421A-A2E4-2465F8CE95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D0FB7-56D8-463B-BA6B-34EDB55625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34767-C474-4060-BDE7-558C6362D2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A0FF6-DD3E-438D-B2B7-69887A350F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68DA6-16C9-4008-B9A4-56188EFB93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3BA53-047B-44B8-8F27-7329940511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7886E-9DBB-408A-9072-270DFBB792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3B179-2845-4CFC-B87B-83748CE67F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57208-ADCB-4D0A-8778-275A792BE2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5AC30-BAD5-4E1F-9756-F6A450459A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4644D-DB8D-4906-BF45-D30B9B6003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E1978-5672-47E7-9D9A-3376A41C14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BC105-FFD1-4B34-A91C-BFCDAD0844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30F34-BB46-4ED3-B766-E6115432F9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10FDD-A348-4589-BB08-FEFC42EB4A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D2084-2E91-4567-89E7-E6A172EBB7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60122-7A63-4BF2-89C6-FB373BEC0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35CBA-EA4A-4476-BAFC-69BAF27A45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C8301-47C9-4792-88D4-B5E512472E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58263-F37A-40AC-B5E2-9F3B664252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671AE-3DAA-4F1D-9A19-D16A8BAFBE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6A951-94A3-4BC5-AA99-70C57439E4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50B08-44A0-4EE1-A83B-D6EB686796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HEAVYWEIGHT BOXING CHAMP FROM 1952 TO 1956, AND WAS THE INSPIRATION FOR 8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704880" y="762120"/>
            <a:ext cx="7734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STRANGE BREW", LITTLE SHOP OF HORRORS", AND "HONEY,      I SHRUNK THE KID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PERT  MURDO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85800" y="762120"/>
            <a:ext cx="7772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OWNS 2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 FOX, FOX NEWS, AND OVER 800 OTHER COMPAN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BA  MCENT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76240" y="762120"/>
            <a:ext cx="73915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EMALE COUNTRY ARTIST SANG "FANCY", "DOES HE LOVE YOU", AND "CONSIDER ME GO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81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GER  MAR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02888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BROKE BABE RUTH'S 60 HOME RUN RECORD IN 1961, A RECORD THAT HELD UNTIL 199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CARDO  MONTALBÁ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52560" y="762120"/>
            <a:ext cx="72388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MR. ROURKE ON "FANTASY ISLAND" AND KHAN IN "STAR TREK II: THE WRATH OF KHA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CHEL  MCAD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STARRED IN "THE NOTEBOOK" AND "THE TIME TRAVELER'S WIF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CHEL  MADD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76240" y="762120"/>
            <a:ext cx="739152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NEWS SHOW HAS THE HIGHEST RATINGS OF ANY SHOW ON MSNBC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BERT  MUGA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ERVED AS PRIME MINISTER (1980-1987) AND THEN PRESIDENT (1987-2017) OF ZIMBABWE, UNTIL HE    WAS OUSTED BY A COU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OWNS 2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 FOX, FOX NEWS, AND OVER 800 OTHER COMPAN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90068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NNIE  MILSA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80880" y="762120"/>
            <a:ext cx="8382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LIND COUNTRY SINGER HAD 40 #1 HITS, THIRD ALL TIME BEHIND GEORGE STRAIT AND CONWAY TWIT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CKY  MARCIA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723960" y="762120"/>
            <a:ext cx="76960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HEAVYWEIGHT BOXING CHAMP FROM 1952 TO 1956, AND WAS THE INSPIRATION FOR 8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CK  MORAN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666720" y="762120"/>
            <a:ext cx="78105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STRANGE BREW", LITTLE SHOP OF HORRORS", AND "HONEY,        I SHRUNK THE KID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EMALE COUNTRY ARTIST SANG "FANCY", "DOES HE LOVE YOU", AND "CONSIDER ME GON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BROKE BABE RUTH'S 60 HOME RUN RECORD IN 1961, A RECORD THAT HELD UNTIL 199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MR. ROURKE ON "FANTASY ISLAND" AND KHAN IN "STAR TREK II: THE WRATH OF KHA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STARRED IN "THE NOTEBOOK" AND "THE TIME TRAVELER'S WIF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NEWS SHOW HAS THE HIGHEST RATINGS OF ANY SHOW ON MSNBC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ERVED AS PRIME MINISTER (1980-1987) AND THEN PRESIDENT (1987-2017) OF ZIMBABWE, UNTIL HE  WAS OUSTED BY A COUP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LIND COUNTRY SINGER HAD 40 #1 HITS, THIRD ALL TIME BEHIND GEORGE STRAIT AND CONWAY TWIT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17T02:42:31Z</dcterms:created>
  <dc:creator>Jennifer Budzinski</dc:creator>
  <dc:description/>
  <dc:language>en-US</dc:language>
  <cp:lastModifiedBy>Erich Friedman</cp:lastModifiedBy>
  <dcterms:modified xsi:type="dcterms:W3CDTF">2020-08-27T10:52:24Z</dcterms:modified>
  <cp:revision>345</cp:revision>
  <dc:subject/>
  <dc:title>Slide 1</dc:title>
</cp:coreProperties>
</file>