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721E-1DB9-4A03-8CC6-C3271CCD6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DEA6-3B78-49FB-B788-B989C0C0F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04BA-D76B-424F-8821-B0FAF159D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BA2C-EC34-4109-A80D-07E91ACF5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2A27-B480-4318-B4EB-E1432D7CA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1682-E1B8-4112-8212-13A5B855D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738B-408A-40FD-81EC-F9CE4D142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2F97-B2AE-4E12-AAD8-DEFB39AC7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0D23-A520-459C-B5F3-B253F9644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E626-95AB-4A80-8508-01C3A7FE7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8D0B-A66D-49F0-8ECC-8EA563B94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08AF-C827-4EF8-9FFA-61BD5A8D0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9C26-A746-4920-9766-EB1586F20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3CD7-4957-4303-882A-9420BF3B9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C69C-55F7-42B6-A821-796D48204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84B7-206E-4A09-9A12-76D3A315A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6DA3-701A-46BA-93CA-D1758958A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2076-100B-4D63-B0DD-7ECAC02FA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3C13-C490-4789-BCCB-61EB3D527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6C69-5B6D-4699-8163-B0928B6B3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B707-6FCD-4CCC-99C0-A8A244981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4547-FC7E-4230-B629-024DB381D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6A3E-28B9-4F36-99B7-0A7C3D4C2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 FOOTBALL AND BASEBALL PLAYER WAS THE FIRST NATIVE AMERICAN TO WIN AN OLYMPIC GOLD MEDAL FOR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CTOR TO WIN AN EMMY PLAYING A TRANSGENDER CHARAC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TY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ONLY SERVED AS VICE PRESIDENT FOR 31 DA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STIN  TIMBERL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4400" y="762120"/>
            <a:ext cx="7315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MEMBER OF NSYN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942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TRAVOL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    FOR BEST ACTOR FOR "SATURDAY NIGHT FEV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808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TURTUR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BARTON FINK" AND "QUIZ SH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TAY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TITLED HIS 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 IN 1977 WITH HIS INITI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STIN  TRUDE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66680" y="762120"/>
            <a:ext cx="70106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PRIME MINISTER OF CANA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SSICA  TAN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LDEST WOMAN TO WIN AN OSCAR FOR BEST ACT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ONLY SERVED AS VICE PRESIDENT FOR 31 DAY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NNIFER  TI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NOMINATED FOR "BULLETS OVER BROADWAY"   IS ALSO A PROFESSIONAL POKER PLAY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THOR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 FOOTBALL AND BASEBALL PLAYER WAS THE FIRST NATIVE AMERICAN TO WIN AN OLYMPIC GOLD MEDAL FOR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REY  TAMB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CTOR TO WIN AN EMMY PLAYING A TRANSGENDER CHARAC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MEMBER OF NSYN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     FOR BEST ACTOR FOR "SATURDAY NIGHT FEV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BARTON FINK" AND "QUIZ SH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43040" y="761760"/>
            <a:ext cx="7657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TITLED HIS 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 IN 1977 WITH HIS INITI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PRIME MINISTER OF CANA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LDEST WOMAN TO WIN AN OSCAR FOR BEST ACTR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NOMINATED FOR "BULLETS OVER BROADWAY"   IS ALSO A PROFESSIONAL POKER PLAY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9T19:41:45Z</dcterms:created>
  <dc:creator>Jennifer Budzinski</dc:creator>
  <dc:description/>
  <dc:language>en-US</dc:language>
  <cp:lastModifiedBy>Erich Friedman</cp:lastModifiedBy>
  <dcterms:modified xsi:type="dcterms:W3CDTF">2020-08-27T11:00:13Z</dcterms:modified>
  <cp:revision>343</cp:revision>
  <dc:subject/>
  <dc:title>Slide 1</dc:title>
</cp:coreProperties>
</file>