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0489-B7E2-4624-9CAD-C14B32622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9D67-703C-4058-823C-35B89F4AB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5877-2725-4450-85E6-FDF07E97F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74FF-328B-4CBB-BA9E-2C19C9408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2E6B-31FA-499D-BC03-AE681ACBA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7FE1-7328-4959-9130-725F28460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F491-0F34-40F7-8B18-20A60CA6E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8AC5-4FE1-4181-8920-7FEFCC796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EF59-F4B1-442E-B30F-1B3E470DC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40C1-A63F-448D-8CD9-3E6E2935C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A480-636B-41AE-B622-53B24FB82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ED1D-EA00-4DE0-A7A5-C057060FE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A9AB-E548-44C9-A1D1-98B179DCD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3343-2A60-4ACE-8F56-199C9F1C1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B24B-4E91-466F-8066-B3321F92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4D71-92F5-4190-A235-492298AAE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E622-031C-46F2-BB6F-EAF555D38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ABCB-17EC-4C3A-B4BC-76B1441CF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F452-52F7-41DE-8D70-F285EF87D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1EEE-8C8F-49B0-A0A1-83EBED684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C19C-68D8-4985-A48C-9EBCDD894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2125-87A7-49CD-8D15-489822B5D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975E-7516-4560-A8EE-93C46D851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 FOOTBALL AND BASEBALL PLAYER WAS THE FIRST NATIVE AMERICAN TO WIN AN OLYMPIC GOLD MEDAL FOR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CTOR TO WIN AN EMMY PLAYING A TRANSGENDER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TY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NLY SERVED AS VICE PRESIDENT FOR 31 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STIN  TIMBER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MEMBER OF NSYN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TRAVO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    FOR BEST ACTOR FOR "SATURDAY NIGHT FE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TURTUR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BARTON FINK" AND "QUIZ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ITLED HIS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IN 1977 WITH HIS INITI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STIN  TRUDE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IME MINISTER OF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ICA  T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WOMAN TO WIN AN OSCAR FOR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NLY SERVED AS VICE PRESIDENT FOR 31 DA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TI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NOMINATED FOR "BULLETS OVER BROADWAY"   IS ALSO A PROFESSIONAL POKER PL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THOR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 FOOTBALL AND BASEBALL PLAYER WAS THE FIRST NATIVE AMERICAN TO WIN AN OLYMPIC GOLD MEDAL FOR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REY  TAM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CTOR TO WIN AN EMMY PLAYING A TRANSGENDER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MEMBER OF NSYN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     FOR BEST ACTOR FOR "SATURDAY NIGHT FE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BARTON FINK" AND "QUIZ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ITLED HIS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IN 1977 WITH HIS INITI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IME MINISTER OF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WOMAN TO WIN AN OSCAR FOR BEST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NOMINATED FOR "BULLETS OVER BROADWAY"   IS ALSO A PROFESSIONAL POKER P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9T19:41:45Z</dcterms:created>
  <dc:creator>Jennifer Budzinski</dc:creator>
  <dc:description/>
  <dc:language>en-US</dc:language>
  <cp:lastModifiedBy>Erich Friedman</cp:lastModifiedBy>
  <dcterms:modified xsi:type="dcterms:W3CDTF">2020-08-27T11:00:13Z</dcterms:modified>
  <cp:revision>343</cp:revision>
  <dc:subject/>
  <dc:title>Slide 1</dc:title>
</cp:coreProperties>
</file>