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EF46-FE97-46F2-802C-C080A8F88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1076-2651-4ECD-9E94-E202B39F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A109-6459-4F69-8D5A-3AFF66992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501E-591E-4283-B391-1C2C29F3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B264-A6CC-4B11-A16D-58CD54BEB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2F81-3180-4A94-8E3E-3E2468A21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C16-061D-4AE6-A945-0C2C37E12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83F3-8155-4A42-94D0-EF07AA19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80C-61B1-4744-98D8-8FF12674A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E3CD-0FFD-482D-9282-D5E1915ED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B4C5-A8DB-4485-AA63-7CCC4AF7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B6AE-A020-4245-A117-986560DD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7DBB-F9E1-4F1A-8CEF-44157D1E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DEC0-CA64-4A51-9041-315D19F8D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2E8-061A-48EE-9034-D0BD96BE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4DC1-4E27-42B5-B2EE-B4B3BAD9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46B7-77B9-4265-8C30-83D339CF6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3250-9E0C-4C86-81CA-D79C2F5B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99B4-F321-4277-8A6D-A084B1EC6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A5A2-D998-4034-A061-5B5CBD730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50DD-F0FB-4E9B-8B24-02A312CE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64D2-FE4D-4976-ACB5-1D5E1789D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C2A-EBDA-4C45-8FE7-530269AE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AND RADIO GOSSIP COMMENTATOR IS MENTIONED IN BILLY JOEL'S SONG "WE DIDN'T START THE 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DIRECT 3 OSCAR WINNERS FOR BEST PICTURE: "MRS. MINIVER", "THE BEST YEARS OF OUR LIVES", AND "BEN-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WORLD WAR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38360" y="762120"/>
            <a:ext cx="5867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AVES OF GR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KNIGHT DID MEL GIBSON PORTRAY IN "BRAVE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  WHE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ESLEY CRUSHER ON "STAR TREK: THE NEXT GENER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ORDS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IS COLLEAGUE SAMUEL TAYLOR COLERIDGE, WHO LAUNCHED THE ROMANTIC AGE IN ENGLISH LIT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ANTI-HERO OF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ESTMO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COMMANDED THE U.S. FORCES IN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WORLD WAR 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NDELL  WILL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LOST THE 1940 PRESIDENTIAL ELECTION TO FD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WIN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AND RADIO GOSSIP COMMENTATOR IS MENTIONED IN BILLY JOEL'S SONG "WE DIDN'T START THE 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DIRECT 3 OSCAR WINNERS FOR BEST PICTURE: "MRS. MINIVER", "THE BEST YEARS OF OUR LIVES", AND "BEN-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AVES OF GR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KNIGHT DID MEL GIBSON PORTRAY IN "BRAVE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ESLEY CRUSHER ON "STAR TREK: THE NEXT GENE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IS COLLEAGUE SAMUEL TAYLOR COLERIDGE, WHO LAUNCHED THE ROMANTIC AGE IN ENGLISH LIT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ANTI-HERO OF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COMMANDED THE U.S. FORCES IN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LOST THE 1940 PRESIDENTIAL ELECTION TO FD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00:08:08Z</dcterms:created>
  <dc:creator>Jennifer Budzinski</dc:creator>
  <dc:description/>
  <dc:language>en-US</dc:language>
  <cp:lastModifiedBy>Erich Friedman</cp:lastModifiedBy>
  <dcterms:modified xsi:type="dcterms:W3CDTF">2020-08-27T11:01:22Z</dcterms:modified>
  <cp:revision>342</cp:revision>
  <dc:subject/>
  <dc:title>Slide 1</dc:title>
</cp:coreProperties>
</file>