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D813-ECA9-46EC-BD45-F6E32D0EE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80A8-4792-4BFC-A6D7-022D7FFCA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8BB0-F993-4AF4-B382-3F23A1BC2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1E76-A5C7-4489-95EF-36AE0AC9B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786C-0F12-46FE-A1DF-026B5F157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8F18-4B58-4A1C-98CC-EE9960E38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020A-1D96-46E3-B619-7BB2A180B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3A09-7E7D-409A-A18D-4A36FDA54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06CC-9AF8-4E59-BF01-99D89399A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1FA6-965A-42C1-A486-A1ED1730A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C7A5-F79D-497E-B9FC-9A19078C9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BED9-C431-4A55-B9B2-0AB6F35CB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8148-0999-4456-8BAB-434ED6C79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CB4A-B30D-4D0B-97EF-2A3159532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8142-0AEC-44DB-A79D-18F682FA8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CCD4-4602-4F0E-87CC-331C3F844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4EF0-468C-4C3A-8226-C3A1E8034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8F18-B06F-4CD1-B4AB-449C6874A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2205-8AD3-41DF-AF3D-F3C79D8EA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BF03-780E-49FA-BBE8-20E5B0C2E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0BCD-772B-41F9-BA18-F3EA6E20E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8F03-25E2-4820-93E7-71620C714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30D2-4102-40A4-860C-95D774CFF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WSPAPER AND RADIO GOSSIP COMMENTATOR IS MENTIONED IN BILLY JOEL'S SONG "WE DIDN'T START THE FI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43080" y="762120"/>
            <a:ext cx="84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PERSON TO DIRECT 3 OSCAR WINNERS FOR BEST PICTURE: "MRS. MINIVER", "THE BEST YEARS OF OUR LIVES", AND "BEN-HU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DROW  WI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DURING WORLD WAR 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T  WHIT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638360" y="762120"/>
            <a:ext cx="5867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LEAVES OF GRA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484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WAL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OTTISH KNIGHT DID MEL GIBSON PORTRAY IN "BRAVEHEAR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980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  WHEA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WESLEY CRUSHER ON "STAR TREK: THE NEXT GENERA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WORDSWO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90440" y="762120"/>
            <a:ext cx="8763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ONG WITH HIS COLLEAGUE SAMUEL TAYLOR COLERIDGE, WHO LAUNCHED THE ROMANTIC AGE IN ENGLISH LITERA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TER  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IS THE ANTI-HERO OF "BREAKING BA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WESTMORE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NERAL COMMANDED THE U.S. FORCES IN THE VIETNAM W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DURING WORLD WAR 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0536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NDELL  WILLK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PUBLICAN LOST THE 1940 PRESIDENTIAL ELECTION TO FD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TER  WINC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WSPAPER AND RADIO GOSSIP COMMENTATOR IS MENTIONED IN BILLY JOEL'S SONG "WE DIDN'T START THE FI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WY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43080" y="762120"/>
            <a:ext cx="8458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PERSON TO DIRECT 3 OSCAR WINNERS FOR BEST PICTURE: "MRS. MINIVER", "THE BEST YEARS OF OUR LIVES", AND "BEN-HU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LEAVES OF GRAS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OTTISH KNIGHT DID MEL GIBSON PORTRAY IN "BRAVEHEAR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WESLEY CRUSHER ON "STAR TREK: THE NEXT GENERATI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09520" y="761760"/>
            <a:ext cx="8724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ONG WITH HIS COLLEAGUE SAMUEL TAYLOR COLERIDGE, WHO LAUNCHED THE ROMANTIC AGE IN ENGLISH LITERA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IS THE ANTI-HERO OF "BREAKING BA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NERAL COMMANDED THE U.S. FORCES IN THE VIETNAM W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PUBLICAN LOST THE 1940 PRESIDENTIAL ELECTION TO FD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4T00:08:08Z</dcterms:created>
  <dc:creator>Jennifer Budzinski</dc:creator>
  <dc:description/>
  <dc:language>en-US</dc:language>
  <cp:lastModifiedBy>Erich Friedman</cp:lastModifiedBy>
  <dcterms:modified xsi:type="dcterms:W3CDTF">2020-08-27T11:01:22Z</dcterms:modified>
  <cp:revision>342</cp:revision>
  <dc:subject/>
  <dc:title>Slide 1</dc:title>
</cp:coreProperties>
</file>