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FB230-B221-416A-B6C7-F0D9FA4959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93B37-5669-4745-B808-FD483F0C81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E5F97-52C1-4D7E-87B9-EBBFBE2B9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30AD8-5BB9-4B2D-84E8-923A93B7E9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64C88-AF95-4617-9B57-5D8B43E117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A9F1A-EAF6-40A5-A635-6AE9B404E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CC8E8-1238-45B5-AB0E-0704107DDD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4FE7E-6BB2-4021-A6AB-81EDCFB512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B2D3B-248B-4C52-82EA-3519503FF4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E279D-4750-4E33-8CDF-9136C09719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AEB51-6D6C-4DA7-B935-708D066ABD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C3AF3-BDA0-414D-9F8E-7E39F3C96E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7CBB2-7D03-400F-8FF9-45306E6F33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09B2C-282A-42E7-8B24-B8D79C6295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ADCFD-976C-49F1-934A-D66595F7D1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56817-61B7-4F2F-A6A2-61EA9A9C50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CA2DE-8E02-4DE5-AFC6-82D3212EC0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5138F-EA84-44B4-BF6A-CBD8D788C9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6C8F8-39BC-42AE-B56F-FE7C7D12E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4EE93-7FE8-4CEA-A82C-C9DAFBB409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B7C9F-75F5-4A2B-B017-EF279D075E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2C8F5-E62A-485C-8405-A19EFBCC66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B468A-1C41-49D4-92DC-B662E6BBD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EWSPAPER AND RADIO GOSSIP COMMENTATOR IS MENTIONED IN BILLY JOEL'S SONG "WE DIDN'T START THE FIR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343080" y="762120"/>
            <a:ext cx="8458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LY PERSON TO DIRECT 3 OSCAR WINNERS FOR BEST PICTURE: "MRS. MINIVER", "THE BEST YEARS OF OUR LIVES", AND "BEN-HU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ODROW  WIL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85800" y="762120"/>
            <a:ext cx="7772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PRESIDENT DURING WORLD WAR 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LT  WHIT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638360" y="762120"/>
            <a:ext cx="58672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LEAVES OF GRAS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8484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LIAM  WALL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5256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COTTISH KNIGHT DID MEL GIBSON PORTRAY IN "BRAVEHEAR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980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  WHEA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47640" y="76212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WESLEY CRUSHER ON "STAR TREK: THE NEXT GENERATI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LIAM  WORDSWOR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90440" y="762120"/>
            <a:ext cx="87631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ONG WITH HIS COLLEAGUE SAMUEL TAYLOR COLERIDGE, WHO LAUNCHED THE ROMANTIC AGE IN ENGLISH LITERA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LTER  WH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57200" y="762120"/>
            <a:ext cx="82296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ARACTER IS THE ANTI-HERO OF "BREAKING BA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LIAM  WESTMORE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85800" y="762120"/>
            <a:ext cx="7772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ENERAL COMMANDED THE U.S. FORCES IN THE VIETNAM W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PRESIDENT DURING WORLD WAR 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90536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ENDELL  WILLK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90720" y="762120"/>
            <a:ext cx="71625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PUBLICAN LOST THE 1940 PRESIDENTIAL ELECTION TO FD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LTER  WINC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09480" y="762120"/>
            <a:ext cx="79250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EWSPAPER AND RADIO GOSSIP COMMENTATOR IS MENTIONED IN BILLY JOEL'S SONG "WE DIDN'T START THE FIR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LIAM  WY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343080" y="762120"/>
            <a:ext cx="8458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LY PERSON TO DIRECT 3 OSCAR WINNERS FOR BEST PICTURE: "MRS. MINIVER", "THE BEST YEARS OF OUR LIVES", AND "BEN-HU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295280" y="761760"/>
            <a:ext cx="6553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LEAVES OF GRAS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COTTISH KNIGHT DID MEL GIBSON PORTRAY IN "BRAVEHEAR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WESLEY CRUSHER ON "STAR TREK: THE NEXT GENERATIO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209520" y="761760"/>
            <a:ext cx="87249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ONG WITH HIS COLLEAGUE SAMUEL TAYLOR COLERIDGE, WHO LAUNCHED THE ROMANTIC AGE IN ENGLISH LITERATU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ARACTER IS THE ANTI-HERO OF "BREAKING BA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ENERAL COMMANDED THE U.S. FORCES IN THE VIETNAM W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PUBLICAN LOST THE 1940 PRESIDENTIAL ELECTION TO FD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04T00:08:08Z</dcterms:created>
  <dc:creator>Jennifer Budzinski</dc:creator>
  <dc:description/>
  <dc:language>en-US</dc:language>
  <cp:lastModifiedBy>Erich Friedman</cp:lastModifiedBy>
  <dcterms:modified xsi:type="dcterms:W3CDTF">2020-08-27T11:01:22Z</dcterms:modified>
  <cp:revision>342</cp:revision>
  <dc:subject/>
  <dc:title>Slide 1</dc:title>
</cp:coreProperties>
</file>