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9F10-0DCA-4357-862B-28B963357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208C-858C-4142-8DB3-599F69555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97F5-6AD9-476E-8A0F-4EC1C2E55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6B19-72AD-4B78-A640-A641AB844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EBE9-49DA-42D3-90D7-C101EA981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EF02-A703-407F-B12B-646CD9C5C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ADC2-5728-4BDE-B0CB-F73FB350B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DCB0-182D-4CAA-943C-AA5488884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36C0-B062-4300-BA3C-324A10428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7B93-0661-4EF5-8D52-351864046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4ADB-F165-4C88-B1D4-5CD079337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5021-C7B5-4CDE-B97F-427BD91E7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A479-F3E6-4D9A-87FC-E5730F9E6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2ABE-9608-49AF-BB04-373C0C614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C52B-4C1F-42D0-80BE-82F4D744C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31C0-B2BA-4D0D-9F1B-A7887DC83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6C67-A194-40B9-AE29-6328D96EE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3DCC-3E53-4A90-AD1D-B49C57850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0D02-CD5C-46E9-B0B0-E77415A41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2EAF-CB33-4038-9FD8-B90BB1AE0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8710-ED0D-4728-870F-10A8DBB72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7CDB-E232-4618-B826-D5F1BB35B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B005-A627-49C6-8DBC-C80795653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"PENTHOUSE" MAGAZ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AND PIN-UP GIRL WAS THE HIGHEST SALARIED AMERICAN WOMAN IN 1946 AND 194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G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MAN IN THE  WORLD UNTIL 2017, WHEN JEFF BEZOS DETHRONED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KE  GRIF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ICK IN THE 2009 NBA DRAFT, PLAYED 9 YEARS WITH THE LA CLIPPERS, AND NOW PLAYS FOR THE DETROIT PIST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GRA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NISTER WAS A SPIRITUAL ADVISOR TO 12 PRESIDENTS UNTIL HE DIED IN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RY  GI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2696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IN A MUSICAL GROUP WITH HIS BROTHERS ROBIN AND MAUR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GELD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-WROTE "DO THEY KNOW IT'S CHRISTMAS?" AND PLAYED THE LEAD IN "PINK FLOYD – THE W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GIB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714680" y="762120"/>
            <a:ext cx="5715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ZZ TO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NY  GOOD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ZZ CLARINETIST AND BANDLEADER WAS KNOWN AS "THE KING OF SW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MAN IN THE WORLD UNTIL 2017, WHEN JEFF BEZOS DETHRONED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RY  GOLD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EPUBLICAN NOMINEE FOR PRESIDENT IN 196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GUCC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"PENTHOUSE" MAGAZ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TY  GR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AND PIN-UP GIRL WAS THE HIGHEST SALARIED AMERICAN WOMAN IN 1946 AND 194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ICK IN THE 2009 NBA DRAFT, PLAYED 9 YEARS WITH THE LA CLIPPERS, AND NOW PLAYS FOR THE DETROIT PIST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NISTER WAS A SPIRITUAL ADVISOR TO 12 PRESIDENTS UNTIL HE DIED IN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IN A MUSICAL GROUP WITH HIS BROTHERS ROBIN AND MAUR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-WROTE "DO THEY KNOW IT'S CHRISTMAS?" AND PLAYED THE LEAD IN "PINK FLOYD – THE W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714320" y="761760"/>
            <a:ext cx="5715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ZZ TO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ZZ CLARINETIST AND BANDLEADER WAS KNOWN AS "THE KING OF SW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EPUBLICAN NOMINEE FOR PRESIDENT IN 196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0T13:38:47Z</dcterms:created>
  <dc:creator>Jennifer Budzinski</dc:creator>
  <dc:description/>
  <dc:language>en-US</dc:language>
  <cp:lastModifiedBy>Erich Friedman</cp:lastModifiedBy>
  <dcterms:modified xsi:type="dcterms:W3CDTF">2020-08-27T11:02:34Z</dcterms:modified>
  <cp:revision>348</cp:revision>
  <dc:subject/>
  <dc:title>Slide 1</dc:title>
</cp:coreProperties>
</file>