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1EC2-4F67-466D-BE40-DB67537A4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4D66-FBAE-454A-82C0-EBCA0188B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4B9E-7B99-406E-AD5E-EF1A3E213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3D9E-4E64-4582-85EB-8FC960834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F7ED-5596-4D7A-8B4B-DCB459BF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DC26-622B-45AD-80C5-90540EE2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C668-F6E9-4863-A55F-DCC8E877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946F-98BE-4C09-BC89-F392726CD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A485-D239-4757-BF38-C81D796AE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1793-F415-4F0A-9C59-3411EBD02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43A0-196E-41B7-8293-7A9D5BEA0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5566-69C1-4E10-8DD0-38A899589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FD5D-52A9-48F5-8037-7B1723D8E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D9A5B-DA84-4A80-B4F7-C22FC46F7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4828-1618-4485-A60B-4C0463AED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6688-F946-4CEE-B6AF-4FCBCB12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1F17-11DF-4D79-8978-DDE0453D6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E2E4-F022-45DD-8B7C-D7A6C6AF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05BE-4036-4397-91F7-9ADD43ECA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ABD0-5076-4CF5-A0DA-ED48DBB44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813C-99C9-4DC3-A992-4894BAE1B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6F4B-B775-4468-883A-77C3F183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DC6B-6829-41E1-9DB7-6A82AE784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"PENTHOUSE"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IN-UP GIRL WAS THE HIGHEST SALARIED AMERICAN WOMAN IN 1946 AND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G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MAN IN THE  WORLD UNTIL 2017, WHEN JEFF BEZOS DETHRONED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KE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CK IN THE 2009 NBA DRAFT, PLAYED 9 YEARS WITH THE LA CLIPPERS, AND NOW PLAYS FOR THE DETROIT PIST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GRA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STER WAS A SPIRITUAL ADVISOR TO 12 PRESIDENTS UNTIL HE DIE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GI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696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MUSICAL GROUP WITH HIS BROTHERS ROBIN AND MAUR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GELD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 "DO THEY KNOW IT'S CHRISTMAS?" AND PLAYED THE LEAD IN "PINK FLOYD – THE W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GIBB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714680" y="762120"/>
            <a:ext cx="5715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ZZ T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NY  GOOD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CLARINETIST AND BANDLEADER WAS KNOWN AS "THE KING OF SW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MAN IN THE WORLD UNTIL 2017, WHEN JEFF BEZOS DETHRONED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RY  GOLD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EPUBLICAN NOMINEE FOR PRESIDENT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GUCC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"PENTHOUSE"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Y  GR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AND PIN-UP GIRL WAS THE HIGHEST SALARIED AMERICAN WOMAN IN 1946 AND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CK IN THE 2009 NBA DRAFT, PLAYED 9 YEARS WITH THE LA CLIPPERS, AND NOW PLAYS FOR THE DETROIT PIST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ISTER WAS A SPIRITUAL ADVISOR TO 12 PRESIDENTS UNTIL HE DIED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IN A MUSICAL GROUP WITH HIS BROTHERS ROBIN AND MAUR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-WROTE "DO THEY KNOW IT'S CHRISTMAS?" AND PLAYED THE LEAD IN "PINK FLOYD – THE W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714320" y="761760"/>
            <a:ext cx="5715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SINGER OF ZZ T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ZZ CLARINETIST AND BANDLEADER WAS KNOWN AS "THE KING OF SW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EPUBLICAN NOMINEE FOR PRESIDENT IN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0T13:38:47Z</dcterms:created>
  <dc:creator>Jennifer Budzinski</dc:creator>
  <dc:description/>
  <dc:language>en-US</dc:language>
  <cp:lastModifiedBy>Erich Friedman</cp:lastModifiedBy>
  <dcterms:modified xsi:type="dcterms:W3CDTF">2020-08-27T11:02:34Z</dcterms:modified>
  <cp:revision>348</cp:revision>
  <dc:subject/>
  <dc:title>Slide 1</dc:title>
</cp:coreProperties>
</file>