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63E8D-527C-4B0C-9348-51C9A13F6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A47BA-6FBA-4BF5-89AC-71CF53FBB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44AFE-D56D-464D-B7B4-E332E2AEA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56D9D-C1B7-4576-847E-494F88B40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98573-F741-47FE-954C-3FA79FCC7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569D8-8DB7-4720-919D-166701531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3B47D-BDCB-4D3E-9A1C-57C3BA485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DBA7E-FF9F-4734-B63F-2F545F92D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7C7DA-30B0-4960-9A46-A59E703CC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F0137-C61F-442B-99DC-C91B412FA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76EBA-00DB-411E-83EA-421BAF5A0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60B51-D37E-4DE5-8EC8-480A8A675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0F732-84D8-4A0D-9933-1D6CBF826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E8240-9581-4070-82BD-E2100884E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31112-5790-42CD-B342-CBD5A04BF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9DF02-21A8-4E38-862A-16140F662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03741-8A84-4C54-9EEA-5E6E354D3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C3BE3-E9D3-40EB-BA8C-2FB42F6FD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92AF5-4435-43AD-B27E-2EA22A594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01FB2-5A91-4898-AFF5-AC8C15D8C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356C7-8DDB-4BB9-B310-6261D2CBE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0396A-718E-4EF0-95A2-3BABE538E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9E814-3D81-4BF3-AE62-2FB88B362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2190600" y="990360"/>
            <a:ext cx="4762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LM TITLE 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8 FILM STARRING RITA HAYWORTH, DEBORAH KERR, DAVID NIVEN, AND BURT LANCASTER TAKES PLACE AT THE HOTEL BEAUREGA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385920" y="762120"/>
            <a:ext cx="8372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2 FILM STARRED BRENDAN FRASER AS A 50'S JEWISH STUDENT AWARDED AN ATHLETIC SCHOLARSHIP  TO AN ELITE PREP SCHOO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R  TR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61880" y="762120"/>
            <a:ext cx="82184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9 FILM WAS THE 1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F 13 SCI-FI FILMS IN ITS FRANCHISE, BUT THE FIRST ONE WITHOUT A SUB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EENEY  TOD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01760" y="762120"/>
            <a:ext cx="8340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7 SLASHER FILM STARRING JOHNNY DEPP AND HELEN BONHAM CARTER WAS AN ADAPTATION OF A 1979 MUSICAL OF THE SAME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8952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ARK  T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236520" y="762120"/>
            <a:ext cx="8670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4 ANIMATED FILM STARRED ROBERT DE NIRO AS A GREAT WHITE AND WILL SMITH AS HIS BLUESTREAK BUDD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RSHIP  TROOP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01760" y="762120"/>
            <a:ext cx="8340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7 FILM IS NAMED FOR A HEINLEIN STORY, BUT BASED ON A SCRIPT ENTITLED "BUG HUNT AT OUTPOST NI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RAIGHT  TA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2 FILM STARRED DOLLY PARTON AS DOCTOR SHIRLEE, THE HOST OF A RADIO CALL-IN SH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RATOGA  TRU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33480" y="762120"/>
            <a:ext cx="7277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45 FILM ABOUT CONTROL OF A RAILROAD STARRED GARY COOPER AND INGRID BERG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ING 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24000" y="762120"/>
            <a:ext cx="8496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36 FILM IS CONSIDERED  AMONG THE BEST FRED ASTAIRE / GINGER ROGERS MUSICALS BECAUSE OF ITS OUTSTANDING FILM SCO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30360" y="762120"/>
            <a:ext cx="7881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9 FILM WAS THE 1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F 13 SCI-FI FILMS IN ITS FRANCHISE, BUT THE FIRST ONE WITHOUT A SUBTI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8304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AMP  T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38360" y="762120"/>
            <a:ext cx="7665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2 FILM DIRECTED BY WES CRAVEN WAS NAMED AFTER A DC COMICS MONSTER / SUPERHER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90600" y="4876920"/>
            <a:ext cx="8381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PARATE  T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19040" y="762120"/>
            <a:ext cx="83152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8 FILM STARRING RITA HAYWORTH, DEBORAH KERR, DAVID NIVEN, AND BURT LANCASTER TAKES PLACE AT THE HOTEL BEAUREGA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HOOL  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98320" y="762120"/>
            <a:ext cx="79473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2 FILM STARRED BRENDAN FRASER AS A 50'S JEWISH STUDENT AWARDED AN ATHLETIC SCHOLARSHIP TO AN ELITE PREP SCHOO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37680" y="761760"/>
            <a:ext cx="8466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7 SLASHER FILM STARRING JOHNNY DEPP AND HELEN BONHAM CARTER WAS AN ADAPTATION OF A 1979 MUSICAL OF THE SAME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244440" y="762120"/>
            <a:ext cx="8655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4 ANIMATED FILM STARRED ROBERT DE NIRO AS A GREAT WHITE AND WILL SMITH AS HIS BLUESTREAK BUDD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31920" y="762120"/>
            <a:ext cx="847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7 FILM IS NAMED FOR A HEINLEIN STORY, BUT BASED ON A SCRIPT ENTITLED "BUG HUNT AT OUTPOST NI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27120" y="761760"/>
            <a:ext cx="7889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2 FILM STARRED DOLLY PARTON AS DOCTOR SHIRLEE, THE HOST OF A RADIO CALL-IN SH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41440" y="761760"/>
            <a:ext cx="8061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45 FILM ABOUT CONTROL OF A RAILROAD STARRED GARY COOPER AND INGRID BERG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18960" y="761760"/>
            <a:ext cx="8506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36 FILM IS CONSIDERED  AMONG THE BEST FRED ASTAIRE / GINGER ROGERS MUSICALS BECAUSE OF ITS OUTSTANDING FILM SCO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00200" y="761760"/>
            <a:ext cx="7743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2 FILM DIRECTED BY WES CRAVEN WAS NAMED AFTER A DC COMICS MONSTER / SUPERHER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0-08-27T11:03:57Z</dcterms:modified>
  <cp:revision>384</cp:revision>
  <dc:subject/>
  <dc:title>Slide 1</dc:title>
</cp:coreProperties>
</file>