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A06-18A3-406C-8009-F7B2873F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5A1-CB43-4565-9415-CE44A6D2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3B78-0D40-440D-BF8A-035A80CD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E7F-1F02-47C1-9263-EB3ABE37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E32-8277-4DCA-88B7-CFF77E74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6A9F-5164-46C2-8689-9A1632CB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187-91B6-4896-A678-0FC0AE5E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6AF-2933-4254-BB6F-0F5AE175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ACFB-25EE-4633-96F0-27309EAA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D45E-7278-4505-8273-11545A01A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8A0-60DD-4643-883F-FF00EF59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15B-3F48-4438-8BD0-BD5D4A40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709-AF67-4869-BEBB-3C12AEDC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F20-A0AC-46C0-BB53-B916987B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C04-4CD7-4BC2-92ED-864DFB1F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FE43-D754-4AC9-B487-EBC4E700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03D3-D226-49D4-BF95-CF1B31F3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0D9-8AA5-4FD7-A865-1BCCA0BC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4CD-F26D-4E2E-AB90-CB605472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0A8-DC38-4ED5-9708-AFB780EB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3D96-714E-44B5-A860-5791AEDE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41A7-C974-4257-A9A5-ED26C17C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6189-0F76-458B-B69E-24EFD5C0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990360"/>
            <a:ext cx="4762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5920" y="762120"/>
            <a:ext cx="837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NEY  T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  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HIP  TROO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TOGA  T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0360" y="762120"/>
            <a:ext cx="78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30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MP 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8360" y="762120"/>
            <a:ext cx="766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060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ARATE  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15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8320" y="762120"/>
            <a:ext cx="794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7680" y="761760"/>
            <a:ext cx="846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4440" y="76212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7T11:03:57Z</dcterms:modified>
  <cp:revision>384</cp:revision>
  <dc:subject/>
  <dc:title>Slide 1</dc:title>
</cp:coreProperties>
</file>