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2CCB-7F32-4409-9243-46EE36BA2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DD4E-5CDD-49F7-A883-40DC7851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F42-5505-452E-84B1-4AF1E8F15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7C4-07C1-42C8-B6E7-FD9F96478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A20C-B8C9-4441-BC11-A7705D50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2A48-DE5E-4CFE-B528-CB42907C3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CFF2-8924-44DB-86E5-3FBE81D18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DC18-8F26-4C37-9A63-D0A3DD6E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5F26-4FCB-4FC9-BD19-49E4CD559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1796-5846-4D03-A55C-F33B51563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79F9-B8FE-4240-9456-026F0B2EB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3E81-188D-4FA9-BF95-57C463FE7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1F65-9AE8-4801-9F7D-75BE55CED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9229-B7DD-4E19-BE7A-185F7233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3992-7B16-4278-9CE6-A168F842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0579-502C-426E-BB4C-4D4E596D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5042-A04A-401E-A8BC-D791D801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F87E-CFE4-4045-9A4C-328CA017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0813-94E8-4C48-A8CC-CBEAB7C65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A658-1B33-45A3-A15B-4D73E9217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4FD6-16C6-45C9-B5F3-0F45A511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5177-85A1-4FBD-85E1-65A16389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390F-D000-4457-931A-86BD10553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990360"/>
            <a:ext cx="4762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TITLE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STARRING RITA HAYWORTH, DEBORAH KERR, DAVID NIVEN, AND BURT LANCASTER TAKES PLACE AT THE HOTEL BEAUREG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5920" y="762120"/>
            <a:ext cx="837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BRENDAN FRASER AS A 50'S JEWISH STUDENT AWARDED AN ATHLETIC SCHOLARSHIP  TO AN ELITE PREP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1880" y="762120"/>
            <a:ext cx="8218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3 SCI-FI FILMS IN ITS FRANCHISE, BUT THE FIRST ONE WITHOUT A SUB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NEY  TO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1760" y="762120"/>
            <a:ext cx="834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SLASHER FILM STARRING JOHNNY DEPP AND HELEN BONHAM CARTER WAS AN ADAPTATION OF A 1979 MUSICAL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95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K  T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36520" y="76212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ANIMATED FILM STARRED ROBERT DE NIRO AS A GREAT WHITE AND WILL SMITH AS HIS BLUESTREAK BU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HIP  TROO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01760" y="762120"/>
            <a:ext cx="834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NAMED FOR A HEINLEIN STORY, BUT BASED ON A SCRIPT ENTITLED "BUG HUNT AT OUTPOST N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IGHT 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DOLLY PARTON AS DOCTOR SHIRLEE, THE HOST OF A RADIO CALL-IN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TOGA  TR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5 FILM ABOUT CONTROL OF A RAILROAD STARRED GARY COOPER AND INGRID BER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NG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24000" y="762120"/>
            <a:ext cx="84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6 FILM IS CONSIDERED  AMONG THE BEST FRED ASTAIRE / GINGER ROGERS MUSICALS BECAUSE OF ITS OUTSTANDING FILM SC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30360" y="762120"/>
            <a:ext cx="788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3 SCI-FI FILMS IN ITS FRANCHISE, BUT THE FIRST ONE WITHOUT A SUB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30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MP 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38360" y="762120"/>
            <a:ext cx="766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DIRECTED BY WES CRAVEN WAS NAMED AFTER A DC COMICS MONSTER / SUPERH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9060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PARATE  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15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STARRING RITA HAYWORTH, DEBORAH KERR, DAVID NIVEN, AND BURT LANCASTER TAKES PLACE AT THE HOTEL BEAUREG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98320" y="762120"/>
            <a:ext cx="7947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BRENDAN FRASER AS A 50'S JEWISH STUDENT AWARDED AN ATHLETIC SCHOLARSHIP TO AN ELITE PREP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37680" y="761760"/>
            <a:ext cx="8466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SLASHER FILM STARRING JOHNNY DEPP AND HELEN BONHAM CARTER WAS AN ADAPTATION OF A 1979 MUSICAL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44440" y="762120"/>
            <a:ext cx="865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ANIMATED FILM STARRED ROBERT DE NIRO AS A GREAT WHITE AND WILL SMITH AS HIS BLUESTREAK BU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31920" y="762120"/>
            <a:ext cx="847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NAMED FOR A HEINLEIN STORY, BUT BASED ON A SCRIPT ENTITLED "BUG HUNT AT OUTPOST N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DOLLY PARTON AS DOCTOR SHIRLEE, THE HOST OF A RADIO CALL-IN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5 FILM ABOUT CONTROL OF A RAILROAD STARRED GARY COOPER AND INGRID BER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18960" y="761760"/>
            <a:ext cx="850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6 FILM IS CONSIDERED  AMONG THE BEST FRED ASTAIRE / GINGER ROGERS MUSICALS BECAUSE OF ITS OUTSTANDING FILM SC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0200" y="761760"/>
            <a:ext cx="77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DIRECTED BY WES CRAVEN WAS NAMED AFTER A DC COMICS MONSTER / SUPERH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7T11:03:57Z</dcterms:modified>
  <cp:revision>384</cp:revision>
  <dc:subject/>
  <dc:title>Slide 1</dc:title>
</cp:coreProperties>
</file>