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7AD7B-5CC0-4A56-A681-5269E22534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943E7-E7E8-4880-85EA-74A0E58427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BCE77-FB21-4E55-A1C3-7C858022D4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77AC1-AF94-4ACE-A435-797F9E1E61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D7625-2FB4-4217-9A52-BB01E63FB3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B89DF-C696-4432-9C4B-26FF82F9F7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AB306-AD6E-4419-9B6F-2EA3DBFFD8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A1296-5FC8-439A-B4FC-B9E0EEAEA2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0C2EF-191C-476C-9C5F-AF62A5103D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7FC89-9C69-44D8-8FAD-4ADCBB2CEE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DB0A3-147B-44BB-8F2A-E6F2C3D655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9C912-1706-4843-8420-93033D3908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0E44C-B2F9-4763-BBC1-E7DB9AC6DE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3C703-31AF-4769-AAB8-0E43CB1C6A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2D097-6C56-4DFD-A74D-CE69B23794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41BB2-169D-4758-B764-3A6380CBD1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78538-0609-4184-8A4E-8EA507B07C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28C5F-B880-4C1F-A18D-EE7FE4B68D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7D163-F2C5-4020-9D37-81D9EF5698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70BE0-FD10-4F23-98AA-C06ED344AF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F1E91-B639-4900-BBC7-575960EA0A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881DB-DF2C-43CF-90DE-EA98DFA3C8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98EA8-6DD6-4B88-AA59-DF7FFB6E15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333440" y="1523880"/>
            <a:ext cx="647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ME INIT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LOBBYIST WAS AT THE CENTER OF AN EXTENSIVE CORRUPTION SCANDAL DURING THE GEORGE W. BUSH PRESIDENC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1066680" y="762120"/>
            <a:ext cx="70106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LEAD SINGER OF THE PROGRESSIVE ROCK BAND Y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066680" y="4876920"/>
            <a:ext cx="70106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ENNIFER  ANIS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990720" y="762120"/>
            <a:ext cx="716256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RACHEL GREEN ON "FRIEND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ESSICA  ALB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419040" y="762120"/>
            <a:ext cx="83059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STARRED IN "HONEY", "INTO THE BLUE", AND "GOOD LUCK CHUCK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ULIE  ANDRE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219320" y="762120"/>
            <a:ext cx="6705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AN OSCAR FOR BEST ACTRESS FOR "MARY POPPIN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NE  AUST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523880" y="762120"/>
            <a:ext cx="6096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PRIDE AND PREJUDIC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ULIAN  ASSAN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952560" y="762120"/>
            <a:ext cx="72388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DITOR OF WIKILEAKS IS CURRENTLY IN A BRITISH PRIS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  AD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143000" y="762120"/>
            <a:ext cx="68580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VICE PRESIDENT OF THE U.S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E  ARPA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685800" y="762120"/>
            <a:ext cx="77724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"AMERICA'S TOUGHEST SHERIFF" WAS PARDONED BY PRESIDENT TRUMP IN 2017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066680" y="762120"/>
            <a:ext cx="70106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RACHEL GREEN ON "FRIEND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90068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SON  ALEXAN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762120" y="762120"/>
            <a:ext cx="76197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GEORGE COSTANZA ON "SEINFEL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CK  ABRAMOF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838080" y="762120"/>
            <a:ext cx="746784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LOBBYIST WAS AT THE CENTER OF AN EXTENSIVE CORRUPTION SCANDAL DURING THE GEORGE W. BUSH PRESIDENC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N  ANDER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990720" y="762120"/>
            <a:ext cx="71625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LEAD SINGER OF THE PROGRESSIVE ROCK BAND Y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STARRED IN "HONEY", "INTO THE BLUE", AND "GOOD LUCK CHUCK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219320" y="762120"/>
            <a:ext cx="6705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AN OSCAR FOR BEST ACTRESS FOR "MARY POPPIN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1523880" y="762120"/>
            <a:ext cx="60962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PRIDE AND PREJUDIC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952560" y="762120"/>
            <a:ext cx="72388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DITOR OF WIKILEAKS IS CURRENTLY IN A BRITISH PRIS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143000" y="761760"/>
            <a:ext cx="6858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VICE PRESIDENT OF THE U.S.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"AMERICA'S TOUGHEST SHERIFF" WAS PARDONED BY PRESIDENT TRUMP IN 2017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GEORGE COSTANZA ON "SEINFEL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26T01:21:25Z</dcterms:created>
  <dc:creator>Jennifer Budzinski</dc:creator>
  <dc:description/>
  <dc:language>en-US</dc:language>
  <cp:lastModifiedBy>Erich Friedman</cp:lastModifiedBy>
  <dcterms:modified xsi:type="dcterms:W3CDTF">2020-08-27T11:04:54Z</dcterms:modified>
  <cp:revision>349</cp:revision>
  <dc:subject/>
  <dc:title>Slide 1</dc:title>
</cp:coreProperties>
</file>