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28C8-6E6F-48E6-B744-992901851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B5EF-070C-49B9-8CD6-F0A2B75F5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3C8D-BA8B-4FBD-8BFB-44ADD769F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2DA4-EED4-407D-BE2E-249B6EE14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C89B-758B-4421-AA7B-DA08CB152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40FC-BA86-45FF-AB64-D58ECB3EE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94EB-5564-4550-8B74-AC203E294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F621-F35D-47DA-9BA9-004528F79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93D7-00C8-48E0-8264-59373EC31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ED93B-72D7-4ECA-9E68-5A684DB7A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560A-989D-49E3-B660-991389262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BCB9-FDE7-4880-BDDD-1B26DC0A3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BF7A-6B09-44D6-8F57-473492E49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2B1D-13BF-4200-8FA2-0928E2964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8235-5B61-4353-BB8B-8AA2371B0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D0A9-31A5-4137-930E-E8CB922F7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23AF-AE62-4D41-A9ED-B26A90A1B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D6D7-5CDB-4AC0-932F-FDA2B6D91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D9D1-1A55-4267-88F4-DD0D9C425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FC95-9492-4CF9-A269-54765B0E4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8AFA-C5FA-4E26-BF29-3CC3E743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DE57-CCA2-4850-B642-1390D93A4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F6D1-B162-45D1-AD27-4ABD6EFDC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BBYIST WAS AT THE CENTER OF AN EXTENSIVE CORRUPTION SCANDAL DURING THE GEORGE W. BUSH PRESIDEN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THE PROGRESSIVE ROCK BAND Y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ANI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CHEL GREEN ON "FRIEN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ICA  AL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HONEY", "INTO THE BLUE", AND "GOOD LUCK CHU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E  ANDR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MARY POPPI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AU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76212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RIDE AND PREJUD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N  ASS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DITOR OF WIKILEAKS IS CURRENTLY IN A BRITISH PRI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ICE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ARPA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MERICA'S TOUGHEST SHERIFF" WAS PARDONED BY PRESIDENT TRUMP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CHEL GREEN ON "FRIEN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06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ON  ALEXA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EORGE COSTANZA ON "SEINFE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ABRAM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BBYIST WAS AT THE CENTER OF AN EXTENSIVE CORRUPTION SCANDAL DURING THE GEORGE W. BUSH PRESID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  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THE PROGRESSIVE ROCK BAND Y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HONEY", "INTO THE BLUE", AND "GOOD LUCK CHU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MARY POPPI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RIDE AND PREJUD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DITOR OF WIKILEAKS IS CURRENTLY IN A BRITISH PRI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ICE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MERICA'S TOUGHEST SHERIFF" WAS PARDONED BY PRESIDENT TRUMP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GEORGE COSTANZA ON "SEINFE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7T11:04:54Z</dcterms:modified>
  <cp:revision>349</cp:revision>
  <dc:subject/>
  <dc:title>Slide 1</dc:title>
</cp:coreProperties>
</file>