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C3236-26E0-4D14-BC75-0B9F1EECEA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0018F-4259-4A97-BA00-28A2C22585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E0AF1-5DE4-4A94-A943-83C4F55B27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78DD3-7CA6-49BD-B416-F48969241B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C631E-0DBA-4BC9-87BA-B8C5770F99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19F67-D55F-4796-98C6-0D450CBE17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E2693-42A2-4155-A8B8-37B62F955B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53951-EE4A-4C2F-B753-F0B0C8F6ED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0B523-1785-45FA-9E64-BA966995BD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B8385-F8F0-4554-8977-329357B48E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E0D8E-57A0-4B5C-92F7-5E4E1DA031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82EEC-2038-43F8-9C49-825388AB23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D38C0-8AE3-4E67-A48A-4DD0301D68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CE31F-0E19-4169-9140-83449088D9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6A3DC-D09E-406E-97D0-AA01BA5B2E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F4F69-DB56-4BBB-B58C-0F30D496AD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8BDF2-2C3E-498C-90AC-30D72B2E17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0BC0E-383B-4D48-B6E3-59923FF6E0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7398E-B9ED-4BCD-8345-4718516D77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3F7D7-F7D7-4446-8820-CADE674BC1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6A4AA-81FB-4DE6-B639-8D7D73E495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2721B-981D-4A72-B7DC-008B0ED200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FC278-5A60-404F-832A-C5D523E69C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333440" y="1523880"/>
            <a:ext cx="64771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AME INITI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723960" y="761760"/>
            <a:ext cx="76960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EMALE COUNTRY SINGER PUT OUT THE ALBUMS "NICK OF TIME" AND "LUCK OF THE DRAW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380880" y="762120"/>
            <a:ext cx="83822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PITTSBURGH STEELERS STARTING QUARTERBACK 2004-2018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1066680" y="4876920"/>
            <a:ext cx="70106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OB  RO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876240" y="762120"/>
            <a:ext cx="739152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HOST OF "THE JOY OF PAINTING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ERTRAND  RUSS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1028880" y="762120"/>
            <a:ext cx="7086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HILOSOPHER IS CONSIDERED ONE OF THE 20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CENTURY'S PREMIER LOGICIA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9600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ABE  RU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800280" y="762120"/>
            <a:ext cx="7543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URING THE 1932 WORLD SERIES, WHO FAMOUSLY POINTED TO CENTERFIELD SHORTLY BEFORE HITTING A HOME RUN THE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83040"/>
            <a:ext cx="8458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URT  REYNOL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824040" y="762120"/>
            <a:ext cx="7495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IN THE FILMS "THE LONGEST YARD"    AND "THE BEST LITTLE WHOREHOUSE IN TEXA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5720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ILL  RUSS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895320" y="762120"/>
            <a:ext cx="73533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BA PLAYER LED THE BOSTON CELTICS TO 11 CHAMPIONSHIPS DURING HIS 13-YEAR CARE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ILL  RICHARD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504720" y="762120"/>
            <a:ext cx="813456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CLINTON'S SECRETARY OF ENERGY   AND LATER BECAME THE GOVERNOR OF NEW MEXIC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ETSY  RO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685800" y="762120"/>
            <a:ext cx="77724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UPPOSEDLY MADE THE FIRST AMERICAN FLA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838080" y="762120"/>
            <a:ext cx="74678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HOST OF "THE JOY OF PAINTING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ASIL  RATHBO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762120" y="762120"/>
            <a:ext cx="761976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SHERLOCK HOLMES IN 14 FILMS BETWEEN 1939 AND 1946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ONNIE  RAIT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838080" y="762120"/>
            <a:ext cx="746784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EMALE COUNTRY SINGER PUT OUT THE ALBUMS "NICK OF TIME" AND "LUCK OF THE DRAW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EN  ROETHLISBERG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380880" y="762120"/>
            <a:ext cx="83822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PITTSBURGH STEELERS STARTING QUARTERBACK 2004-2018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533520" y="761760"/>
            <a:ext cx="80769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HILOSOPHER IS CONSIDERED ONE OF THE 20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CENTURY'S PREMIER LOGICIAN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819000" y="762120"/>
            <a:ext cx="7506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URING THE 1932 WORLD SERIES, WHO FAMOUSLY POINTED TO CENTERFIELD SHORTLY BEFORE HITTING A HOME RUN THE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799920" y="762120"/>
            <a:ext cx="75438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IN THE FILMS "THE LONGEST YARD"    AND "THE BEST LITTLE WHOREHOUSE IN TEXA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857160" y="762120"/>
            <a:ext cx="74296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BA PLAYER LED THE BOSTON CELTICS TO 11 CHAMPIONSHIPS DURING HIS 13-YEAR CARE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495360" y="761760"/>
            <a:ext cx="81532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CLINTON'S SECRETARY OF ENERGY   AND LATER BECAME THE GOVERNOR OF NEW MEXICO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533520" y="7617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UPPOSEDLY MADE THE FIRST AMERICAN FLA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838080" y="761760"/>
            <a:ext cx="74678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SHERLOCK HOLMES IN 14 FILMS BETWEEN 1939 AND 1946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9-26T01:21:25Z</dcterms:created>
  <dc:creator>Jennifer Budzinski</dc:creator>
  <dc:description/>
  <dc:language>en-US</dc:language>
  <cp:lastModifiedBy>Erich Friedman</cp:lastModifiedBy>
  <dcterms:modified xsi:type="dcterms:W3CDTF">2020-08-27T11:05:49Z</dcterms:modified>
  <cp:revision>356</cp:revision>
  <dc:subject/>
  <dc:title>Slide 1</dc:title>
</cp:coreProperties>
</file>