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1EE3-16D5-4F7F-8A54-EA6EC56243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F82D0-AB75-49C7-B029-89AFD0F1E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03AE-B0F9-4C31-BEE4-A99EE41B4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2881E-468F-401B-A822-C7B409F54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8D095-ECE2-47D7-87DD-9F31ECA36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C402-17E0-4E62-B7FD-6FBBF2151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20718-9D1C-4D8B-8C4F-6D0440D9B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3E15-1FC9-42D6-BB29-687B288A8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EEBC-14DC-49F6-B359-D07475585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FD3AB-4F45-4466-8DAE-80D19CD8D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8DB0C-01A0-4BB0-A8E4-3CB0659B3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FC5B-1647-44AB-AA00-1B94BE28F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C4B2-4F97-468C-99CD-63E7FC92E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C50D5-127A-4503-B084-D24D069FE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0014C-A0D3-496C-8DB5-CBD226B9D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81CAF-E681-4057-B8F5-22FF10364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B0882-CF34-45D6-8C52-9A73ED5EC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7D56E-4565-4085-998B-B77AA4E45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33AF3-EEB9-43FA-86CD-DE224C0BF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9FBD2-CB2F-45E9-93E7-AC0675598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DF92D-4748-4074-BCAC-3376E5221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D79CB-BA09-42C6-B78B-873FC516C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4BF8-F3C8-4228-8ABA-C5B38B784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COUNTRY SINGER PUT OUT THE ALBUMS "NICK OF TIME" AND "LUCK OF THE DRAW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380880" y="762120"/>
            <a:ext cx="8382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PITTSBURGH STEELERS STARTING QUARTERBACK 2004-201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  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76240" y="762120"/>
            <a:ext cx="73915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HOST OF "THE JOY OF PAINT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RTRAND  RUSS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28880" y="762120"/>
            <a:ext cx="7086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HILOSOPHER IS CONSIDERED ONE OF THE 2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'S PREMIER LOGICIA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9600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BE  RU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RING THE 1932 WORLD SERIES, WHO FAMOUSLY POINTED TO CENTERFIELD SHORTLY BEFORE HITTING A HOME RUN T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30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RT  REYNOL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24040" y="762120"/>
            <a:ext cx="749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THE FILMS "THE LONGEST YARD"    AND "THE BEST LITTLE WHOREHOUSE IN TEXA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  RUSS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95320" y="762120"/>
            <a:ext cx="7353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BA PLAYER LED THE BOSTON CELTICS TO 11 CHAMPIONSHIPS DURING HIS 13-YEAR CARE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  RICHARD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04720" y="762120"/>
            <a:ext cx="813456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CLINTON'S SECRETARY OF ENERGY   AND LATER BECAME THE GOVERNOR OF NEW MEXIC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TSY  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85800" y="7621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UPPOSEDLY MADE THE FIRST AMERICAN FLA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HOST OF "THE JOY OF PAINT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SIL  RATHB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SHERLOCK HOLMES IN 14 FILMS BETWEEN 1939 AND 194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NNIE  RAI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38080" y="762120"/>
            <a:ext cx="74678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COUNTRY SINGER PUT OUT THE ALBUMS "NICK OF TIME" AND "LUCK OF THE DRAW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  ROETHLISBER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380880" y="76212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PITTSBURGH STEELERS STARTING QUARTERBACK 2004-201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HILOSOPHER IS CONSIDERED ONE OF THE 2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'S PREMIER LOGICIA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19000" y="762120"/>
            <a:ext cx="7506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RING THE 1932 WORLD SERIES, WHO FAMOUSLY POINTED TO CENTERFIELD SHORTLY BEFORE HITTING A HOME RUN T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THE FILMS "THE LONGEST YARD"    AND "THE BEST LITTLE WHOREHOUSE IN TEXA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57160" y="762120"/>
            <a:ext cx="7429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BA PLAYER LED THE BOSTON CELTICS TO 11 CHAMPIONSHIPS DURING HIS 13-YEAR CARE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CLINTON'S SECRETARY OF ENERGY   AND LATER BECAME THE GOVERNOR OF NEW MEXIC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UPPOSEDLY MADE THE FIRST AMERICAN FLA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SHERLOCK HOLMES IN 14 FILMS BETWEEN 1939 AND 194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6T01:21:25Z</dcterms:created>
  <dc:creator>Jennifer Budzinski</dc:creator>
  <dc:description/>
  <dc:language>en-US</dc:language>
  <cp:lastModifiedBy>Erich Friedman</cp:lastModifiedBy>
  <dcterms:modified xsi:type="dcterms:W3CDTF">2020-08-27T11:05:49Z</dcterms:modified>
  <cp:revision>356</cp:revision>
  <dc:subject/>
  <dc:title>Slide 1</dc:title>
</cp:coreProperties>
</file>