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946D-2F5E-49A1-A75F-B276735F0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BF6D-9759-44E4-96F1-283EFF88B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8CF4-2108-400D-B263-28605C8FE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C5C5-D8A2-4ECB-8108-EEC7B4E68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BE0D-7A94-4778-9C3C-8E91E1BA1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6CD6B-504F-4161-9704-A6E6FEB6A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B044-4F96-4619-AF47-438CF38A7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B854-6C53-45E0-AABA-79E15E833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F31A-7538-49E5-A07B-227D76D55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C4E6-8500-42BE-BE99-05546F377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0287-2C6D-4050-AFAB-0D9BE1001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26F1-12A1-4495-8F34-5E0A71490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A8AB3-D8BC-4AB9-BFBC-523DD842D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09C1-24D7-40B6-A3BB-C4B0BAE04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59EB-08E7-4087-A088-06F78533C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2099-BCD5-4A19-8A72-24EB0EC72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DC5E-EB2C-4449-BDB1-17C365C4A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88EE-8C6C-4278-AA2A-D6289D892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D781-DCDD-448A-913B-0F7B1F0DF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A23A-EC83-4285-8371-E4EDD04B5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6D11-8C73-422B-80B7-C25C8CF53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A414-8834-4545-A200-27CF9B5DF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EDAB-BAFE-46FA-9BB7-AC1AF541C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SINGER PUT OUT THE ALBUMS "NICK OF TIME" AND "LUCK OF THE DRA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ITTSBURGH STEELERS STARTING QUARTERBACK 2004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OST OF "THE JOY OF PAIN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TRAND  RUS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28880" y="762120"/>
            <a:ext cx="7086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ILOSOPHER IS CONSIDERED ONE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'S PREMIER LOGICIA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600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  R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1932 WORLD SERIES, WHO FAMOUSLY POINTED TO CENTERFIELD SHORTLY BEFORE HITTING A HOME RUN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30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T  REYN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24040" y="762120"/>
            <a:ext cx="749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THE LONGEST YARD"    AND "THE BEST LITTLE WHOREHOUSE IN TEXA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RUSS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95320" y="762120"/>
            <a:ext cx="7353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PLAYER LED THE BOSTON CELTICS TO 11 CHAMPIONSHIPS DURING HIS 13-YEAR CARE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RICHARD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04720" y="762120"/>
            <a:ext cx="813456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LINTON'S SECRETARY OF ENERGY   AND LATER BECAME THE GOVERNOR OF NEW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SY  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PPOSEDLY MADE THE FIRST AMERICAN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OST OF "THE JOY OF PAINT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SIL  RATHB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RLOCK HOLMES IN 14 FILMS BETWEEN 1939 AND 194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NIE  RA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EMALE COUNTRY SINGER PUT OUT THE ALBUMS "NICK OF TIME" AND "LUCK OF THE DRA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  ROETHLISBE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ITTSBURGH STEELERS STARTING QUARTERBACK 2004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ILOSOPHER IS CONSIDERED ONE OF THE 2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'S PREMIER LOGICIA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19000" y="762120"/>
            <a:ext cx="750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THE 1932 WORLD SERIES, WHO FAMOUSLY POINTED TO CENTERFIELD SHORTLY BEFORE HITTING A HOME RUN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THE FILMS "THE LONGEST YARD"    AND "THE BEST LITTLE WHOREHOUSE IN TEXA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57160" y="762120"/>
            <a:ext cx="7429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A PLAYER LED THE BOSTON CELTICS TO 11 CHAMPIONSHIPS DURING HIS 13-YEAR CARE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LINTON'S SECRETARY OF ENERGY   AND LATER BECAME THE GOVERNOR OF NEW MEXI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PPOSEDLY MADE THE FIRST AMERICAN FLA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SHERLOCK HOLMES IN 14 FILMS BETWEEN 1939 AND 194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7T11:05:49Z</dcterms:modified>
  <cp:revision>356</cp:revision>
  <dc:subject/>
  <dc:title>Slide 1</dc:title>
</cp:coreProperties>
</file>