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AEC-99DA-4883-81F3-E7658E40F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A7D5-3BB2-4EEA-8141-042E8D7E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868-FEED-4443-B05C-CFC7E65D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E78-4931-41C9-8BE8-E7EA83A8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D43E-19A1-4B3E-9FAC-779E480E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7DCF-675A-4682-97C7-6AC66F62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E0A-89A4-4C94-B2F6-38D03363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0DC6-C186-4CA1-8218-676CE574F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030-4F52-400E-B2A1-38980245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4CB-B814-48ED-9911-2C2B5DE8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1F7-81EC-448E-9CE5-3AF12049C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A5E9-618B-4F88-AD48-CC7A7F04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FA83-0C5B-4FDF-AB0F-CB10B2CED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369-2F64-4D2C-AD6D-2E0277D6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9C8-481C-4971-9D44-B9EA5712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807-477E-4546-B2C1-E9CB8C33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0F45-17C1-4314-86F5-4D0DFE18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9F5-F85E-486D-B2AF-A9B4E1A6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F4F1-65A4-4CED-B7FC-E99D544E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582-2D40-411A-A962-2543847C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301-EA13-4457-8DD1-246A5D30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7B3E-9CE3-4F9C-8D38-A952C175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DD4D-3A87-451B-8BA9-E5E5C9CF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67000" y="762120"/>
            <a:ext cx="6210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NDA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AMMAR  GADDA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3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GAM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V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G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3:55:02Z</dcterms:created>
  <dc:creator>Jennifer Budzinski</dc:creator>
  <dc:description/>
  <dc:language>en-US</dc:language>
  <cp:lastModifiedBy>Erich Friedman</cp:lastModifiedBy>
  <dcterms:modified xsi:type="dcterms:W3CDTF">2020-08-23T21:51:11Z</dcterms:modified>
  <cp:revision>318</cp:revision>
  <dc:subject/>
  <dc:title>Slide 1</dc:title>
</cp:coreProperties>
</file>