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4211-1785-4FFD-A0DA-AF0483721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6ED1-F510-4324-B71D-601A41AC9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CC49-14BF-447B-839C-36E692763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7984-9663-478C-BA24-BBBCD6600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710B-2F07-41CA-87BF-E70666F1A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5A95-1E74-43A5-8556-AF9DF301C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A71F-176B-4ACE-AD5D-1BB7953C0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3D39-2B1E-4B87-9CC3-685C9747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DA56-6E4D-481C-8ED3-5472803D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6CD4-19BD-45A0-A087-AED815FB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E740-9627-4CCD-84FF-6B89FCCC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4958-4B97-4CA3-8774-167C24616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BEA4-D3E9-4818-AC57-427731A5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A37D-7857-4396-8BF0-C0E932C2A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2FC-440F-4051-ADDC-BA640284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5881-28D0-486C-BC14-517ACA64A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C727-C97D-4554-A8EE-CA09B825C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58C8-30B9-4CFD-AC23-D0E304EB7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E63E-9C6B-44D2-9A35-1D3A90694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D832-9A56-4497-8A6C-FC2D06EF5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E53E-7409-483C-8327-5AF6BAB7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FAD3-1BEC-4ACA-9A64-D4E1D522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E23A-B577-429F-8F75-284806746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INTERNATIONAL HIT SINGLE "I T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23 NOVELS STARRING RICHARD JURY, A SCOTLAND YARD INSP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67000" y="762120"/>
            <a:ext cx="6210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3 "MAD MAX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HAIL GORBACH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LEADER OF THE SOVIET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NDA 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ER HUSBAND, WHO HAS GIVEN THE MOST MONEY EVER TO CHA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AMMAR  GADDAF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86080" y="76356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LIBYA FROM 1969 TO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GAM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762120"/>
            <a:ext cx="788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UMBLEDORE IN 6 "HARRY POT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GI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WILDER ON "LITTLE HOUSE ON THE PRAIR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HATMA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3 "MAD MAX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V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FROM 1965 TO 1986, AND CREATED THE GAME SHOWS "JEOPARDY!" AND "WHEE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Y  G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INTERNATIONAL HIT SINGLE "I T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HA  GR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23 NOVELS STARRING RICHARD JURY, A SCOTLAND YARD INSP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LEADER OF THE SOVIET UN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ER HUSBAND, WHO HAS GIVEN THE MOST MONEY EVER TO CHA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LIBYA FROM 1969 TO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8560" y="723960"/>
            <a:ext cx="7886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UMBLEDORE IN 6 "HARRY POTTE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WILDER ON "LITTLE HOUSE ON THE PRAIR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FROM 1965 TO 1986, AND CREATED THE GAME SHOWS "JEOPARDY!" AND "WHEEL OF FORTU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3:55:02Z</dcterms:created>
  <dc:creator>Jennifer Budzinski</dc:creator>
  <dc:description/>
  <dc:language>en-US</dc:language>
  <cp:lastModifiedBy>Erich Friedman</cp:lastModifiedBy>
  <dcterms:modified xsi:type="dcterms:W3CDTF">2020-08-23T21:51:11Z</dcterms:modified>
  <cp:revision>318</cp:revision>
  <dc:subject/>
  <dc:title>Slide 1</dc:title>
</cp:coreProperties>
</file>