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192D-43EF-4024-B134-118F79C1A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ED94-4D35-4EEE-AF9C-480A650B9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8C59-3B3E-448B-8394-7CE213A76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E777-D47F-4C3A-8DA7-7876370A3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FD9C-F1E7-4B1C-B5E9-685BAC1E0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3FA1-366A-4BBE-9E18-5E777E06C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D9CD-DDD8-4EE1-94FE-2AF44A439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39C5-4E50-40AD-B712-31742CBB8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1EE4-D472-4BC4-A296-9C32ABA7A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8877-1090-4822-A15B-DB1DD04AE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455D-B473-41FF-BE5D-0940533FE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4954-2282-4957-BF70-047AE5A79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8845-23E2-4CC7-B9B8-E0E4B5A8A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818F-F654-4E9B-B73C-2FA28987A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693C-3536-4734-B4E1-CC5A602E5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B87D-2E4D-4050-97DE-F07C30338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43E7-1D04-46B9-AB61-DF4FA0EA2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C382-C8BE-4D4F-8583-8F0D412D8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2D86-DA3C-486E-960F-1EFD98511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A83E-C542-4C40-A22F-4187CDC6B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BC27-FCE7-4263-93CD-C6A8FA812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A44F-C409-4C4E-98C5-3C51348C6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BC53-7CC4-4BA8-BFDF-8F481BA18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INTERNATIONAL HIT SINGLE "I T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304920" y="762120"/>
            <a:ext cx="853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23 NOVELS STARRING RICHARD JURY, A SCOTLAND YARD INSPEC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  GIB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467000" y="762120"/>
            <a:ext cx="6210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3 "MAD MAX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KHAIL GORBACHE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AST LEADER OF THE SOVIET UN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INDA  G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ONG WITH HER HUSBAND, WHO HAS GIVEN THE MOST MONEY EVER TO CHAR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AMMAR  GADDAF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486080" y="763560"/>
            <a:ext cx="6172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ULED LIBYA FROM 1969 TO 20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GAMB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28560" y="762120"/>
            <a:ext cx="7886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DUMBLEDORE IN 6 "HARRY POTTER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ISSA  GILB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LAURA WILDER ON "LITTLE HOUSE ON THE PRAIRI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HATMA  GANDH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LED THE INDIAN INDEPENDENCE MOVEMENT AGAINST BRITISH RU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523880" y="762120"/>
            <a:ext cx="6096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3 "MAD MAX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95360" y="4881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RV  GRIFF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HIS OWN TALK SHOW FROM 1965 TO 1986, AND CREATED THE GAME SHOWS "JEOPARDY!" AND "WHEEL OF FORTU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CY  G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295280" y="762120"/>
            <a:ext cx="65534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INTERNATIONAL HIT SINGLE "I T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THA  GRI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04920" y="762120"/>
            <a:ext cx="85341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23 NOVELS STARRING RICHARD JURY, A SCOTLAND YARD INSPEC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AST LEADER OF THE SOVIET UN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5720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ONG WITH HER HUSBAND, WHO HAS GIVEN THE MOST MONEY EVER TO CHAR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409760" y="762120"/>
            <a:ext cx="6324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ULED LIBYA FROM 1969 TO 201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28560" y="723960"/>
            <a:ext cx="7886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DUMBLEDORE IN 6 "HARRY POTTER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LAURA WILDER ON "LITTLE HOUSE ON THE PRAIRI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LED THE INDIAN INDEPENDENCE MOVEMENT AGAINST BRITISH RU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HIS OWN TALK SHOW FROM 1965 TO 1986, AND CREATED THE GAME SHOWS "JEOPARDY!" AND "WHEEL OF FORTU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5T13:55:02Z</dcterms:created>
  <dc:creator>Jennifer Budzinski</dc:creator>
  <dc:description/>
  <dc:language>en-US</dc:language>
  <cp:lastModifiedBy>Erich Friedman</cp:lastModifiedBy>
  <dcterms:modified xsi:type="dcterms:W3CDTF">2020-08-23T21:51:11Z</dcterms:modified>
  <cp:revision>318</cp:revision>
  <dc:subject/>
  <dc:title>Slide 1</dc:title>
</cp:coreProperties>
</file>