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469A-0EFF-4CD7-BED2-CE2A79591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F5A8-415A-4C1B-ABE8-54AAB274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CA74-FDFD-42C5-8421-168CEEB4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1F33-BAEF-4BB8-A1A3-8E344270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283A-313C-450C-8FFD-2D078297C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CDF0-3F14-40B7-8A2B-9CD837CF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985-1B21-408C-A12F-19E0F7D6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72D-7BC3-4314-AADD-E50C3A0D6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CA9C-090E-4F76-AE92-672851F5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E721-B498-4025-9802-10E4A9597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1C24-72F3-4123-81F9-EC0AB6D87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208-A93A-4896-B738-0F20552A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B439-7E1D-4CED-A656-1D45D1226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7E3-63BF-45F5-927C-D05D13EE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61D6-EBC1-4FF0-BCED-C73209631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A660-5668-4BAA-895B-38609BAB6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F8A-96A8-4891-97F5-9CA257816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17CF-89F3-41E0-8934-65CC9CBBA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2EF3-E66F-4422-AA1E-58369EF92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91A8-C8DE-41C5-B737-9E12CFD98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A56F-8B8F-4AF1-B154-2ADA3CC7C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2ADE-53CF-4E02-99DC-663C6091E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2C06-8660-4990-BE8A-D0E541916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BEST ACTRESS FOR "REBECCA", "SUSPICION", AND "THE CONSTANT NYMP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RECORD 4 OSCARS FOR BEST DIRECTOR, IN 1935, 1940, 1941, AND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FA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RAY" AND BEST SUPPORTING ACTOR FOR "COLLATERAL" IN THE SAM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06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318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OZ THE GREAT AND POWERFUL" AND "THE DISASTER ART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E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H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SCAR FOR "THE ACCUS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OG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CREEDENCE CLEARWATER REV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KLUTE" AND "COMING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FIE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IAM SHAKESPEARE IN "SHAKESPEARE IN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FRAZ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1970-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FONT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BEST ACTRESS FOR "REBECCA", "SUSPICION", AND "THE CONSTANT NYMP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RECORD 4 OSCARS FOR BEST DIRECTOR, IN 1935, 1940, 1941, AND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RAY" AND BEST SUPPORTING ACTOR FOR "COLLATERAL" IN THE SAM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OZ THE GREAT AND POWERFUL" AND "THE DISASTER ART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H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SCAR FOR "THE ACCUS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CREEDENCE CLEARWATER REVIV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KLUTE" AND "COMING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IAM SHAKESPEARE IN "SHAKESPEARE IN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1970-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7T11:06:39Z</dcterms:modified>
  <cp:revision>352</cp:revision>
  <dc:subject/>
  <dc:title>Slide 1</dc:title>
</cp:coreProperties>
</file>