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40AB-3EF7-47EF-9449-18E1E6B43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EC16-CD17-4474-8206-A252B33B8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E6B1-1DF1-442B-BA99-514D9EB3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A85-670A-4F6C-851F-CBBFA4FE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4653-623E-4350-9B0E-D6B72537C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4D6E-3BE0-405E-8709-66C798884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EF9-F079-4CAD-A8BC-07C9731D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DC6A-F407-45EE-AFB1-9C7C3A48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B71D-1BA8-4462-B404-ECA5239A6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F1FD-9B4C-482F-8325-2BA9812C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44C0-4E5E-4FDB-9217-8AF2F4AA0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BDAB-BBB5-48B8-B0A9-D1256633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2B7B-0C83-4193-BE6D-B8E44C74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A244-58D0-48B2-B2B3-1C6A1DBDE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81D1-B427-4F37-86B6-48BB6A5B4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EA3B-D478-4454-9558-B54F7A79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A00F-71F2-44DB-8D22-F55BD33C1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452B-136D-425E-A907-70992D584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5221-AB85-4A82-9B02-F60A2C71D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7A7D-8551-4400-8EC6-EA7A63C3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501-316D-41BC-A697-8D74D47A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E55-17CE-4EBD-8043-32127625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3647-147C-43F8-A456-E0A7EFDEB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BEST ACTRESS FOR "REBECCA", "SUSPICION", AND "THE CONSTANT NYMP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RECORD 4 OSCARS FOR BEST DIRECTOR, IN 1935, 1940, 1941, AND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FA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RAY" AND BEST SUPPORTING ACTOR FOR "COLLATERAL" IN THE SAM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06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318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OZ THE GREAT AND POWERFUL" AND "THE DISASTER ART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E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H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SCAR FOR "THE ACCUS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OG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CREEDENCE CLEARWATER REV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KLUTE" AND "COMING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FIE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IAM SHAKESPEARE IN "SHAKESPEARE IN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FRAZ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1970-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FONT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BEST ACTRESS FOR "REBECCA", "SUSPICION", AND "THE CONSTANT NYMP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RECORD 4 OSCARS FOR BEST DIRECTOR, IN 1935, 1940, 1941, AND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RAY" AND BEST SUPPORTING ACTOR FOR "COLLATERAL" IN THE SAM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OZ THE GREAT AND POWERFUL" AND "THE DISASTER ART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H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SCAR FOR "THE ACCUS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CREEDENCE CLEARWATER REVIV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KLUTE" AND "COMING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IAM SHAKESPEARE IN "SHAKESPEARE IN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1970-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7T11:06:39Z</dcterms:modified>
  <cp:revision>352</cp:revision>
  <dc:subject/>
  <dc:title>Slide 1</dc:title>
</cp:coreProperties>
</file>