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B0C0-FB87-4E3C-A7A3-0F4476CDF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CF211-65D7-4650-8C90-C83324F69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ABC0-572A-475E-A1D4-D72D14D51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17011-C33A-4537-9FE6-8E73EC2D4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432D-B0AA-4FD5-ACBB-EE79DF33C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4FBB-6847-4F3E-9194-7B73CFCAA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581B-3873-475A-9430-5905DC4B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43B0-B42D-4484-BBD4-98BE72835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A6E1-7675-4C56-B1D0-1617BF51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C51D-7285-41EC-A6A3-392466CA5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07C9-7FB3-413C-98C1-6427D1833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C147-3C47-41DA-A872-87B1D7C5F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C743-4D69-4764-A8EA-234A12692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8204F-D399-4AE7-B3FC-51FA4C540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A9F4-FA1E-4B97-995C-76CC2A8E9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90A1-C4D2-440C-A86E-F453BF9BF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BE8E-294A-4E36-8F8D-1C974C737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E51E-11C7-42C0-A51F-A16A3D109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7F99-60B5-4BA8-946D-BC6772B2F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7735-E18C-4B5E-83EC-778CC57F7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A871-A9E8-4DD6-BFC9-E0F0E86BE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8A5F-C7A7-4E99-94CA-1B405F01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B3D3-A7B3-4414-8BAA-DDB263F4C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BEST ACTRESS FOR "REBECCA", "SUSPICION", AND "THE CONSTANT NYMP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RECORD 4 OSCARS FOR BEST DIRECTOR, IN 1935, 1940, 1941, AND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FA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2120" y="762120"/>
            <a:ext cx="7619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RAY" AND BEST SUPPORTING ACTOR FOR "COLLATERAL" IN THE SAM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06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FRAN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3188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OZ THE GREAT AND POWERFUL" AND "THE DISASTER ART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DIE  FO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33480" y="762120"/>
            <a:ext cx="7277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H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SCAR FOR "THE ACCUS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OG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CREEDENCE CLEARWATER REVIV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FO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KLUTE" AND "COMING HO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FIEN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IAM SHAKESPEARE IN "SHAKESPEARE IN LO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CURRENT HOST OF "THE TONIGHT SH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FRAZ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1970-197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  FONTA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AN OSCAR FOR BEST ACTRESS FOR "REBECCA", "SUSPICION", AND "THE CONSTANT NYMP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RECORD 4 OSCARS FOR BEST DIRECTOR, IN 1935, 1940, 1941, AND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RAY" AND BEST SUPPORTING ACTOR FOR "COLLATERAL" IN THE SAM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S IN "OZ THE GREAT AND POWERFUL" AND "THE DISASTER ART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HER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SCAR FOR "THE ACCUS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CREEDENCE CLEARWATER REVIV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ACTRESS FOR "KLUTE" AND "COMING HOM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WILLIAM SHAKESPEARE IN "SHAKESPEARE IN LO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HEAVYWEIGHT BOXING CHAMPION 1970-197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7T11:06:39Z</dcterms:modified>
  <cp:revision>352</cp:revision>
  <dc:subject/>
  <dc:title>Slide 1</dc:title>
</cp:coreProperties>
</file>