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83E0-28CB-40F9-8D0D-86D808EDB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EB20-2516-41E3-8ABE-94C11A017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1616-50F5-484D-B80D-23E2F4C02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1324-98DC-49DB-B9F9-5DA60839D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0BB4-5445-499E-9059-33D5C517A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04F8-663C-4958-9FA1-980D85B33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2E7F-EE0E-4A78-8926-B779D7914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51A4-ED93-4DB5-933C-4B9E27C8F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02E6-F9AC-4FBF-8BA1-339C4BD2E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4EE6-FAC0-4073-8526-C281EE6C9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E42C-5DCB-4326-B7D9-EF27BAB3F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EB98-EB44-4255-9637-17E3ACE3D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16BD-5BDA-4E8A-B635-276240BFC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0980-0FCC-4056-9EB4-B2B81E55A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3B37-AEDD-44FC-BDC4-2434EF743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3094-63E0-4570-9B74-20F517599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78EA-A026-4F16-86D8-C202959C2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0EEB-25D7-46F7-89F8-9AD5A4951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E593-BADD-45E6-BC55-22F4F2622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104C-5138-489B-AE29-178478D5D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6DCE-2C71-41D3-90A1-12D3053A2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92A1-1041-469F-B5F4-B23BCF768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8CDE-88A4-4BB9-B62E-504554063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190600" y="1066680"/>
            <a:ext cx="4762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TITLE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COMEDY FILM STARRED MARK HARMON AS A GYM TEACHER TEACHING REMEDIAL ENGL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66560" y="762120"/>
            <a:ext cx="8210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WAR ROMANCE FILM STARRED GOLDIE HAWN, KURT RUSSEL, CHRISTINE LAHTI, AND ED HARR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ICIDE  SQU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61880" y="762120"/>
            <a:ext cx="8218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A GROUP OF SUPERHEROES HAD AN ENSEMBLE CAST INCLUDING WILL SMITH, VIOLA DAVIS, AND JARED LE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NGHAI  SURP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77840" y="762120"/>
            <a:ext cx="6988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ADVENTURE COMEDY FILM STARRED THEN-NEWLYWEDS SEAN PENN AND MADON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  ST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6 FILM ABOUT A RUNAWAY TRAIN STARRED GENE WILDER, RICHARD PRYOR, AND JILL CLAYBUR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420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VEN  SAMUR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840" y="762120"/>
            <a:ext cx="912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EPIC JAPANESE WARRIOR FILM DIRECTED BY AKIRA KUROSAWA WAS VOTED THE BEST FOREIGN-LANGUAGE FILM EVER BY THE B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ED  STI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3 PARANORMAL COMEDY MUSICAL FILM STARRED DEAN MARTIN AND JERRY LEW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AP  S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8040" y="762120"/>
            <a:ext cx="7927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7 FILM STARRED PAUL NEWMAN AS THE COACH OF A HOCKEY TEAM THAT RESORTS TO VIOLENCE TO GAIN POPULA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GE  STR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90520" y="762120"/>
            <a:ext cx="8562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8 FILM ABOUT BREAKING INTO SHOW BUSINESS STARRED HENRY FONDA, SUSAN STRASBERG, AND CHRISTOPHER PLUM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23360" y="762120"/>
            <a:ext cx="8294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A GROUP OF SUPERHEROES HAD AN ENSEMBLE CAST INCLUDING WILL SMITH, VIOLA DAVIS, AND JARED LE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DING  ST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81160" y="762120"/>
            <a:ext cx="858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5 ROM-COM WITH  AN ENSEMBLE CAST INCLUDING ADAM GARCIA AND AMY ADAMS DO LIFELONG FRIENDS REUNITE AT A WED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MMER 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23800" y="762120"/>
            <a:ext cx="8096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COMEDY FILM STARRED MARK HARMON AS A GYM TEACHER TEACHING REMEDIAL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6512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NG 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85640" y="762120"/>
            <a:ext cx="8172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WAR ROMANCE FILM STARRED GOLDIE HAWN, KURT RUSSEL, CHRISTINE LAHTI, AND ED HARR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49280" y="761760"/>
            <a:ext cx="82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ADVENTURE COMEDY FILM STARRED THEN-NEWLYWEDS SEAN PENN AND MADON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31640" y="762120"/>
            <a:ext cx="828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6 FILM ABOUT A RUNAWAY TRAIN STARRED GENE WILDER, RICHARD PRYOR, AND JILL CLAYBUR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38040" y="762120"/>
            <a:ext cx="846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EPIC JAPANESE WARRIOR FILM DIRECTED BY AKIRA KUROSAWA WAS VOTED THE BEST FOREIGN-LANGUAGE FILM EVER BY THE BB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3000" y="761760"/>
            <a:ext cx="7398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3 PARANORMAL COMEDY MUSICAL FILM STARRED DEAN MARTIN AND JERRY LEW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41440" y="761760"/>
            <a:ext cx="806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7 FILM STARRED PAUL NEWMAN AS THE COACH OF A HOCKEY TEAM THAT RESORTS TO VIOLENCE TO GAIN POPULAR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33360" y="761760"/>
            <a:ext cx="8477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8 FILM ABOUT BREAKING INTO SHOW BUSINESS STARRED HENRY FONDA, SUSAN STRASBERG, AND CHRISTOPHER PLUMM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68200" y="761760"/>
            <a:ext cx="860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5 ROM-COM WITH  AN ENSEMBLE CAST INCLUDING ADAM GARCIA AND AMY ADAMS DO LIFELONG FRIENDS REUNITE AT A WED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8T11:39:57Z</dcterms:modified>
  <cp:revision>375</cp:revision>
  <dc:subject/>
  <dc:title>Slide 1</dc:title>
</cp:coreProperties>
</file>