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76E4-C3BC-45E0-A355-1FB6919E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1D9D-92C8-45FD-9D0B-AF4B59E1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F860-C605-435D-9C0C-4971ECB8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009F-F6B0-4E92-B7C6-C99257067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A9FB-CA50-418D-82F7-F550A1E25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1B0F-90B2-456A-8558-8FBEDCFD5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090-5BB8-4703-B4A0-25DDFA59B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B5EB-C059-42FC-81E3-D736FD2AB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13E7-E9E9-4990-AB19-3CDE3C1B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06EA-88E1-4144-BE8B-1855D0DDA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7206-FDE5-4786-8AA0-9EDEB7392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E69B-B9E0-4DD3-BF2B-F1532BA3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CF76-95EF-43DA-A0E9-FC3327B24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3A51-1490-4455-96AC-44788A6C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4FF7-2D0D-4947-9DC8-C0B8D57E6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721F-0245-4077-ADB2-A98E019EC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0BCE-68CE-484B-84B4-A23272157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463D-90C5-4B36-9AE0-DA1A3E13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F5AD-7790-4710-A23C-355AFBF51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96DC-5301-45E1-820D-9300359C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91C4-28EA-4C03-8FA0-6BDF173B6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EEF5-958E-4537-9874-CC9F90604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CC25-E554-4F5F-B13B-4FE505EFC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066680"/>
            <a:ext cx="4762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TITLE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COMEDY FILM STARRED MARK HARMON AS A GYM TEACHER TEACHING REMEDIAL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WAR ROMANCE FILM STARRED GOLDIE HAWN, KURT RUSSEL, CHRISTINE LAHTI, AND ED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CIDE  SQU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1880" y="762120"/>
            <a:ext cx="8218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 GROUP OF SUPERHEROES HAD AN ENSEMBLE CAST INCLUDING WILL SMITH, VIOLA DAVIS, AND JARED LE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NGHAI  SU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7840" y="762120"/>
            <a:ext cx="698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ADVENTURE COMEDY FILM STARRED THEN-NEWLYWEDS SEAN PENN AND MADO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ST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ABOUT A RUNAWAY TRAIN STARRED GENE WILDER, RICHARD PRYOR, AND JILL CLAYBUR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  SAMU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840" y="762120"/>
            <a:ext cx="912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EPIC JAPANESE WARRIOR FILM DIRECTED BY AKIRA KUROSAWA WAS VOTED THE BEST FOREIGN-LANGUAGE FILM EVER BY THE B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ED  ST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PARANORMAL COMEDY MUSICAL FILM STARRED DEAN MARTIN AND JERRY LEW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P  S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8040" y="762120"/>
            <a:ext cx="792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FILM STARRED PAUL NEWMAN AS THE COACH OF A HOCKEY TEAM THAT RESORTS TO VIOLENCE TO GAIN POPUL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  STR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ABOUT BREAKING INTO SHOW BUSINESS STARRED HENRY FONDA, SUSAN STRASBERG, AND CHRISTOPHER PL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23360" y="762120"/>
            <a:ext cx="8294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A GROUP OF SUPERHEROES HAD AN ENSEMBLE CAST INCLUDING WILL SMITH, VIOLA DAVIS, AND JARED LE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ING  ST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81160" y="762120"/>
            <a:ext cx="858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5 ROM-COM WITH  AN ENSEMBLE CAST INCLUDING ADAM GARCIA AND AMY ADAMS DO LIFELONG FRIENDS REUNITE AT A WED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 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23800" y="762120"/>
            <a:ext cx="809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COMEDY FILM STARRED MARK HARMON AS A GYM TEACHER TEACHING REMEDIAL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NG 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85640" y="762120"/>
            <a:ext cx="8172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WAR ROMANCE FILM STARRED GOLDIE HAWN, KURT RUSSEL, CHRISTINE LAHTI, AND ED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ADVENTURE COMEDY FILM STARRED THEN-NEWLYWEDS SEAN PENN AND MADO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1640" y="762120"/>
            <a:ext cx="828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ABOUT A RUNAWAY TRAIN STARRED GENE WILDER, RICHARD PRYOR, AND JILL CLAYBUR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EPIC JAPANESE WARRIOR FILM DIRECTED BY AKIRA KUROSAWA WAS VOTED THE BEST FOREIGN-LANGUAGE FILM EVER BY THE B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PARANORMAL COMEDY MUSICAL FILM STARRED DEAN MARTIN AND JERRY LEW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FILM STARRED PAUL NEWMAN AS THE COACH OF A HOCKEY TEAM THAT RESORTS TO VIOLENCE TO GAIN POPULA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ABOUT BREAKING INTO SHOW BUSINESS STARRED HENRY FONDA, SUSAN STRASBERG, AND CHRISTOPHER PL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8200" y="761760"/>
            <a:ext cx="860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5 ROM-COM WITH  AN ENSEMBLE CAST INCLUDING ADAM GARCIA AND AMY ADAMS DO LIFELONG FRIENDS REUNITE AT A WED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8T11:39:57Z</dcterms:modified>
  <cp:revision>375</cp:revision>
  <dc:subject/>
  <dc:title>Slide 1</dc:title>
</cp:coreProperties>
</file>