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D2AD-B4E7-4583-A2BD-ADE7688E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00C-1722-40DE-9A2F-6CDE38DB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5AF-68A8-48CF-9A67-EDD7B6DC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0A12-BD40-4048-BDC7-B9E998E2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287-6149-4AC2-AE24-FCA95E1D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205-F319-4964-978C-7F32540F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D1F-709F-41AC-B4D4-6497F594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7EC-5831-409F-8066-DDFC6353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EFF0-6584-4912-B3DD-1373018E0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12A-B63D-4E8C-B2F6-F6ABC608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04C-A359-40DB-AB58-F582D671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092-D351-47BA-A3C1-2ED80E30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2E17-944C-4F61-B204-B2816F9F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2C8-6825-4AC6-A98B-8E75410D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53B-50CE-4539-B267-290A5B9E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407-C42E-45A1-A278-9B03A638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477-3D07-4135-B4D9-123DE310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E269-3AEA-4DB5-898E-D567836FF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557-A320-41AC-B751-56A3BB3D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F7C-643A-47C9-BE42-C724C94A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2062-A49E-4683-815D-0A2C9C61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5F4-661C-4639-B9E8-3616CBFE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8B8-0DE1-4494-BB19-CC4E9596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MAYWEATHER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X  MENDELSS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MUN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C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MAC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05:14Z</dcterms:created>
  <dc:creator>Jennifer Budzinski</dc:creator>
  <dc:description/>
  <dc:language>en-US</dc:language>
  <cp:lastModifiedBy>Erich Friedman</cp:lastModifiedBy>
  <dcterms:modified xsi:type="dcterms:W3CDTF">2020-08-28T11:41:01Z</dcterms:modified>
  <cp:revision>343</cp:revision>
  <dc:subject/>
  <dc:title>Slide 1</dc:title>
</cp:coreProperties>
</file>