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B31C-51D2-4325-88FE-8764FCC52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E844-E09D-41BD-81CC-6BC311C94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FD33-FB6B-4553-9727-464C04CF6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0280-CBD0-4B49-87B0-3E444BA5E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41F6D-801C-44BA-A471-C5CB1BD7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729FA-DDEE-4308-8179-D8242F16A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C4C7-4307-4177-B0B4-F82F701AA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E976-EF5E-4082-A6A6-EDDF113BE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DE7A-DB54-4AD4-967D-31FD713D2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ACEE-6C51-4344-BD23-552D66B6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28CF-D427-466F-AD23-64C6D895D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37464-4586-4254-89FC-A6D048675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B5FB-68C3-4881-B708-49631F9B0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646C-BD61-44DA-A0A3-BD31A18B6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74CD-F8F1-446F-B3EE-ABA28F332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6072-87B5-4971-8CF1-9770EDCA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3822-67B0-420A-A312-E161E4A51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1D40-AC2F-4153-A596-5DEA0F04F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BF38-2FB5-42B8-954A-51A4013D5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0EE3-1D69-467A-B2E9-3474F0755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FD01-6FAE-409A-9EA1-CC86376F8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F57B-2B44-42B5-8F8C-25F7414FD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C8999-456F-4464-9192-B1264A3C5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HIS BOOK "ANGELA'S ASH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DOWED FATHER ON "MY THREE SONS" FOR 1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DIE  MERCU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QU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YD  MAYWEATHER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WAS THE HIGHEST PAID ATHLETE IN THE WORLD 2012-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  MAR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PHILIPPINES 1965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S  MCDOR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BOTH "THREE BILLBOARDS OUTSIDE EBBING, MISSOURI" AND "FAR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MI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 WROTE THE GRAPHIC NOVELS "SIN CITY", "RONIN", "THE DARK KNIGHT RETURNS", AND "3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RDINAND  MAGEL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WOR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LIX  MENDELSS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9996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ITALIAN AND SCOTTISH SYMPHONIES, AND THE OVERTURE FOR "A MIDSUMMER NIGHT'S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QU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IE  MUN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LCOLM ON "MALCOLM IN THE MIDD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MC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PULITZER PRIZE FOR HIS BOOK "ANGELA'S ASH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D  MACMURR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WIDOWED FATHER ON "MY THREE SONS" FOR 12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ER WAS THE HIGHEST PAID ATHLETE IN THE WORLD 2012-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ESIDENT OF THE PHILIPPINES 1965-198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BEST ACTRESS FOR BOTH "THREE BILLBOARDS OUTSIDE EBBING, MISSOURI" AND "FAR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TIST WROTE THE GRAPHIC NOVELS "SIN CITY", "RONIN", "THE DARK KNIGHT RETURNS", AND "300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PORTUGUESE EXPLORER ORGANIZED THE EXPEDITION TO THE EAST INDIES RESULTING IN THE FIRST CIRCUMNAVIGATION OF THE WORL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COMPOSED THE ITALIAN AND SCOTTISH SYMPHONIES, AND THE OVERTURE FOR "A MIDSUMMER NIGHT'S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ALCOLM ON "MALCOLM IN THE MIDD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4T19:05:14Z</dcterms:created>
  <dc:creator>Jennifer Budzinski</dc:creator>
  <dc:description/>
  <dc:language>en-US</dc:language>
  <cp:lastModifiedBy>Erich Friedman</cp:lastModifiedBy>
  <dcterms:modified xsi:type="dcterms:W3CDTF">2020-08-28T11:41:01Z</dcterms:modified>
  <cp:revision>343</cp:revision>
  <dc:subject/>
  <dc:title>Slide 1</dc:title>
</cp:coreProperties>
</file>