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820-DBF8-49C4-AE26-66865593C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646E-6846-4B96-BB43-4215B5CC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344C-55F7-4316-A825-D844AD747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1CEE-035C-41C8-B205-FDC4882D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4E9B-CC0E-4486-8CEB-2DFC6922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20A7-1332-43CD-AACF-66CE0699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E2B8-73B8-497C-B71C-361BFA26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60E7-A85C-4E32-BB4C-6DCF2AD1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A92A-1B88-463E-9BC3-60AE57534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1D0C-2D9F-423D-AA79-8C48BC278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3078-D8A6-46C7-805A-FBD32AA3A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AD12-AEAA-42DB-8068-84308CE76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C666-3123-4801-BF8D-6330AB184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5C3C-6042-46E6-9A4F-40997EFF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4322-C054-4E88-BE3F-5B274606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D89B-A363-4701-A938-EAC67D11A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A7CC-BD26-4E6D-A3BC-BF06EBF16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0455-12C0-4BB1-BC26-69EAB8DE1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F935-E4DA-41A2-A405-FD4BFAD8B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3F12-E1C1-4745-92B1-8E3EFDC6F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BCFE-957B-48C0-8ACF-844D82C99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C649-D53C-46FA-BD31-4423CBDF6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03C1-03EC-415A-BBCB-30E1401B2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HIS BOOK "ANGELA'S ASH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DOWED FATHER ON "MY THREE SONS" FOR 1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QU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YD  MAYWEATHER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WAS THE HIGHEST PAID ATHLETE IN THE WORLD 2012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  MAR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PHILIPPINES 1965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S  MCDOR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BOTH "THREE BILLBOARDS OUTSIDE EBBING, MISSOURI" AND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 WROTE THE GRAPHIC NOVELS "SIN CITY", "RONIN", "THE DARK KNIGHT RETURNS", AND "3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  MAGEL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LIX  MENDELSS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9996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ITALIAN AND SCOTTISH SYMPHONIES, AND THE OVERTURE FOR "A MIDSUMMER NIGHT'S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QU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IE  MUN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LCOLM ON "MALCOLM IN THE MID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MC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HIS BOOK "ANGELA'S ASH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MAC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DOWED FATHER ON "MY THREE SONS" FOR 1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WAS THE HIGHEST PAID ATHLETE IN THE WORLD 2012-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PHILIPPINES 1965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BOTH "THREE BILLBOARDS OUTSIDE EBBING, MISSOURI" AND "F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 WROTE THE GRAPHIC NOVELS "SIN CITY", "RONIN", "THE DARK KNIGHT RETURNS", AND "300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WOR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ITALIAN AND SCOTTISH SYMPHONIES, AND THE OVERTURE FOR "A MIDSUMMER NIGHT'S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LCOLM ON "MALCOLM IN THE MID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9:05:14Z</dcterms:created>
  <dc:creator>Jennifer Budzinski</dc:creator>
  <dc:description/>
  <dc:language>en-US</dc:language>
  <cp:lastModifiedBy>Erich Friedman</cp:lastModifiedBy>
  <dcterms:modified xsi:type="dcterms:W3CDTF">2020-08-28T11:41:01Z</dcterms:modified>
  <cp:revision>343</cp:revision>
  <dc:subject/>
  <dc:title>Slide 1</dc:title>
</cp:coreProperties>
</file>