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DF4F-5999-4BCE-A29A-76E5901E4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E639-C015-4F60-B9CE-1ECBFC0B7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2C95-5742-45BB-B5EE-D46034831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4046-F982-4BB4-9E45-C0AE5507D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9AB4-DBDE-4723-BFDC-0569C6668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D0FA-12D8-4C56-BF5A-17F12608E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643C-F07E-407B-922A-DC63217F0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49AC-7C98-4EA2-A84B-B0FC5EE7D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0893-1C4C-4F44-AE60-47F119CB4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AECC-6C73-4462-B54C-F46D918CD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4CCF-2A88-4E4B-BD9E-4AAD84763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64AB-9326-4EA7-BFC1-18180C9E2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E6FF-8308-4F97-B080-107F86DEB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C765-7DB7-46A7-BBA1-7E0A6135E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DFAD-2293-4E41-B1B3-96522B7B9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2082-D8FE-46CF-BCD4-A9747AF84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0698-8B44-4DF4-9EAA-BEDAA6A34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7B23-9572-4B98-87A3-739E92AA1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7399-54D1-4994-B649-BFD02012F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E2D1-B12D-4EE0-998C-5E3E6403A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B477-511A-46E2-953F-39668DDDE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FD8B-44A5-4698-9F5D-2CBD1BFC0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D908-6622-42E5-B9AC-84C4C7997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71640" y="761760"/>
            <a:ext cx="7200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ON "COACH" AND ZEEK BRAVERMAN ON "PARENTHOO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CRAIGSL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UCK  NOR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23960" y="762120"/>
            <a:ext cx="7696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RTIAL ARTIST ACTION STAR PLAYED "WALKER TEXAS RANG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YNTHIA  NIX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76400" y="762120"/>
            <a:ext cx="6991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IRANDA ON "SEX AND THE CI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OPHER  NO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"MEMENTO", "INSOMNIA", "INCEPTION", AND "THE DARK KNIGHT" TRILO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  NO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343160" y="762120"/>
            <a:ext cx="6457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MR. BIG" ON "SEX AND THE CITY" AND THE HUSBAND OF "THE GOOD WIF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STER  NIMIT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33640" y="762120"/>
            <a:ext cx="6876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OMMANDER IN CHIEF OF THE U.S. PACIFIC FLEET IN WW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M  NEW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OF THE CAROLINA PANTHERS 2011-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RIE  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THE TEMPERANCE MOVEMENT  IS FAMOUS FOR ATTACKING TAVERNS WITH A HATCH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RTIAL ARTIST ACTION STAR PLAYED "WALKER TEXAS RANG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NIE  NIEL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6188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NISH ACTRESS STARRED IN "GLADIATOR", "ONE HOUR PHOTO", "BASIC", AND "THE ICE HARVE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IG  NE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71640" y="762120"/>
            <a:ext cx="72007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ON "COACH" AND ZEEK BRAVERMAN ON "PARENTHOO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IG  NEWM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CRAIGSL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33640" y="761760"/>
            <a:ext cx="6876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IRANDA ON "SEX AND THE CI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"MEMENTO", "INSOMNIA", "INCEPTION", AND "THE DARK KNIGHT" TRILO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MR. BIG" ON "SEX AND THE CITY" AND THE HUSBAND OF "THE GOOD WIF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52360" y="762120"/>
            <a:ext cx="6839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OMMANDER IN CHIEF OF THE U.S. PACIFIC FLEET IN WWI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23800" y="761760"/>
            <a:ext cx="8096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OF THE CAROLINA PANTHERS 2011-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THE TEMPERANCE MOVEMENT    IS FAMOUS FOR ATTACKING TAVERNS WITH A HATCH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NISH ACTRESS STARRED IN "GLADIATOR", "ONE HOUR PHOTO", "BASIC", AND "THE ICE HARVE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0-08-28T11:41:44Z</dcterms:modified>
  <cp:revision>362</cp:revision>
  <dc:subject/>
  <dc:title>Slide 1</dc:title>
</cp:coreProperties>
</file>