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0C49-1B90-46AE-93E6-5A9BCC405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6DE8-039F-4C6F-9CD4-D4D67837C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1B16-E246-4FCB-A034-5ECEA4AF4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CE19-A219-4553-B69F-AF089FAAE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A85A-527B-4D30-A049-CA387EA98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F78D-E816-4EA8-B529-151BD9D69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4AD7-9B48-46D6-B2F0-B92BEC342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D94D-3118-494D-9ABA-A6A29A0C4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8ED8-C027-41FB-81BC-E12D27BB7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11F6-8A52-4AFE-B8D9-08A66816C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6748-A2DC-4DE8-8C4D-8014A008A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1131-E827-41E4-98DA-0B1CCB33A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C92B-A8FB-4563-A140-4769F46D3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C869-3464-4DD5-8DE7-1F257ECD0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7C4E-9290-4953-BA42-2D558A15E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3414-7AB2-4725-ADB2-13FA121F5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6D54-8612-4107-A5FC-61AA28FC2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877F-A7D3-435B-8C0A-6681E0488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C520-2C02-448D-8DC4-1F37C84D4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B1B0-B298-440B-87ED-95EED9601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1E28-49C4-41A9-9975-E207CDE51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11AB-519A-40CD-A230-84DD8C639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438F-9EA9-4E46-A276-60B0AD589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COACH" AND ZEEK BRAVERMAN ON "PARENTH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CRAIGSL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UCK  NOR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ACTION STAR PLAYED "WALKER TEXAS RAN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NTHIA  NI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76400" y="762120"/>
            <a:ext cx="699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IRANDA ON "SEX AND THE C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NO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MEMENTO", "INSOMNIA", "INCEPTION", AND "THE DARK KNIGHT" TRI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N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43160" y="762120"/>
            <a:ext cx="64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MR. BIG" ON "SEX AND THE CITY" AND THE HUSBAND OF "THE GOOD W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TER  NIMI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MMANDER IN CHIEF OF THE U.S. PACIFIC FLEET IN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OF THE CAROLINA PANTHERS 2011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IE  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TEMPERANCE MOVEMENT  IS FAMOUS FOR ATTACKING TAVERNS WITH A HATCH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ACTION STAR PLAYED "WALKER TEXAS RANG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NIE  NIEL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6188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ACTRESS STARRED IN "GLADIATOR", "ONE HOUR PHOTO", "BASIC", AND "THE ICE HARVE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IG  N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71640" y="762120"/>
            <a:ext cx="7200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COACH" AND ZEEK BRAVERMAN ON "PARENTH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IG  NEW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CRAIGSL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33640" y="761760"/>
            <a:ext cx="6876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IRANDA ON "SEX AND THE C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MEMENTO", "INSOMNIA", "INCEPTION", AND "THE DARK KNIGHT" TRI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MR. BIG" ON "SEX AND THE CITY" AND THE HUSBAND OF "THE GOOD W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52360" y="762120"/>
            <a:ext cx="683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MMANDER IN CHIEF OF THE U.S. PACIFIC FLEET IN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23800" y="761760"/>
            <a:ext cx="8096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OF THE CAROLINA PANTHERS 2011-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TEMPERANCE MOVEMENT    IS FAMOUS FOR ATTACKING TAVERNS WITH A HATCH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ACTRESS STARRED IN "GLADIATOR", "ONE HOUR PHOTO", "BASIC", AND "THE ICE HARVE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11:41:44Z</dcterms:modified>
  <cp:revision>362</cp:revision>
  <dc:subject/>
  <dc:title>Slide 1</dc:title>
</cp:coreProperties>
</file>