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263D-9287-4C79-98E0-D64939C2C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F170-6C7C-4889-8048-33F173C9E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8E3E-5E34-48AB-B439-87EA2EF62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374E-84AD-4EB4-B1FF-5620E226D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297E-2FD6-42B9-BDCE-DF562EB29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9ECB-D9EC-44B2-8C37-25D871917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09BA-5FF0-4C72-9C34-B04583BC6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E515-BA18-4831-BD79-1B0B1E1D6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F2966-0E0E-47D1-AC0D-2BF1D4723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408A-38FD-46F8-8E75-AB244DE09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2751-1CB4-4C19-B7AB-931EE7445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7446-4F76-4D31-ADFF-74B7B6836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0628-A728-4D78-9B11-8BC64C5E0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045A-A8C7-415C-9880-5AE13A487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AAFB-37CF-4BE6-B276-3537ED5B7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3FC4-AB9D-4DBF-ACC7-CCFA9DB4A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BE82-D2B1-4695-B0AA-3F126BF87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3F53-4913-4D78-9469-FD0BBEC97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D3EE-4DC4-4162-BED4-825C595C8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8F6A-B529-489F-BEB3-A65C6B35C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522B-5BAA-49B7-AD73-510CD7B72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11A24-FE63-4426-A97E-0040D0BC1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D09F-03AF-41CD-8EB6-EE98E38E0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"COACH" AND ZEEK BRAVERMAN ON "PARENTHO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CRAIGSL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UCK  NOR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TIAL ARTIST ACTION STAR PLAYED "WALKER TEXAS RANG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NTHIA  NIX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76400" y="762120"/>
            <a:ext cx="6991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IRANDA ON "SEX AND THE C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OPHER  NO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MEMENTO", "INSOMNIA", "INCEPTION", AND "THE DARK KNIGHT" TRI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N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43160" y="762120"/>
            <a:ext cx="645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MR. BIG" ON "SEX AND THE CITY" AND THE HUSBAND OF "THE GOOD W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TER  NIMI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33640" y="762120"/>
            <a:ext cx="6876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MMANDER IN CHIEF OF THE U.S. PACIFIC FLEET IN WWI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  NEW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OF THE CAROLINA PANTHERS 2011-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IE  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TEMPERANCE MOVEMENT  IS FAMOUS FOR ATTACKING TAVERNS WITH A HATCH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TIAL ARTIST ACTION STAR PLAYED "WALKER TEXAS RANG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NIE  NIEL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6188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ISH ACTRESS STARRED IN "GLADIATOR", "ONE HOUR PHOTO", "BASIC", AND "THE ICE HARVE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IG  NE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71640" y="762120"/>
            <a:ext cx="7200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"COACH" AND ZEEK BRAVERMAN ON "PARENTH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IG  NEW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CRAIGSL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33640" y="761760"/>
            <a:ext cx="6876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IRANDA ON "SEX AND THE C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"MEMENTO", "INSOMNIA", "INCEPTION", AND "THE DARK KNIGHT" TRI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"MR. BIG" ON "SEX AND THE CITY" AND THE HUSBAND OF "THE GOOD W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52360" y="762120"/>
            <a:ext cx="6839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COMMANDER IN CHIEF OF THE U.S. PACIFIC FLEET IN WWI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23800" y="761760"/>
            <a:ext cx="8096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OF THE CAROLINA PANTHERS 2011-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TEMPERANCE MOVEMENT    IS FAMOUS FOR ATTACKING TAVERNS WITH A HATCH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ANISH ACTRESS STARRED IN "GLADIATOR", "ONE HOUR PHOTO", "BASIC", AND "THE ICE HARVE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8-28T11:41:44Z</dcterms:modified>
  <cp:revision>362</cp:revision>
  <dc:subject/>
  <dc:title>Slide 1</dc:title>
</cp:coreProperties>
</file>