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6D57-6C48-4007-B20F-3CD395351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C899-72DB-4E8B-B6DC-23AF675B3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8C8E-98CB-4595-8FF9-4744309F6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A1C-2C36-4815-B900-473BF5CA9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E050-FC79-4E67-A751-09230EF51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5C8C-224A-4873-8924-2C77DADBF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35BC-D165-4C99-82D2-820042BC4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22ED-B77B-4EB6-BBC2-E65CEA19B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C9EE-4DCF-4592-B6CE-F90AA6A76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9CC4-9C55-44D2-A859-8ACE63275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9F50-DED6-48BC-9306-62262A68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82EA-EF03-4589-9C6E-CEE92102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7004-DBC4-4853-A9B2-664B3DF4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C7A3-9C3D-4EEC-826C-AB723F630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2D81-91F0-4AF6-8765-233FFF05E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7A5F-56C9-43CF-8D38-4B66B94A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C9E4-69DC-43D3-A800-FF983AB1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1683-F3F8-4ED9-91F5-6658B814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146F-71BC-4AF0-91CF-CFC432E3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96D1-4E8E-4446-B089-522DD373C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9FD0-F905-4D9C-BB4E-9CC75AC9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7B8A-BE4C-441E-9479-5A9F5445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5B80-757B-428B-BB78-EE7320AD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 OF THIS FILM TITLE: "TO WONG FOO, THANKS FOR EVERYTHING!  ___ 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EAK IT TO ME GENTLY", "QUEEN OF HEARTS", AND "THE SWEETEST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HAS WON 3 OSCARS FOR ACTING BESIDES DANIEL DAY-LEWIS AND WALTER BRENN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NA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5920" y="762120"/>
            <a:ext cx="837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-WINNING QUARTERBACK APPEARED IN COMMERCIALS FOR HANES, OVALTINE, AND NOXZE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NAPOLIT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ARIZONA AND DIRECTOR OF HOMELAND SECURITY BEFORE SHE BECAME PRESIDENT OF UNIVERSITY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NAB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0440" y="762120"/>
            <a:ext cx="69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CHARACTER ON TV'S "GOMER PYLE, U.S.M.C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KLA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87520" y="762120"/>
            <a:ext cx="79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GREATEST GOLFER OF ALL TIME, HOLDING THE RECORD FOR BOTH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FINISHES IN MAJ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N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EL PRIZE-WINNING ECONOMIST WAS THE SUBJECT OF THE FILM "A BEAUTIFUL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NAI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-AMERICAN PHYSICAL EDUCATOR INVENTED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HAS WON 3 OSCARS FOR ACTING BESIDES DANIEL DAY-LEWIS AND WALTER BRENN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NAP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47680" y="762120"/>
            <a:ext cx="86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MATHEMATICIAN DISCOVERED LOGARITHMS  AND WAS FAMOUS FOR HIS "CALCULATING BON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  NEW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71640" y="762120"/>
            <a:ext cx="7200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BLANK OF THIS FILM TITLE: "TO WONG FOO, THANKS FOR EVERYTHING!  ___ 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ICE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EAK IT TO ME GENTLY", "QUEEN OF HEARTS", AND "THE SWEETEST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 BOWL-WINNING QUARTERBACK APPEARED IN COMMERCIALS FOR HANES, OVALTINE, AND NOXZE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ARIZONA AND DIRECTOR OF HOMELAND SECURITY BEFORE SHE BECAME PRESIDENT OF UNIVERSITY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CHARACTER ON TV'S   "GOMER PYLE, U.S.M.C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GREATEST GOLFER OF ALL TIME, HOLDING THE RECORD FOR BOTH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 FINISHES IN MAJ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66880" y="761760"/>
            <a:ext cx="74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EL PRIZE-WINNING ECONOMIST WAS THE SUBJECT OF THE FILM "A BEAUTIFUL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-AMERICAN PHYSICAL EDUCATOR INVENTED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MATHEMATICIAN DISCOVERED LOGARITHMS   AND WAS FAMOUS FOR HIS "CALCULATING BON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2:11Z</dcterms:modified>
  <cp:revision>368</cp:revision>
  <dc:subject/>
  <dc:title>Slide 1</dc:title>
</cp:coreProperties>
</file>