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6D52-7337-4E17-86AE-72F02E124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ABC1-1827-4F49-92F1-E86086F8A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A6C8-1874-454F-BE28-C382088A1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9881-1B36-4A32-980D-A1CC8B129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58CE-9814-49D4-B8E4-D18C03456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C308-2CC6-43EB-BAFF-8AD2F142B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B62D-8338-48E0-AB50-EB80ED719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23C2-271E-4323-AC30-4E57EF4D3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F398-10BA-46FE-9392-4DEC74B32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20B0-FE46-4724-8B73-2720B2974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2FA2-9822-4236-9754-C5A307163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C4FF-2BF9-46B7-9AF1-4BC682904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0B35-62A6-4B39-B6E9-1C95D70CB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5F88-298D-46C9-84A3-F1C8DDE43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4F3F-CBBD-44EE-A20D-64B74BD5F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1BE9-AD95-4BAB-9478-8DF777EFB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CE6D-432C-4A1F-BE6F-F1916DBCA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3E59-CBFF-4076-B8F1-197730913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7DC5-3CCB-461B-B7D1-5FE0A0F93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48A5-ADE2-4672-8612-E83CF5CAE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CE4F-0932-46B0-8399-A02D018E2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7D91-3D3F-4B72-9F38-4A849A518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EF96-1B29-41B3-B8B3-F5E2227DF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LL IN THE BLANK OF THIS FILM TITLE: "TO WONG FOO, THANKS FOR EVERYTHING!  ___ 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REAK IT TO ME GENTLY", "QUEEN OF HEARTS", AND "THE SWEETEST TH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NICHO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90400" y="762120"/>
            <a:ext cx="7963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LE HAS WON 3 OSCARS FOR ACTING BESIDES DANIEL DAY-LEWIS AND WALTER BRENN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NAM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5920" y="762120"/>
            <a:ext cx="8372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 BOWL-WINNING QUARTERBACK APPEARED IN COMMERCIALS FOR HANES, OVALTINE, AND NOXZE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T  NAPOLIT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9996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OVERNOR OF ARIZONA AND DIRECTOR OF HOMELAND SECURITY BEFORE SHE BECAME PRESIDENT OF UNIVERSITY OF CALIFOR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NAB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90440" y="762120"/>
            <a:ext cx="69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EAD CHARACTER ON TV'S "GOMER PYLE, U.S.M.C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NICKLA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87520" y="762120"/>
            <a:ext cx="7967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DERED THE GREATEST GOLFER OF ALL TIME, HOLDING THE RECORD FOR BOTH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CE FINISHES IN MAJ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N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BEL PRIZE-WINNING ECONOMIST WAS THE SUBJECT OF THE FILM "A BEAUTIFUL M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NAI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ADIAN-AMERICAN PHYSICAL EDUCATOR INVENTED BASKET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LE HAS WON 3 OSCARS FOR ACTING BESIDES DANIEL DAY-LEWIS AND WALTER BRENN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NAP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47680" y="762120"/>
            <a:ext cx="8648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OTTISH MATHEMATICIAN DISCOVERED LOGARITHMS  AND WAS FAMOUS FOR HIS "CALCULATING BON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E  NEWM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71640" y="762120"/>
            <a:ext cx="72007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LL IN THE BLANK OF THIS FILM TITLE: "TO WONG FOO, THANKS FOR EVERYTHING!  ___ 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ICE 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REAK IT TO ME GENTLY", "QUEEN OF HEARTS", AND "THE SWEETEST TH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 BOWL-WINNING QUARTERBACK APPEARED IN COMMERCIALS FOR HANES, OVALTINE, AND NOXZEM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61800" y="762120"/>
            <a:ext cx="842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OVERNOR OF ARIZONA AND DIRECTOR OF HOMELAND SECURITY BEFORE SHE BECAME PRESIDENT OF UNIVERSITY OF CALIFOR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EAD CHARACTER ON TV'S   "GOMER PYLE, U.S.M.C.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DERED THE GREATEST GOLFER OF ALL TIME, HOLDING THE RECORD FOR BOTH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CE FINISHES IN MAJO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66880" y="761760"/>
            <a:ext cx="74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BEL PRIZE-WINNING ECONOMIST WAS THE SUBJECT OF THE FILM "A BEAUTIFUL MI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ADIAN-AMERICAN PHYSICAL EDUCATOR INVENTED BASKETB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OTTISH MATHEMATICIAN DISCOVERED LOGARITHMS   AND WAS FAMOUS FOR HIS "CALCULATING BON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8T11:42:11Z</dcterms:modified>
  <cp:revision>368</cp:revision>
  <dc:subject/>
  <dc:title>Slide 1</dc:title>
</cp:coreProperties>
</file>