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7B7-7D28-40E6-9243-25DB4FFD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67E-745C-4B5B-8643-F73CCE42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6BC-807A-4782-8D19-FB1049EB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ABB5-2174-4981-8861-59ED0799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980-4A1B-49F9-BFD7-6E1CD335F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D26-24FF-49C6-A990-8C806312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D9E9-1A95-43EE-82A1-5382958AB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89BF-D228-4A79-91DF-8110A529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B7A7-7658-49FC-B3D6-BDA89A0D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BBC4-5965-4543-A234-D9D61913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E4D2-F550-4314-B438-834C3838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0AF-909C-4479-80E1-9B43A857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404-9DB9-41F8-B125-F475B099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60F1-B9E6-4195-949E-A135EA6C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5857-EC08-4B00-99CD-100F8A98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16EE-E5AB-411B-9EE3-34257187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0392-D998-4DFF-B2CA-AC3E5F47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3414-0D21-47FD-A41D-835F2239C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C393-0068-4B1B-B8FE-4A987B9B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516-7E7E-4EC3-8B44-D4C9ABFF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09D3-933C-4805-855C-BD2589F8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0791-6FDE-454D-A28D-AB319982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60E-16D7-41F3-B121-5F541F3F4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INNING GYMNASTIC TEAM AT THE 1996 OLYMPICS WAS CARRIED TO THE PODIUM BY HER CO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66760" y="7621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TECHNICIAN AND LABOR UNION ACTIVIST WHO DIED UNDER MYSTERIOUS CIRCUMSTANCES DID MERYL STREEP PLAY IN A 1983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ED FROM "HOUSE OF CARDS" BECAUSE OF SEXUAL HARASSMENT CLA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5840" y="762120"/>
            <a:ext cx="7310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IN THE 5 "TWILIGHT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402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SHA  SE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SINGER WHO STYLIZES HER FIRST NAME USING A "$" INSTEAD OF AN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7520" y="762120"/>
            <a:ext cx="79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CO-PRODUCED, AND STARRED AS SILENT BOB IN "CLE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A  SEDG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PUTY CHIEF BRENDA LEIGH JOHNSON ON THE SERIES "THE CLO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LEEN  SEBEL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GOVERNOR OF KANSAS BEFORE SHE BECAME PRESIDENT OBAMA'S SECRETARY OF HEALTH AND HUMAN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ED FROM "HOUSE OF CARDS" BECAUSE OF SEXUAL HARASSMENT CLAI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CH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L ON "FLIGHT OF THE CONCHORDS" AND CAROL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I  ST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4320" y="762120"/>
            <a:ext cx="751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INNING GYMNASTIC TEAM AT THE 1996 OLYMPICS WAS CARRIED TO THE PODIUM BY HER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EN  SILK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TECHNICIAN AND LABOR UNION ACTIVIST WHO DIED UNDER MYSTERIOUS CIRCUMSTANCES DID MERYL STREEP PLAY IN A 1983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IN THE 5 "TWILIGHT"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SINGER WHO STYLIZES HER FIRST NAME USING A "$" INSTEAD OF AN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CO-PRODUCED, AND STARRED AS SILENT BOB IN "CLE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PUTY CHIEF BRENDA LEIGH JOHNSON ON THE SERIES "THE CLO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GOVERNOR OF KANSAS BEFORE SHE BECAME PRESIDENT OBAMA'S SECRETARY OF HEALTH    AND HUMAN SERVI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L ON "FLIGHT OF THE CONCHORDS" AND CAROL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2:46Z</dcterms:modified>
  <cp:revision>370</cp:revision>
  <dc:subject/>
  <dc:title>Slide 1</dc:title>
</cp:coreProperties>
</file>