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325-EE96-4919-AA98-1A8AE6CF2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D7B-D6D0-4BAC-8DFF-E24662E7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FC7-5095-404D-BD14-1248D27F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0EB-14BB-4A75-BD9A-A87718FB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1EE0-BFEC-4E01-8DC0-D29D6664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F84-8C67-4B15-8157-31D9EF3C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3B0D-B2C2-45C9-96EC-F66A3435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DF39-0A62-4F31-AED5-2DF3C5ED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BC1-3651-4FCB-8183-BB6F9C76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1AF0-0A57-4784-A92D-21AF5856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47B-357F-4351-A221-D84E2800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80B7-C1F9-4497-BC35-0813D728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B5FE-DC34-43B7-AAA7-E7DB4D0C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FC0C-EBF7-4B10-A008-0C7BE686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272-A501-4BC2-B547-FCDE5D2F0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E5D0-ED23-4327-BFE6-98FD20CD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9F7-E257-4F72-BEEC-F04744E9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3447-D747-44DE-9BC1-838BEEC6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E65-6D9D-4DFF-8C55-C0A437B6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186E-C708-4975-B2EC-7CF9C8CD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4461-430F-4D31-BF3B-97D7D408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3516-9516-4E78-905C-7BE61C06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616-9A6B-4901-9F16-192A7AC9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66760" y="7621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5840" y="762120"/>
            <a:ext cx="7310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402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SHA  S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7520" y="762120"/>
            <a:ext cx="79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A  SEDG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LEEN  SEBEL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AND HUMAN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CH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I  ST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SILK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   AND HUMAN SERVI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2:46Z</dcterms:modified>
  <cp:revision>370</cp:revision>
  <dc:subject/>
  <dc:title>Slide 1</dc:title>
</cp:coreProperties>
</file>