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7B16-E5F7-44B2-A3E4-A1B03ED51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A8FF-DF0D-43F8-B2D8-A868875A6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EB7A-CF0B-461F-B772-90CEA9DC5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599E-927E-44B1-AC95-852AEDA81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80228-EFCB-4D34-A254-768777744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E1D7-7CA7-4F0A-B7D4-EA1A12F41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A91F-0D94-4218-8FC4-8CC75327A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607F-D5D0-474A-B41A-5A676C057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CB0D-25DC-44F3-A5D6-2392C50E2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E746-B61C-4ECB-9E25-F6CE05246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0DD7-D99C-430C-88E8-6DB37DA24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8C6F-B259-4EA3-93C7-6D29FF1F8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0AEC-416B-48DC-B9EB-5707A9C9C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B723-32B0-40A2-9ED1-14C3C35D4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5697-2438-457C-86D2-ACC748F94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5AD78-75E7-481D-A3C4-86D317739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F004-8078-4BD5-9769-B9078449A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6A35-CB30-438B-BC6F-D32E83694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30A2-CEAA-49E4-A83F-5103923A0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38E7-D1B7-4807-AB1A-AD966D478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129D-F29B-4237-B627-4C02B3A08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A07C-D0D7-4140-A652-CE9BF0CAF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4BD8-4E3B-475E-A096-DA99E8048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52400" y="761760"/>
            <a:ext cx="763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WINNING GYMNASTIC TEAM AT THE 1996 OLYMPICS WAS CARRIED TO THE PODIUM BY HER CO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66760" y="7621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MICAL TECHNICIAN AND LABOR UNION ACTIVIST WHO DIED UNDER MYSTERIOUS CIRCUMSTANCES DID MERYL STREEP PLAY IN A 1983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SPAC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90400" y="762120"/>
            <a:ext cx="796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IRED FROM "HOUSE OF CARDS" BECAUSE OF SEXUAL HARASSMENT CLAI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5840" y="762120"/>
            <a:ext cx="7310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PLAYED THE PROTAGONIST IN THE 5 "TWILIGHT" MOV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EFER  SUTH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BAUER ON THE TV SERIES "2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4020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SHA  SE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35120" y="762120"/>
            <a:ext cx="76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THE SINGER WHO STYLIZES HER FIRST NAME USING A "$" INSTEAD OF AN "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87520" y="762120"/>
            <a:ext cx="7967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DIRECTED, CO-PRODUCED, AND STARRED AS SILENT BOB IN "CLER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YRA  SEDG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66720" y="762120"/>
            <a:ext cx="7810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EPUTY CHIEF BRENDA LEIGH JOHNSON ON THE SERIES "THE CLOS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HLEEN  SEBEL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GOVERNOR OF KANSAS BEFORE SHE BECAME PRESIDENT OBAMA'S SECRETARY OF HEALTH AND HUMAN SERVI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IRED FROM "HOUSE OF CARDS" BECAUSE OF SEXUAL HARASSMENT CLAI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SCHA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EL ON "FLIGHT OF THE CONCHORDS" AND CAROL ON "LAST MAN ON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RRI  STR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4320" y="762120"/>
            <a:ext cx="7515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WINNING GYMNASTIC TEAM AT THE 1996 OLYMPICS WAS CARRIED TO THE PODIUM BY HER CO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EN  SILK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MICAL TECHNICIAN AND LABOR UNION ACTIVIST WHO DIED UNDER MYSTERIOUS CIRCUMSTANCES DID MERYL STREEP PLAY IN A 1983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PLAYED THE PROTAGONIST IN THE 5 "TWILIGHT" MOV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81000" y="762120"/>
            <a:ext cx="718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BAUER ON THE TV SERIES "2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THE SINGER WHO STYLIZES HER FIRST NAME USING A "$" INSTEAD OF AN "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DIRECTED, CO-PRODUCED, AND STARRED AS SILENT BOB IN "CLER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47560" y="761760"/>
            <a:ext cx="804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EPUTY CHIEF BRENDA LEIGH JOHNSON ON THE SERIES "THE CLOS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GOVERNOR OF KANSAS BEFORE SHE BECAME PRESIDENT OBAMA'S SECRETARY OF HEALTH    AND HUMAN SERVI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EL ON "FLIGHT OF THE CONCHORDS" AND CAROL ON "LAST MAN ON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11:42:46Z</dcterms:modified>
  <cp:revision>370</cp:revision>
  <dc:subject/>
  <dc:title>Slide 1</dc:title>
</cp:coreProperties>
</file>