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3051-B502-47F8-B746-075B19C06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0978-D658-453F-A7F1-6C97DC09A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E149-0D0F-47C2-904F-4F8748E87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06AC-56DC-47BE-A42C-27A88DB0E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2567-A6D4-4817-B8E1-AD67086E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AF9C-E842-4185-A29C-E1DA42FB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CE6-ACB1-4EFE-B0EB-770D2DF04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E2A9-46F6-44B0-BE18-CFDD7017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B3FD-48AE-42A6-9159-3E3C6DEB0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26F0-627A-4391-91CA-F8250DA28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5079-BD33-4F6B-976A-FB4AF6292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4CCE-9CB9-4EC4-B1E6-07C21FBBB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AE2A-4DF4-414D-B29E-952EC78EE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2656-1A8A-4A17-B50E-ED0AB8222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3314-9D1D-4D51-A8D7-6E3F470B8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9747E-3088-4213-A763-B459B050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5C61-8F57-43F8-85FE-BFCDA26E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AA2D-740D-4ECB-BA8F-8F2B112EF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318A-CB46-42BF-814E-C0E4292A5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233B-081D-4F92-8EE1-25B0980F4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610E-70A7-479E-8442-8470FE2A4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5EEE-A6D3-41E9-A01A-19C4A00EB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043C-671D-4856-ADBF-4BDB94B4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6840" y="761760"/>
            <a:ext cx="841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SAN FRANCISCO 49ERS TO 4 SUPER BOWL VICT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OVEL "TALES OF       THE SOUTH PACIFIC" WON A PULITZER PRIZE IN 1948, AND WAS ADAPTED AS THE MUSICAL AND FILM "SOUTH PACIF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77760" y="762120"/>
            <a:ext cx="7188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38320" y="762120"/>
            <a:ext cx="6867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R BODY IS A WONDER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4800" y="781200"/>
            <a:ext cx="84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CAST THE DECIDING VOTE AGAINST REPEALING "OBAMACARE"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6320" y="762120"/>
            <a:ext cx="773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INFLUENTIAL ALBUM "BLUE" NEVER MADE IT TO THE TOP-10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ET WROTE "PARADISE L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32040" y="762120"/>
            <a:ext cx="727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HE DO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E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66880" y="762120"/>
            <a:ext cx="74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OP-RANKED MALE TENNIS PLAYER FOR MOST OF 1980-19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SAN FRANCISCO 49ERS TO 4 SUPER BOWL VICT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576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ICHE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8200" y="762120"/>
            <a:ext cx="8605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OVEL "TALES OF       THE SOUTH PACIFIC" WON A PULITZER PRIZE IN 1948, AND WAS ADAPTED AS THE MUSICAL AND FILM "SOUTH PACIF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R BODY IS A WONDER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36480" y="762120"/>
            <a:ext cx="787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CAST THE DECIDING VOTE AGAINST REPEALING "OBAMACARE"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2640" y="761760"/>
            <a:ext cx="811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INFLUENTIAL ALBUM "BLUE" NEVER MADE IT TO THE TOP-10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OET WROTE "PARADISE L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OP-RANKED MALE TENNIS PLAYER FOR MOST OF 1980-19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4:19Z</dcterms:modified>
  <cp:revision>381</cp:revision>
  <dc:subject/>
  <dc:title>Slide 1</dc:title>
</cp:coreProperties>
</file>