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096F-ED58-4A3E-B3BB-D1E34825F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113C-18EB-4C30-88F2-A80FC52F6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81B5-7BAD-4D82-AE9C-73C28036A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319C-0376-4EAE-95B6-B274151E1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7677-F82C-47FE-A818-B6EEE20EF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ACC1-2C83-4BA7-97EA-AED3085C2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2326-475B-4D51-AEAA-A96393FA0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0965-84EC-4C3B-93E4-F2EEF609F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7162-9012-4824-AA25-EFE738CB9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1D7E-CB8F-49B5-935A-37845A038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76F8-8AC3-4A9D-B594-93E6FEDF5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4D55-49FE-47C5-9DD1-8DBB575B6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4FC5-B3C5-4DEF-8B8D-6CF4CE1EB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9A0D-604E-45A9-9A66-286B45B45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3323-7136-4EB4-BF83-57B781244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1BAE-D05B-406E-BF73-5F9A34ECB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CF83-B90B-48B2-900C-D64D96A21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FECB-F6A3-49C7-A90F-A4EBCE4A4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0FE7-87B6-44F0-B3E0-EACE026B3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5C02-DD13-475F-BC59-D0FA350D0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3C75-7E32-4456-BFEA-2B19AE5CF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9851-4826-4E15-BD22-AE66883E6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5D19-B7A1-439E-85CA-BF69F1E90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66840" y="761760"/>
            <a:ext cx="8410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RTERBACK LED THE SAN FRANCISCO 49ERS TO 4 SUPER BOWL VICTO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71440" y="762120"/>
            <a:ext cx="8601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NOVEL "TALES OF       THE SOUTH PACIFIC" WON A PULITZER PRIZE IN 1948, AND WAS ADAPTED AS THE MUSICAL AND FILM "SOUTH PACIFIC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  MORR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77760" y="762120"/>
            <a:ext cx="7188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"THE DOO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M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138320" y="762120"/>
            <a:ext cx="6867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YOUR BODY IS A WONDERL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MCC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34800" y="781200"/>
            <a:ext cx="8472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PUBLICAN SENATOR CAST THE DECIDING VOTE AGAINST REPEALING "OBAMACARE" IN 201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MAD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06320" y="762120"/>
            <a:ext cx="7731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MONR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55720" y="762120"/>
            <a:ext cx="743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NI  MITC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INFLUENTIAL ALBUM "BLUE" NEVER MADE IT TO THE TOP-10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MIL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24040" y="762120"/>
            <a:ext cx="749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POET WROTE "PARADISE LO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32040" y="762120"/>
            <a:ext cx="7279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"THE DOO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MCENR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66880" y="762120"/>
            <a:ext cx="7410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TOP-RANKED MALE TENNIS PLAYER FOR MOST OF 1980-198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E  MONT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822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RTERBACK LED THE SAN FRANCISCO 49ERS TO 4 SUPER BOWL VICTO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576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MICHE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268200" y="762120"/>
            <a:ext cx="8605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NOVEL "TALES OF       THE SOUTH PACIFIC" WON A PULITZER PRIZE IN 1948, AND WAS ADAPTED AS THE MUSICAL AND FILM "SOUTH PACIFIC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85760" y="761760"/>
            <a:ext cx="6972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YOUR BODY IS A WONDERL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36480" y="762120"/>
            <a:ext cx="7871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PUBLICAN SENATOR CAST THE DECIDING VOTE AGAINST REPEALING "OBAMACARE" IN 201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44480" y="762120"/>
            <a:ext cx="765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24040" y="762120"/>
            <a:ext cx="7495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12640" y="761760"/>
            <a:ext cx="811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INFLUENTIAL ALBUM "BLUE" NEVER MADE IT TO THE TOP-10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19000" y="761760"/>
            <a:ext cx="7506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POET WROTE "PARADISE LO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81200" y="761760"/>
            <a:ext cx="7581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TOP-RANKED MALE TENNIS PLAYER FOR MOST OF 1980-198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0-08-28T11:44:19Z</dcterms:modified>
  <cp:revision>381</cp:revision>
  <dc:subject/>
  <dc:title>Slide 1</dc:title>
</cp:coreProperties>
</file>