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395A-CA47-4AAA-A87D-66FBDE843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4296-0B6A-4FBB-8E64-0D4001361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1CE4-CF82-40E3-9AEC-3B26D8AC4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BC1C-9EFC-4A9A-AF9B-57CE0E928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D7AA-6703-43D1-A071-0EC6FEBCE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7CB9-7390-4C1A-806B-DD38C8DD0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3009-DF66-445C-9635-B64420D35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A4AE-E02F-4D86-BFBB-0687E244C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8E1E-DD8B-404D-8C4D-8F059766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18A2-8F15-4705-B00E-3C8BA087B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CD32-C2F8-43D0-8FDD-F7083058D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8C7C-60AA-414B-9301-F4C829DA5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9467-4972-4A1D-A4D6-F13E447FF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8B95-851A-4A19-B20B-E10733049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AA55-55A9-43EF-A9F3-515DCBFAF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BE41-4FB8-4C03-8D31-544B98361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C2B3-DBD2-4C2F-950A-59691C619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6CE2-3A2E-4590-B3E9-295D42539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DB3E-3282-49A2-9298-09336B43C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0CC7-3CAE-4EB0-8A2C-E0B756966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7CF6-959A-4CFC-9EFF-F74C5DA50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DAB2-85E2-441E-A80C-4DDF20573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3880-F552-49D5-A55C-96E871D75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66840" y="761760"/>
            <a:ext cx="8410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LED THE SAN FRANCISCO 49ERS TO 4 SUPER BOWL VICTO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OVEL "TALES OF       THE SOUTH PACIFIC" WON A PULITZER PRIZE IN 1948, AND WAS ADAPTED AS THE MUSICAL AND FILM "SOUTH PACIF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77760" y="762120"/>
            <a:ext cx="7188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HE DOO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38320" y="762120"/>
            <a:ext cx="6867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R BODY IS A WONDER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4800" y="781200"/>
            <a:ext cx="84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SENATOR CAST THE DECIDING VOTE AGAINST REPEALING "OBAMACARE"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A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6320" y="762120"/>
            <a:ext cx="773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55720" y="762120"/>
            <a:ext cx="743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INFLUENTIAL ALBUM "BLUE" NEVER MADE IT TO THE TOP-10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OET WROTE "PARADISE LO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32040" y="762120"/>
            <a:ext cx="727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HE DOO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CE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66880" y="762120"/>
            <a:ext cx="741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OP-RANKED MALE TENNIS PLAYER FOR MOST OF 1980-198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LED THE SAN FRANCISCO 49ERS TO 4 SUPER BOWL VICT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576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ICH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68200" y="762120"/>
            <a:ext cx="8605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OVEL "TALES OF       THE SOUTH PACIFIC" WON A PULITZER PRIZE IN 1948, AND WAS ADAPTED AS THE MUSICAL AND FILM "SOUTH PACIF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R BODY IS A WONDER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36480" y="762120"/>
            <a:ext cx="787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SENATOR CAST THE DECIDING VOTE AGAINST REPEALING "OBAMACARE"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44480" y="762120"/>
            <a:ext cx="765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12640" y="761760"/>
            <a:ext cx="811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INFLUENTIAL ALBUM "BLUE" NEVER MADE IT TO THE TOP-10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OET WROTE "PARADISE LO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OP-RANKED MALE TENNIS PLAYER FOR MOST OF 1980-198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11:44:19Z</dcterms:modified>
  <cp:revision>381</cp:revision>
  <dc:subject/>
  <dc:title>Slide 1</dc:title>
</cp:coreProperties>
</file>