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1672-C675-4032-A780-0DBE6B32A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ABA0-8DE3-4045-ACD9-164115FE5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B439-0400-45C5-B8C1-3902F5F3F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855C-587C-46E4-98EC-28450E361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360A-D9A9-4D0C-9A92-F2C4B4CF9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87D9-3D9E-4B52-8212-60095FFB0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9C06-F21B-4794-AD72-55A80B308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D227-C7CC-4E6A-8260-A1EC98E64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F68C-BCFD-4DA6-91BC-4DA977557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0287-0025-4041-BE54-487952B7E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B404-DA89-4151-8ADC-135D97BA3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D834-08A9-4A5C-9C9B-CFE5CB896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0D4E-9E89-491B-9ACF-D537F041D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4E88-B5DB-4327-9CEC-387356134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5A16-4F82-42B3-8125-A7C042012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5077-F9BB-4933-A212-E5AB00124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DC24-1D1C-429E-8503-C05FD6455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2E16-53E8-4169-93B0-52E8229C6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BA624-30E2-446D-B8C8-F67EFD5CB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CC9B-1273-4CA7-B0E5-DF11B5262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5124-8AE4-4743-A304-017A434FD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1685-EF56-4933-B3B7-E0B4FCA55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7195-EF4D-41DC-8D96-3C9A64FDF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81160" y="76176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LOOK HOMEWARD, ANGE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PULITZER PRIZES FOR "THE BRIDGE OF SAN LUIS REY", "OUR TOWN", AND "THE SKIN OF OUR TEE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GER  WO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09800" y="762120"/>
            <a:ext cx="7124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MADE $1.7 BILLION PLAYING GOL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W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90440" y="762120"/>
            <a:ext cx="8763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GRAMMYS FOR     BEST ALTERNATIVE ALBUM ("BONE MACHINE") AND BEST CONTEMPORARY FOLK ALBUM ("MULE VARIATIONS"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5136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NNESSEE  WILLI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A STREETCAR NAMED DESI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WILKI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33480" y="762120"/>
            <a:ext cx="7277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"IN THE BEDROOM" AND BEST SUPPORTING ACTOR FOR "MICHAEL CLAYT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D  WILLI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EBALL SUPERSTAR HAD THE HIGHEST LIFETIME ON-BASE-PERCENTAGE (.482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MMY  WYNET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STAR SANG "STAND BY YOUR 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WOL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BONFIRE OF THE VANITI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95320" y="762120"/>
            <a:ext cx="7353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MADE $1.7 BILLION PLAYING GOL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1000"/>
          </a:bodyPr>
          <a:p>
            <a:pPr marL="106200" indent="-106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MAS  WAT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6200" indent="-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O OF IBM 1914-1956 SUPPOSEDLY SAID "I THINK THERE IS A WORLD MARKET FOR MAYBE 5 COMPUT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MAS  WOL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81160" y="762120"/>
            <a:ext cx="67816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LOOK HOMEWARD, ANGE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RNTON  WIL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PULITZER PRIZES FOR "THE BRIDGE OF SAN LUIS REY", "OUR TOWN", AND "THE SKIN OF OUR TEE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99960" y="761760"/>
            <a:ext cx="8344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GRAMMYS FOR  BEST ALTERNATIVE ALBUM        ("BONE MACHINE") AND BEST CONTEMPORARY FOLK ALBUM ("MULE VARIATIONS"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A STREETCAR NAMED DESI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"IN THE BEDROOM" AND BEST SUPPORTING ACTOR FOR "MICHAEL CLAYT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EBALL SUPERSTAR HAD THE HIGHEST LIFETIME ON-BASE-PERCENTAGE (.482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STAR SANG "STAND BY YOUR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BONFIRE OF THE VANITI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EO OF IBM 1914-1956 SUPPOSEDLY SAID "I THINK THERE IS A WORLD MARKET FOR MAYBE 5 COMPUTE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0-08-28T11:44:54Z</dcterms:modified>
  <cp:revision>352</cp:revision>
  <dc:subject/>
  <dc:title>Slide 1</dc:title>
</cp:coreProperties>
</file>