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C0BA-0E49-415D-8F0E-E9848989D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DBD-5FE4-4C21-9BFA-A3439D0A4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E260-E94E-4C35-BA51-CEA4EC44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7584-EF4B-4571-AA1C-C2712344A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0389-0E16-416A-8623-D2C5551B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2EB5-EBA3-4A32-A2DA-AC522A481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24B3-FFBB-4D93-BCC2-C99E7DE37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BC90-4C9F-46AB-B489-DBA5A64E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04AD-B442-4E81-846F-9138E9175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3401-4C41-444E-A4D4-1E767414F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2F72-4EDF-4264-9A88-4045453E7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E093-79CD-4C13-8FE9-0EDCEB056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F4C5-1E60-4CAA-A0D6-733033B34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C947-F382-4332-99E5-3B08086B9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13CF-EED1-423F-B2A0-27CF628F5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71DC-94E5-49AB-8B4D-FEF437CD5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FCEB-260A-4D15-A700-B995CA46E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7DA3-655B-4F09-B412-5641B2BE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B159-5AC4-47F2-A121-F1C8E5CF9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936F-C251-472E-8F72-9C113E0A4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DB60-2444-41B9-8B09-EE3AD1F74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D050-E685-4F08-B20E-85735F2B9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5B3C-0B12-4EB1-9F03-1C8B81AD6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OOK HOMEWARD, ANG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PULITZER PRIZES FOR "THE BRIDGE OF SAN LUIS REY", "OUR TOWN", AND "THE SKIN OF OUR TEE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  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9800" y="762120"/>
            <a:ext cx="7124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MADE $1.7 BILLION PLAYING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440" y="76212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RAMMYS FOR     BEST ALTERNATIVE ALBUM ("BONE MACHINE") AND BEST CONTEMPORARY FOLK ALBUM ("MULE VARIATIONS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51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STREETCAR NAMED DES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IL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IN THE BEDROOM" AND BEST SUPPORTING ACTOR FOR "MICHAEL CLAYT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SUPERSTAR HAD THE HIGHEST LIFETIME ON-BASE-PERCENTAGE (.48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MMY  WYN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STAND BY YOU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OL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BONFIRE OF THE VANIT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MADE $1.7 BILLION PLAYING GO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IBM 1914-1956 SUPPOSEDLY SAID "I THINK THERE IS A WORLD MARKET FOR MAYBE 5 COMPU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WOL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81160" y="762120"/>
            <a:ext cx="6781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OOK HOMEWARD, ANG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NTON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PULITZER PRIZES FOR "THE BRIDGE OF SAN LUIS REY", "OUR TOWN", AND "THE SKIN OF OUR TEE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RAMMYS FOR  BEST ALTERNATIVE ALBUM        ("BONE MACHINE") AND BEST CONTEMPORARY FOLK ALBUM ("MULE VARIATIONS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STREETCAR NAMED DES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IN THE BEDROOM" AND BEST SUPPORTING ACTOR FOR "MICHAEL CLAYT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SUPERSTAR HAD THE HIGHEST LIFETIME ON-BASE-PERCENTAGE (.482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STAND BY YOU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BONFIRE OF THE VANIT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IBM 1914-1956 SUPPOSEDLY SAID "I THINK THERE IS A WORLD MARKET FOR MAYBE 5 COMPUT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11:44:54Z</dcterms:modified>
  <cp:revision>352</cp:revision>
  <dc:subject/>
  <dc:title>Slide 1</dc:title>
</cp:coreProperties>
</file>