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E4EC-670A-414F-95D3-CE27E74EF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C59-8A45-40F3-A7B0-760A33284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28A-B4E1-4EA9-B44D-AB763662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6FBC-1981-4E27-A716-69DAC441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9045-A9EA-43B1-856C-5B3D8F0CD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4F16-4387-4CB6-98B6-6B3E7C45A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7A3C-517F-4519-8EE4-4F4404D82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026B-17F5-4636-B661-5FE42BB73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D644-7CE3-4937-80BD-7463F5A7E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CBE8-54E9-40CA-ADEA-642DBDB5F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BA8A-7874-44E1-B3AC-724B414C1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2363-0AF8-4B31-834C-9757ACD9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A8D-B4AE-4196-8EB3-46F1AE85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C511-968D-49B2-B299-D2926BF84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777D-D832-45EE-860C-A1592199A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93A8-BB53-44F5-B01F-BF54A5C0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B3BF-BD1D-4BCD-B867-65DEF68F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3338-67C1-4D86-BBD9-6611D03D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721F-83DD-46F2-AC3A-18CE38E1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4694-0F03-4ED2-8687-A1A5471B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F5A7-45F1-4BAF-BF3E-A5EC4F939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1B22-EFEA-405C-88A4-72050EF6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2420-A820-453B-9E3A-822210EC5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OOK HOMEWARD, ANG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PULITZER PRIZES FOR "THE BRIDGE OF SAN LUIS REY", "OUR TOWN", AND "THE SKIN OF OUR TEE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9800" y="762120"/>
            <a:ext cx="712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MADE $1.7 BILLION PLAYING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RAMMYS FOR     BEST ALTERNATIVE ALBUM ("BONE MACHINE") AND BEST CONTEMPORARY FOLK ALBUM ("MULE VARIATIONS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51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IL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IN THE BEDROOM" AND BEST SUPPORTING ACTOR FOR "MICHAEL CLAY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SUPERSTAR HAD THE HIGHEST LIFETIME ON-BASE-PERCENTAGE (.48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MMY  WY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STAND BY YOU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ONFIRE OF THE VAN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MADE $1.7 BILLION PLAYING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IBM 1914-1956 SUPPOSEDLY SAID "I THINK THERE IS A WORLD MARKET FOR MAYBE 5 COMPU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81160" y="762120"/>
            <a:ext cx="6781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OOK HOMEWARD, ANG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NTON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PULITZER PRIZES FOR "THE BRIDGE OF SAN LUIS REY", "OUR TOWN", AND "THE SKIN OF OUR TEE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RAMMYS FOR  BEST ALTERNATIVE ALBUM        ("BONE MACHINE") AND BEST CONTEMPORARY FOLK ALBUM ("MULE VARIATIONS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IN THE BEDROOM" AND BEST SUPPORTING ACTOR FOR "MICHAEL CLAYT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SUPERSTAR HAD THE HIGHEST LIFETIME ON-BASE-PERCENTAGE (.482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STAND BY YOU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ONFIRE OF THE VAN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IBM 1914-1956 SUPPOSEDLY SAID "I THINK THERE IS A WORLD MARKET FOR MAYBE 5 COMPUT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4:54Z</dcterms:modified>
  <cp:revision>352</cp:revision>
  <dc:subject/>
  <dc:title>Slide 1</dc:title>
</cp:coreProperties>
</file>