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D42F-F2B2-4B63-8B0D-850CECE2A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3AAC-2C41-40B0-8555-D48E8175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8240-3FA3-4A52-9A05-DB30F8B54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D35-F868-4BAB-970E-901BDD94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B165-260F-4D64-AF77-6347EF89E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66DA-C8CC-426C-A3E2-73FF22A2E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E080-71F7-4DFF-81ED-D8ABF3F0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8B9F-591F-45E8-AF65-DD15E0B4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9E31-B95A-4B1A-A582-C386324E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99FA-5A4A-42D1-AE13-61EA26C93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12C-0FE6-492C-9411-1391A36D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41E3-ED52-4B41-917A-E30F0EA5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9D85-AD12-465F-AD59-83EEB475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CAA7-B759-4015-B674-FD284BCDF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CCE6-89DE-4273-AE56-C0460BB64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D21E-961B-4DA8-872C-CB425A3A2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69BF-670F-49E7-A09C-FB0C084B5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4FCB-0659-43CC-A240-7040E99B3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09CC-07DA-47ED-A722-51F56361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491B-B29A-41EA-A0F6-171F4E6D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4FCA-AD4A-473C-B530-76EDA80CF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CA7C-4A86-4B12-B71E-6FE48133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B2EC-DC40-4C65-9822-43D98A633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EO OF GODFATHER'S PIZZA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AMED BEST SPORTSCASTER OF ALL TIME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CONNICK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10 #1 JAZZ ALBUMS, MORE THAN ANY OTHER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YDEN  CHRISTEN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AKIN SKYWALKER IN EPISODES II AND III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5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ARY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SENATOR FROM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AV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09800" y="7621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"MAN OF STEEL", "BATMAN VS SUPERMAN" AND "JUSTICE LEAG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O  CHÁ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05040" y="762120"/>
            <a:ext cx="7333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VENEZUELA 1999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REAT COMPROMISER" LOST THE PRESIDENTIAL ELECTIONS OF 1832 TO JACKSON AND 1844 TO PO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ARCHAEOLOGIST DISCOVERED KING TUT'S TOM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10 #1 JAZZ ALBUMS, MORE THAN ANY OTHER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CHA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T'S IN THE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EO OF GODFATHER'S PIZZA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CO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AMED BEST SPORTSCASTER OF ALL TIME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AKIN SKYWALKER IN EPISODES II AND III OF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SENATOR FROM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"MAN OF STEEL", "BATMAN VS SUPERMAN" AND "JUSTICE LEAG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VENEZUELA 1999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REAT COMPROMISER" LOST THE PRESIDENTIAL ELECTIONS OF 1832 TO JACKSON AND 1844 TO POL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ARCHAEOLOGIST DISCOVERED KING TUT'S TOM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T'S IN THE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5:50Z</dcterms:modified>
  <cp:revision>353</cp:revision>
  <dc:subject/>
  <dc:title>Slide 1</dc:title>
</cp:coreProperties>
</file>