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684D-E4A0-4709-A407-644668E58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5B00-4C30-4FDF-95B6-7E6B5F217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AEE6-DAA6-4F4A-B91E-543DF8359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DBBF-9693-40B1-A20A-43637009E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5C7A-D11A-46B5-A2D1-D1F0C61B1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FB25-3779-4725-BC99-C3D40472F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0564-3E9B-40DB-B373-0ABB551DB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9B8D-50F9-406E-B87F-35AE7F445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A758-0916-4BEA-8F32-FFA9C6363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BC47-97B0-4925-9020-F1962E7A0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7448-1F7F-41F1-9892-610B3427D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AF26-0F75-44C9-A6C7-7B03B9D1A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9D1D-3004-4C35-9400-C2BF550C8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6F4D-216E-4B5D-80E2-FFC0DA5EA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2BE1-BBB0-4349-B11C-9A2FA0446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E0C5-07E7-4D7D-8B2D-65B899B58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EAF1-990B-4FE3-846D-D76CF6114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94C5-E71A-47A5-8AB1-93FB1920E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7050-CA80-42F7-95AB-C84842F41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90C5-8CE6-40BA-A6FB-AC913B0A3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FD4B-A71A-486F-984A-696B5E2D8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1F3C-7ED8-486A-A25D-5CAB6BDA0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F80F-8F43-4D9C-86C1-92DCAC595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CEO OF GODFATHER'S PIZZA RAN FOR PRESIDENT IN 201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AMED BEST SPORTSCASTER OF ALL TIME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V GUID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Y  CONNICK  J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352520" y="762120"/>
            <a:ext cx="6438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10 #1 JAZZ ALBUMS, MORE THAN ANY OTHER ART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YDEN  CHRISTEN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90440" y="762120"/>
            <a:ext cx="87631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NAKIN SKYWALKER IN EPISODES II AND III OF THE "STAR WARS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512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LARY  CLIN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FEMALE SENATOR FROM NEW Y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1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NRY  CAV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09800" y="762120"/>
            <a:ext cx="7124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UPERMAN IN "MAN OF STEEL", "BATMAN VS SUPERMAN" AND "JUSTICE LEAGU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GO  CHÁV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05040" y="762120"/>
            <a:ext cx="7333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RESIDENT OF VENEZUELA 1999-201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NRY  C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GREAT COMPROMISER" LOST THE PRESIDENTIAL ELECTIONS OF 1832 TO JACKSON AND 1844 TO POL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ARD  C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90440" y="762120"/>
            <a:ext cx="8763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ARCHAEOLOGIST DISCOVERED KING TUT'S TOM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10 #1 JAZZ ALBUMS, MORE THAN ANY OTHER ARTI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NRY  CHAP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562040" y="762120"/>
            <a:ext cx="6019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AT'S IN THE CRAD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MAN  C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19000" y="762120"/>
            <a:ext cx="7506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CEO OF GODFATHER'S PIZZA RAN FOR PRESIDENT IN 201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ARD  COS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AMED BEST SPORTSCASTER OF ALL TIME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V GUID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71360" y="761760"/>
            <a:ext cx="8801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NAKIN SKYWALKER IN EPISODES II AND III OF THE "STAR WARS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FEMALE SENATOR FROM NEW Y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UPERMAN IN "MAN OF STEEL", "BATMAN VS SUPERMAN" AND "JUSTICE LEAGU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RESIDENT OF VENEZUELA 1999-201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GREAT COMPROMISER" LOST THE PRESIDENTIAL ELECTIONS OF 1832 TO JACKSON AND 1844 TO POL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8839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ARCHAEOLOGIST DISCOVERED KING TUT'S TOM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333440" y="761760"/>
            <a:ext cx="6477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AT'S IN THE CRAD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08-28T11:45:50Z</dcterms:modified>
  <cp:revision>353</cp:revision>
  <dc:subject/>
  <dc:title>Slide 1</dc:title>
</cp:coreProperties>
</file>