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047F-D3AE-47C5-A73F-1F05D3D7D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1708-1C29-4E40-84AF-133938C61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B517-B9ED-440D-9ED9-4CAEF53E8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E4DB-CAD9-4ACC-8B0F-1D898F597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74D0-BBC6-451A-BDB8-9BA3A0E0E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A498-D00B-4E50-A56E-AE97D2125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5F4F-7217-40C5-8979-41BE42D26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91F9-EC17-465E-9CF4-421C50D3C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A431-FCF9-4820-9781-9FB597179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2481-2E18-43C4-9458-E4AE04E98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342F-6150-41DB-8CAE-C620458C2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D15E-868F-4E98-B8DF-121596847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25D1-8708-4E7A-A487-A41A2DF96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B855-5C8C-4F0E-AF50-02DBCCA1D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DADD-9E82-479F-9344-98A2A403B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9C21-8A73-443D-85AC-0E2350105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FCEB-B382-44EE-9A2F-47F0A1FD5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017C-D988-4229-A03A-3FFE375A1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4690-1AF3-4AEE-93AB-AC8F2D3D9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81B1-633F-4651-A923-6621F56E2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EE3E-C498-43E7-A5F9-06B053990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85E1-A406-4C30-9771-191C2EC4C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AA56-BB3B-4C6E-88A2-3A77299BF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CEO OF GODFATHER'S PIZZA RAN FOR PRESIDENT IN 201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AMED BEST SPORTSCASTER OF ALL TIME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V GUID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Y  CONNICK  J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352520" y="762120"/>
            <a:ext cx="6438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10 #1 JAZZ ALBUMS, MORE THAN ANY OTHER ART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YDEN  CHRISTEN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90440" y="762120"/>
            <a:ext cx="87631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NAKIN SKYWALKER IN EPISODES II AND III OF THE "STAR WARS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512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LARY  CLIN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FEMALE SENATOR FROM NEW Y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1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NRY  CAV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09800" y="762120"/>
            <a:ext cx="7124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UPERMAN IN "MAN OF STEEL", "BATMAN VS SUPERMAN" AND "JUSTICE LEAGU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GO  CHÁV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05040" y="762120"/>
            <a:ext cx="7333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RESIDENT OF VENEZUELA 1999-201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NRY  C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GREAT COMPROMISER" LOST THE PRESIDENTIAL ELECTIONS OF 1832 TO JACKSON AND 1844 TO POL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ARD  C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90440" y="762120"/>
            <a:ext cx="8763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ARCHAEOLOGIST DISCOVERED KING TUT'S TOM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10 #1 JAZZ ALBUMS, MORE THAN ANY OTHER ARTI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NRY  CHAP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562040" y="762120"/>
            <a:ext cx="6019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AT'S IN THE CRAD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MAN  C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19000" y="762120"/>
            <a:ext cx="7506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CEO OF GODFATHER'S PIZZA RAN FOR PRESIDENT IN 201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ARD  COS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AMED BEST SPORTSCASTER OF ALL TIME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V GUID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71360" y="761760"/>
            <a:ext cx="8801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NAKIN SKYWALKER IN EPISODES II AND III OF THE "STAR WARS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FEMALE SENATOR FROM NEW Y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UPERMAN IN "MAN OF STEEL", "BATMAN VS SUPERMAN" AND "JUSTICE LEAGU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RESIDENT OF VENEZUELA 1999-201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GREAT COMPROMISER" LOST THE PRESIDENTIAL ELECTIONS OF 1832 TO JACKSON AND 1844 TO POL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8839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ARCHAEOLOGIST DISCOVERED KING TUT'S TOM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333440" y="761760"/>
            <a:ext cx="6477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AT'S IN THE CRAD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08-28T11:45:50Z</dcterms:modified>
  <cp:revision>353</cp:revision>
  <dc:subject/>
  <dc:title>Slide 1</dc:title>
</cp:coreProperties>
</file>