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11EC-3136-4B9A-B5C9-7C6BD3F1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487D-078F-4538-87A8-58282943B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A130-A9C9-4908-842F-74E3DB735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15DC-8FDF-46E6-B6A4-DC3B97248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FB11-D059-4211-B69F-1005A7BDE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F27D-575C-44E6-8E9E-FFF3B2152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01C0-D2E6-4108-A8C6-CFA2DB022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6187-E079-4CB4-AEDC-B0EE7BB92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499C-8B47-4CA2-A7EF-268D592A2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7E9B-4AFD-459D-82EB-DF1A0A18E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21C9-0387-4360-87D3-5B1561DA5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7012-76F3-404F-B782-0BF0301CE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D03E-0107-428E-AA01-0607C41B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C9E8-1316-4C86-9127-18BBD85CB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40F0-8484-442C-A00E-BB4157706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DDDC-CFF7-430E-A995-4739B74C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ACDB-2E8C-4AFA-A06E-CA1C1D15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8AFF-8F85-4098-B737-4DEFAFFF7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39ED-0C42-47BA-94B2-F905D975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24EB-B447-4ACB-BD03-A58993426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55BB-93AE-4696-BA34-2E323ECA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98FC-A9D9-482E-AFCE-6745B61F9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4D02-7ABC-4BB0-8A44-D7D2873A3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ONER HOSTED 2 TV SHOWS NAMED FOR HIMSELF 1955-196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FASHION DESIGNER IS KNOWN FOR HIS AVANT-GARDE STYLE AND SPACE-AGE DE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TWEEN HIS GROUP AND   HIS SOLO CAREER, WHAT SINGER HAD THE MOST TOP 40 HITS DURING THE 19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BE  C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440" y="76212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DID NUDE SCENES AS A MINOR IN "PARADISE", AND STARRED IN "FAST TIMES AT RIDGEMONT HIGH" AND 2 "GREMLIN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SY  C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' AFTER MID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R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03 NOBEL PRIZE FOR PHYSICS WITH HI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IA  CORN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HAS WRITTEN 26 CRIME NOVELS FEATURING MEDICAL EXAMINER DR. KAY SCARPET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ULA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MY LOVE",  "I KNOW A PLACE", AND "DOWNTOWN" WAS DUBBED "THE FIRST LADY OF THE BRITISH INVAS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CR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DRUMMER OF KI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TWEEN HIS GROUP AND   HIS SOLO CAREER, WHAT SINGER HAD THE MOST TOP 40 HITS DURING THE 198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CET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BASS PLAYER FOR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RY  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85760" y="762120"/>
            <a:ext cx="697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ONER HOSTED 2 TV SHOWS NAMED FOR HIMSELF 1955-19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RE  CARD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FASHION DESIGNER IS KNOWN FOR HIS AVANT-GARDE STYLE AND SPACE-AGE DE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DID NUDE SCENES AS A MINOR IN "PARADISE", AND STARRED IN "FAST TIMES AT RIDGEMONT HIGH" AND 2 "GREMLIN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' AFTER MID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03 NOBEL PRIZE FOR PHYSICS WITH HI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HAS WRITTEN 26 CRIME NOVELS FEATURING MEDICAL EXAMINER DR. KAY SCARPET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MY LOVE",  "I KNOW A PLACE", AND "DOWNTOWN" WAS DUBBED "THE FIRST LADY OF THE BRITISH INVAS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DRUMMER OF KI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BASS PLAYER FOR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11:46:53Z</dcterms:modified>
  <cp:revision>350</cp:revision>
  <dc:subject/>
  <dc:title>Slide 1</dc:title>
</cp:coreProperties>
</file>