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749F-92BF-4DDD-833C-B1E2E193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AEB0-D496-4AF1-8A63-9B316B84D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C36F-3C43-4BE5-8502-769E57C53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5EB3-ED9B-4F77-9383-26251E18A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E6E6-EB0E-46AB-BC72-75788F3C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3230-8599-4523-8B5C-C44871C79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A735-47E8-4C62-96D5-D2FABDF8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6F96-03BB-46C8-9942-D4C73A86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4902-9002-4FE0-B7A0-509C9E402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27E-E3F0-4DFD-A1EE-9491E10E6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A49E-481B-4B8E-9651-C7445C9EA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A7C5-C0E1-4DE7-ADF8-E069C377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DF5F-C744-46F2-89DC-242084852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AB41-3E08-4576-9D14-98DE2CA2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240E-CD19-41A9-A281-086AEC05C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3884D-0C1C-4C6A-A655-8712C3821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80FA-5440-487E-A7A4-BD865B93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0BAC-AA62-4B73-A731-7E9DD676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83A2-C418-47F6-882B-CDA63C187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DFAB-C19D-48C2-A6EB-BB99D3D08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76C2-845A-4B94-BB9E-DA34CECF2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25F2-CD41-4B6F-BF0A-DA07323C6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7D88-C085-4D40-AF47-979DC0601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ONER HOSTED 2 TV SHOWS NAMED FOR HIMSELF 1955-19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IS KNOWN FOR HIS AVANT-GARDE STYLE AND SPACE-AGE DE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TWEEN HIS GROUP AND   HIS SOLO CAREER, WHAT SINGER HAD THE MOST TOP 40 HITS DURING THE 19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BE  C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ID NUDE SCENES AS A MINOR IN "PARADISE", AND STARRED IN "FAST TIMES AT RIDGEMONT HIGH" AND 2 "GREMLIN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SY  C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' AFTER 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R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03 NOBEL PRIZE FOR PHYSICS WITH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IA  CORN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HAS WRITTEN 26 CRIME NOVELS FEATURING MEDICAL EXAMINER DR. KAY SCARPET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ULA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MY LOVE",  "I KNOW A PLACE", AND "DOWNTOWN" WAS DUBBED "THE FIRST LADY OF THE BRITISH INVAS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CR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OF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TWEEN HIS GROUP AND   HIS SOLO CAREER, WHAT SINGER HAD THE MOST TOP 40 HITS DURING THE 198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CET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CHIC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RY  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ONER HOSTED 2 TV SHOWS NAMED FOR HIMSELF 1955-19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RE  CAR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IS KNOWN FOR HIS AVANT-GARDE STYLE AND SPACE-AGE DE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DID NUDE SCENES AS A MINOR IN "PARADISE", AND STARRED IN "FAST TIMES AT RIDGEMONT HIGH" AND 2 "GREMLIN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' AFTER 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03 NOBEL PRIZE FOR PHYSICS WITH HI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HAS WRITTEN 26 CRIME NOVELS FEATURING MEDICAL EXAMINER DR. KAY SCARPET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MY LOVE",  "I KNOW A PLACE", AND "DOWNTOWN" WAS DUBBED "THE FIRST LADY OF THE BRITISH INVAS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OF KI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CHIC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6:53Z</dcterms:modified>
  <cp:revision>350</cp:revision>
  <dc:subject/>
  <dc:title>Slide 1</dc:title>
</cp:coreProperties>
</file>