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E002-7403-4257-8113-3526E593F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E160-B8B3-409A-98A6-9B91E4C8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0E5-5123-46F3-A558-52DBDFE1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783-D5B8-40D6-B67E-C01EA37D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961-2061-4A12-A8C4-A70A44BA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43BD-88F2-4B34-AFAB-30D6F91E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093A-F6FB-4A13-92C2-E59879F3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C03-2D0E-4028-B556-BA2A8729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BE2-DD4C-47A7-811B-B7F667FC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1F5-C17A-4E4B-AA2C-8E72A7DF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3D8-2C7A-46E1-8BFD-90BCA3ED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72A7-0097-4957-B751-D57153D1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EADE-95CE-4D0B-B588-6DCB5783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3C5-B928-433D-B34F-3986BA18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5D8A-B8F7-4FC8-97A6-8CDF0DD4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4F45-C06B-438D-96C1-752D3753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8BC-CDAC-480F-813D-E454A4EA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2D5-5CC9-4297-B9B4-7DA450AD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48D-5DF1-457E-A314-6C400F80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755-8330-49BD-A1EA-E53754CB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389E-21F7-49AD-8599-B6103C6E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068-C8BF-4A03-BB72-CC8FF315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4D7-0DF2-484D-AEAB-ACF551DC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D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DU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EMP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09680" y="76212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DE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9:21:41Z</dcterms:created>
  <dc:creator>Jennifer Budzinski</dc:creator>
  <dc:description/>
  <dc:language>en-US</dc:language>
  <cp:lastModifiedBy>Erich Friedman</cp:lastModifiedBy>
  <dcterms:modified xsi:type="dcterms:W3CDTF">2020-08-23T21:54:51Z</dcterms:modified>
  <cp:revision>319</cp:revision>
  <dc:subject/>
  <dc:title>Slide 1</dc:title>
</cp:coreProperties>
</file>