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726E-03E9-423E-BC7F-C9771C767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B463-2330-4908-AA39-080380C62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8402-1FDE-4CF1-9D90-AEF8FEF56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870A-62B9-4CF0-B759-81BFAB02E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CF02-DD07-465C-BFA3-5EF593D5E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69F3-C069-4335-8B86-7D23AB46E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CCAB-41D1-4AB6-A460-76C358E95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9A72-6A07-4CAA-86F5-8AEDF376F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9EFC-DCCD-4CDA-84DF-D2D9E189C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C748-F734-4744-A2AF-FAEDEC641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5BD7-73FA-4B36-B8C4-EB52CAD8D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167B-3D3C-4226-8C96-F18C05457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F8F5-B01A-449E-BE90-A186BD15A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8E39-94B5-4286-AF9B-FE556DF47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A384-FBCA-4053-86AD-727F2FD0D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72FA-EC8E-4C81-B912-DE85D0560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ECD9-83D2-42C7-AC27-E41347755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89D4-BE7D-4B32-9DE5-987544ADE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6320-D313-4CAC-B8B1-CC639F700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5546-0C18-46A1-A0E3-A49835554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D469-54D4-48E2-A9A9-C0446DD80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1D00-B8DC-42A3-B525-563F1BC9F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C85E-C3F1-45C6-BB21-BC5BDA0E9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CONFEDERAC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ACADEMY AWARD FOR BEST DIRECTOR FOR "SILENCE OF THE LAM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D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04840" y="762120"/>
            <a:ext cx="6934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REBEL WITHOUT A CAU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D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RAWS THE COMIC STRIP "GARFIE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DEN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AND SANG THE COUNTRY SONG THAT IS THE COLORADO STAT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12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DY  D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12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ACADEMY AWARD FOR BEST ACTRESS FOR "SHAKESPEARE IN LO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DIMAGG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OT A HIT IN 56 CONSECUTIVE MAJOR LEAGUE BASEBALL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DUR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AN WAS KNOWN AS "THE SCHNOZZOL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DEMP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EAVYWEIGHT BOXING CHAMPION FROM 1919 TO 192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REBEL WITHOUT A CAU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9536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DANI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09680" y="762120"/>
            <a:ext cx="8305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-SELLING AMERICAN WHISKEY BR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ERSON  D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19320" y="762120"/>
            <a:ext cx="67053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CONFEDERA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ATHAN  DEM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04920" y="762120"/>
            <a:ext cx="8534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ACADEMY AWARD FOR BEST DIRECTOR FOR "SILENCE OF THE LAM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RAWS THE COMIC STRIP "GARFIE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AND SANG THE COUNTRY SONG THAT IS THE COLORADO STAT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52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ACADEMY AWARD FOR BEST ACTRESS FOR "SHAKESPEARE IN LO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OT A HIT IN 56 CONSECUTIVE MAJOR LEAGUE BASEBALL G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AN WAS KNOWN AS "THE SCHNOZZOL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EAVYWEIGHT BOXING CHAMPION FROM 1919 TO 192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-SELLING AMERICAN WHISKEY BR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1T19:21:41Z</dcterms:created>
  <dc:creator>Jennifer Budzinski</dc:creator>
  <dc:description/>
  <dc:language>en-US</dc:language>
  <cp:lastModifiedBy>Erich Friedman</cp:lastModifiedBy>
  <dcterms:modified xsi:type="dcterms:W3CDTF">2020-08-23T21:54:51Z</dcterms:modified>
  <cp:revision>319</cp:revision>
  <dc:subject/>
  <dc:title>Slide 1</dc:title>
</cp:coreProperties>
</file>