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8897-64C1-424C-9FC9-53545E43C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4090-E692-4502-8B16-9485626EF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719C-2D22-41B0-9A59-81473F1BF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C15D-3F65-4806-9730-99C087D84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EA83-4BD9-4E33-97E1-482452CF9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C89C-ADA1-4B3B-8B5B-6722EEFCD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38E1-918F-4E58-917B-934D7F1A3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DC67-60E6-4CB5-844A-EA53F42C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8668-71BB-402A-AA88-42A3364B5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2CD9-3B9C-49B8-911D-4D7089034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71E5-1716-4363-9E37-93BA14F51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137F-077A-4E5E-B9AC-6B4825494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1064-C982-41F7-89F5-12140A32E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A9B5-E30C-4747-96FB-B8FA8B8F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A986-5D14-4C4B-BF3F-D13D8C2B0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B08E-6A77-4D5D-AE97-B9CB6745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BA49-7882-4A59-A918-5785E6EA8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57BA-0203-49DF-A7C3-763DCD3AE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E5F8-5172-417F-871C-57BEEF94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1BA3-52CA-4002-B7C4-72850D78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41CB-8658-4561-B160-5503F498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0B5E-13EC-4D68-B658-9946964EE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D19C-9894-415C-8473-A01A526E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CONFEDERA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DIRECTOR FOR "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GARFIE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COUNTRY SONG THAT IS THE COLORADO STAT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Y  D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12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SHAKESPEARE IN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DIMA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A HIT IN 56 CONSECUTIVE MAJOR LEAGUE BASE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DUR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KNOWN AS "THE SCHNOZZO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DEMP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FROM 1919 TO 192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EBEL WITHOUT A CA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09680" y="762120"/>
            <a:ext cx="8305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AMERICAN WHISKEY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CONFED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DE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DIRECTOR FOR "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GARFIE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COUNTRY SONG THAT IS THE COLORADO STAT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5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SHAKESPEARE IN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A HIT IN 56 CONSECUTIVE MAJOR LEAGUE BASE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AN WAS KNOWN AS "THE SCHNOZZO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FROM 1919 TO 192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AMERICAN WHISKEY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19:21:41Z</dcterms:created>
  <dc:creator>Jennifer Budzinski</dc:creator>
  <dc:description/>
  <dc:language>en-US</dc:language>
  <cp:lastModifiedBy>Erich Friedman</cp:lastModifiedBy>
  <dcterms:modified xsi:type="dcterms:W3CDTF">2020-08-23T21:54:51Z</dcterms:modified>
  <cp:revision>319</cp:revision>
  <dc:subject/>
  <dc:title>Slide 1</dc:title>
</cp:coreProperties>
</file>