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E9B0-B32C-44E3-88C4-669F03672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AC7A-EA65-4D4A-B073-8B7F6C411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C58A-CFA3-4011-A132-519502182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6D3A-8C06-4F20-9E22-798AE0993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1E99-62A8-41A3-A7BB-CBEBF4DE9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8A4F-2DFB-4EF1-8D6F-80AB37434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CF3A-C9B8-415A-9FCD-5A1C68A89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5291-F765-4BC3-913C-58E670090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D804-09C1-4E68-8AD7-96E177C17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70C6-06C0-4D82-883E-4B858155C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9797-F826-4736-9E59-18E53EFDB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4EB2-A0BF-4A5C-A294-6BCC437FE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499C-20CD-45B1-8DBF-69D155851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D451-D27B-4D04-A522-7773F4D21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707E-0BB3-4DD7-83E3-5C5D3BBB0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53F1-092B-4967-B8F9-6AB63C9C1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B608-ADBC-4733-AA65-454264753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E13B-FDAA-42D3-A9CA-4BE862AB2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494C-274F-462C-BFFB-77C696378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943D-141B-4483-A5D0-F48CFC8BC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CD6B-C4D1-4874-9C21-F5CB2D6DA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4AAD-D9E4-40B7-8A3F-4F9955235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F6DB-2D9C-4839-9F29-7DD4C382E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71440" y="761760"/>
            <a:ext cx="6801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LARRY DAVID'S WIFE ON "CURB YOUR ENTHUSIAS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MEN AT WO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HEMS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09600" y="762120"/>
            <a:ext cx="6724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OR IN 7 MARVEL COMICS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TON  HE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14440" y="776160"/>
            <a:ext cx="81151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OSES IN "THE TEN COMMANDMEN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NA  HEND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OAN HOLLOWAY ON "MAD MEN" AND NOW PLAYS BETH BOLAND ON "GOOD GIR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42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HARD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80960" y="762120"/>
            <a:ext cx="6382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"TALKING DEAD", "THE WALL", AND "@MID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AAN  HUYG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41360" y="762120"/>
            <a:ext cx="8261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ST DISCOVERED THE FIRST MOON OF SATURN, INVENTED THE PENDULUM CLOCK, AND FIRST PROPOSED LIGHT WAS A W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CK  HAG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BRASKA SENATOR SERVED AS SECRETARY OF DEFENSE UNDER OB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LY 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76280" y="762120"/>
            <a:ext cx="8191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THREE STOOGES IS FAMOUS FOR HIS EXPRESSIONS "SOITENLY!" AND "NYUK-NYUK-NYUK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OR IN 7 MARVEL COMICS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6656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IN  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96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BAILEY ON "THE GOOD GUYS" AND GREG SHORT ON "LIFE IN PIEC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YL  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95480" y="762120"/>
            <a:ext cx="6953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LARRY DAVID'S WIFE ON "CURB YOUR ENTHUSIAS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IN  H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MEN AT WO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OSES IN "THE TEN COMMANDMEN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OAN HOLLOWAY ON "MAD MEN" AND NOW PLAYS BETH BOLAND ON "GOOD GIR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"TALKING DEAD", "THE WALL", AND "@MID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30200" y="762120"/>
            <a:ext cx="8283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ST DISCOVERED THE FIRST MOON OF SATURN, INVENTED THE PENDULUM CLOCK, AND FIRST PROPOSED LIGHT WAS A W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BRASKA SENATOR SERVED AS SECRETARY OF DEFENSE UNDER OBA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THREE STOOGES IS FAMOUS FOR HIS EXPRESSIONS "SOITENLY!" AND "NYUK-NYUK-NYUK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BAILEY ON "THE GOOD GUYS" AND GREG SHORT ON "LIFE IN PIEC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8T11:48:00Z</dcterms:modified>
  <cp:revision>356</cp:revision>
  <dc:subject/>
  <dc:title>Slide 1</dc:title>
</cp:coreProperties>
</file>