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7B5F-3B24-4D14-83BF-70055C76F5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96B17-80C6-40CA-BFF6-D2CBD4752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5810-7BAB-44CB-AB50-F44626F69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581F-7470-434A-9111-9F6605341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FBB5-C001-4A28-B4A8-A8986C913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DD4D1-1BEB-42F7-B2F0-CA4D6B531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184E-A028-4E28-8DD7-8B409C418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CC732-2EE5-450D-AF52-F00F7935A9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8793-FE25-43FB-AC5E-C5B6BF9E57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4C702-6567-49B8-A988-4067EDBDF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1DD75-4438-4081-A70E-C136CCC1B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6FB32-136F-4472-BE50-53D93F2D5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A90C-EC41-4DF4-BE3C-FB144EC56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B753E-5A34-4CC6-823D-F8A0810EA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325C6-2481-4586-BEE9-8F678D142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337F-52BC-41F5-8384-737966F70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4AF2-C016-4620-94D2-C451514B7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14292-8D3F-4807-BF7D-1B9D60506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96FCA-F829-4AD3-AD7E-15AB8FFF4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7B16B-5E85-4341-8F75-6495166F4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F1BF-78C3-4B73-BB75-C9B37498D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DA70-C989-4F1E-B465-37898A84B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4E55-5588-487D-BF4A-709C7EB10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171440" y="761760"/>
            <a:ext cx="68011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LARRY DAVID'S WIFE ON "CURB YOUR ENTHUSIASM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762120" y="762120"/>
            <a:ext cx="7619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MEN AT WO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87692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HEMSWOR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1209600" y="762120"/>
            <a:ext cx="6724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OR IN 7 MARVEL COMICS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ARLTON  HES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14440" y="776160"/>
            <a:ext cx="811512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OSES IN "THE TEN COMMANDMENT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88160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NA  HENDRI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OAN HOLLOWAY ON "MAD MEN" AND NOW PLAYS BETH BOLAND ON "GOOD GIR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420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  HARDWI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380960" y="762120"/>
            <a:ext cx="6382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"TALKING DEAD", "THE WALL", AND "@MIDNIGHT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8769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RISTIAAN  HUYG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441360" y="762120"/>
            <a:ext cx="8261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ST DISCOVERED THE FIRST MOON OF SATURN, INVENTED THE PENDULUM CLOCK, AND FIRST PROPOSED LIGHT WAS A WAV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UCK  HAG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71680" y="762120"/>
            <a:ext cx="80010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BRASKA SENATOR SERVED AS SECRETARY OF DEFENSE UNDER OBAM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RLY  HOW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476280" y="762120"/>
            <a:ext cx="81914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THREE STOOGES IS FAMOUS FOR HIS EXPRESSIONS "SOITENLY!" AND "NYUK-NYUK-NYUK!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1085760" y="762120"/>
            <a:ext cx="6972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OR IN 7 MARVEL COMICS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6656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IN  HAN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533520" y="762120"/>
            <a:ext cx="8096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BAILEY ON "THE GOOD GUYS" AND GREG SHORT ON "LIFE IN PIECE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87692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HERYL  HI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095480" y="762120"/>
            <a:ext cx="6953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S LARRY DAVID'S WIFE ON "CURB YOUR ENTHUSIASM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OLIN  HA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762120" y="762120"/>
            <a:ext cx="761976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EAD SINGER FOR "MEN AT WORK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390600" y="761760"/>
            <a:ext cx="8362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MOSES IN "THE TEN COMMANDMENT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09480" y="762120"/>
            <a:ext cx="7925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OAN HOLLOWAY ON "MAD MEN" AND NOW PLAYS BETH BOLAND ON "GOOD GIRLS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1333440" y="762120"/>
            <a:ext cx="6477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HOSTS "TALKING DEAD", "THE WALL", AND "@MIDNIGH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30200" y="762120"/>
            <a:ext cx="8283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SCIENTIST DISCOVERED THE FIRST MOON OF SATURN, INVENTED THE PENDULUM CLOCK, AND FIRST PROPOSED LIGHT WAS A WAV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533520" y="761760"/>
            <a:ext cx="8076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BRASKA SENATOR SERVED AS SECRETARY OF DEFENSE UNDER OBAM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ICH OF THE THREE STOOGES IS FAMOUS FOR HIS EXPRESSIONS "SOITENLY!" AND "NYUK-NYUK-NYUK!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04720" y="761760"/>
            <a:ext cx="8134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JACK BAILEY ON "THE GOOD GUYS" AND GREG SHORT ON "LIFE IN PIEC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0-08-28T11:48:00Z</dcterms:modified>
  <cp:revision>356</cp:revision>
  <dc:subject/>
  <dc:title>Slide 1</dc:title>
</cp:coreProperties>
</file>