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B97D-1F53-4205-9A92-4EF1C8FF3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F43-BFE2-42F2-A6D1-F2E3AAC5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C843-115C-410F-A147-93CA1B91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3F80-B915-4081-93B5-34E4FE92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4FC9-2926-4371-A625-D2EA43D26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8924-6CE8-4159-8CCF-AAD1AEB2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9B22-77FF-4B5D-AF7D-9F02C4A1C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E2BB-6F50-4F33-9C57-9A0E5A34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8CFE-22EC-49CC-A1E6-46C41BECE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AA45-3139-4F93-9033-0035AAB8D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9ABC-A31B-4D85-B152-69C320A76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F403-D884-4801-AD67-45E21EF6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202-F186-4E2E-A513-93A22B3B5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5359-F762-4841-B1E3-AFD93B99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9181-D947-48EB-9BEF-CE45E7764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D39A-6A76-4683-9E6F-155993FFA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658D-2010-4A63-B6E3-B558757D9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E529-2032-4C3F-8BB5-1FBE943B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A6CC-BD67-4128-AE0A-FD2A84B9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E1C-5DB0-4B1C-B869-8B563386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1AA-5846-445B-A5DE-27538294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9BEC-D7AE-49FD-8B9A-E7810E0FA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F18A-F0C8-4124-A136-B9CDA2D10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71440" y="761760"/>
            <a:ext cx="680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HAD A LONG-RUNNING BATTLE WITH ALCOHOLISM AND SUBSTANCE AB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EMBER OF CONGRESS TO MARRY SOMEONE OF THE SAME SEX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7880" y="762120"/>
            <a:ext cx="724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NDAN  FRA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05040" y="762120"/>
            <a:ext cx="7333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MUMMY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FIS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WHO WAS WORLD CHESS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T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92200" y="762120"/>
            <a:ext cx="795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NGLES", "SINGLE WHITE FEMALE",    "IT COULD HAPPEN TO YOU", AND "POINT OF NO RETUR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MINSTER  FU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4960" y="762120"/>
            <a:ext cx="807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PULARIZED THE GEODESIC DOME, AND HAD   A SPHERICAL CARBON MOLECULE NAMED FO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TT  FA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GREEN BAY PACKERS 1992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FO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95160" y="762120"/>
            <a:ext cx="775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8 TONYS FOR CHOREOGRAPHY, AND   WON AN OSCAR FOR BEST DIRECTOR FOR "CABAR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RIE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FEMININE MYSTIQUE", AND CO-FOUNDED THE "NATIONAL ORGANIZATION FOR WO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95480" y="762120"/>
            <a:ext cx="6953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HAD A LONG-RUNNING BATTLE WITH ALCOHOLISM AND SUBSTANCE AB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  F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EMBER OF CONGRESS TO MARRY SOMEONE OF THE SAME SEX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MUMMY" TRI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WHO WAS WORLD CHESS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NGLES", "SINGLE WHITE FEMALE",    "IT COULD HAPPEN TO YOU", AND "POINT OF NO RETUR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PULARIZED THE GEODESIC DOME, AND HAD   A SPHERICAL CARBON MOLECULE NAMED FO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GREEN BAY PACKERS 1992-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8 TONYS FOR CHOREOGRAPHY, AND   WON AN OSCAR FOR BEST DIRECTOR FOR "CABAR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FEMININE MYSTIQUE", AND CO-FOUNDED THE "NATIONAL ORGANIZATION FOR WO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21:47:37Z</dcterms:modified>
  <cp:revision>359</cp:revision>
  <dc:subject/>
  <dc:title>Slide 1</dc:title>
</cp:coreProperties>
</file>