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C1E-553E-45CE-AB58-3097FF9C7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E697-67CE-485C-B02F-D43B8BA4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D256-5096-412D-917D-4F8DF43B6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B626-B203-4E95-BA91-066B58E3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0570-1822-4D86-861B-8E537426E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179F-7D6C-4918-9DD2-892C84C6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C95D-ECD7-4B74-BC24-84E565E42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763E-7C4C-4C9E-9D2A-8988BBAF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4CC9-0BF7-4E33-B5BB-FE539483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17E2-ED0B-4943-B08C-86376A3B7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0C80-F3AE-47D7-AFDF-660EB8A49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5D8A-A819-4F92-8DAA-3D86C681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FF3B-3BE2-470A-91A4-6F54C5858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AF8D-CD53-4DA5-B929-FD2992BB5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1BDE-15DF-4469-A15B-8634FC56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100-4E51-49FC-8E54-2012B7CD8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B3AF-3598-4DEE-AE5C-AD32697DD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473F-9F68-4376-BCA9-F263F59E6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EB9B-24E0-4946-8F1E-B021E7FD9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C1A8-C93A-4BB7-9B18-3ACAE26D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4FB7-18EA-4072-8993-CC2AE7602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6611-8B74-47DC-B577-55FC21E5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9E1E-EB2A-4DFB-ACD3-A5B5F7BB1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71440" y="761760"/>
            <a:ext cx="680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HAD A LONG-RUNNING BATTLE WITH ALCOHOLISM AND SUBSTANCE AB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EMBER OF CONGRESS TO MARRY SOMEONE OF THE SAME SEX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7880" y="762120"/>
            <a:ext cx="7248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NDAN  FRA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05040" y="762120"/>
            <a:ext cx="7333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MUMMY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FIS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WHO WAS WORLD CHESS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T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92200" y="762120"/>
            <a:ext cx="795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NGLES", "SINGLE WHITE FEMALE",    "IT COULD HAPPEN TO YOU", AND "POINT OF NO RETUR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MINSTER  FU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4960" y="762120"/>
            <a:ext cx="807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PULARIZED THE GEODESIC DOME, AND HAD   A SPHERICAL CARBON MOLECULE NAMED FO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TT  FA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GREEN BAY PACKERS 1992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FO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95160" y="762120"/>
            <a:ext cx="775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8 TONYS FOR CHOREOGRAPHY, AND   WON AN OSCAR FOR BEST DIRECTOR FOR "CABAR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RIE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FEMININE MYSTIQUE", AND CO-FOUNDED THE "NATIONAL ORGANIZATION FOR WO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95480" y="762120"/>
            <a:ext cx="6953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HAD A LONG-RUNNING BATTLE WITH ALCOHOLISM AND SUBSTANCE AB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  F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EMBER OF CONGRESS TO MARRY SOMEONE OF THE SAME SEX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THE MUMMY" TRI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WHO WAS WORLD CHESS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INGLES", "SINGLE WHITE FEMALE",    "IT COULD HAPPEN TO YOU", AND "POINT OF NO RETUR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OPULARIZED THE GEODESIC DOME, AND HAD   A SPHERICAL CARBON MOLECULE NAMED FO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GREEN BAY PACKERS 1992-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8 TONYS FOR CHOREOGRAPHY, AND   WON AN OSCAR FOR BEST DIRECTOR FOR "CABAR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FEMININE MYSTIQUE", AND CO-FOUNDED THE "NATIONAL ORGANIZATION FOR WO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21:47:37Z</dcterms:modified>
  <cp:revision>359</cp:revision>
  <dc:subject/>
  <dc:title>Slide 1</dc:title>
</cp:coreProperties>
</file>